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198-3405-4C07-8DBE-87DC7BB2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B98-7BBA-4F40-AD94-11465EB7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C04-5D5D-4203-831F-CA959E52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0AF-414A-477E-B4AB-2A33028D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AC0D-5B18-4CD9-81BF-A2AB5AE7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75C0-23E6-4BA7-8587-1AC33C9A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4E9E-4AFB-4360-9A88-0414146C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35D7-3FF2-42A7-A4A4-1A4F3EA6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09D8-2DAD-42C3-9ED4-FE2AA30C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3109-5934-45A5-BFE8-62117EF9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4034-3612-48F4-9D2C-EF29DD1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8DA-61FC-4149-9BC6-0F84E68F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644A-4DF5-4966-AE2D-F27A76CC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7C30-6F97-4B0D-AE58-2639497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B444-BC40-4DEA-B626-42A1945A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6EA1-CC27-48F1-A330-5070E604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F0B0-9E09-4032-8E27-7781B088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BF9-9523-4AF9-A606-1EB17336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A51-C8C3-4369-8D6F-5A807C17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E6B-4BA4-4AB5-B1AF-4FE56C3F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143-355D-44B6-8723-BCF401C8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D8F-3EBF-4FFB-B401-C49B28A0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AF3-9FE5-448A-AB4E-33FAF61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F5E-199A-40AE-8E51-748059D6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E44E-68FC-4992-8E82-64308C1D13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7DE9-EE42-40FA-A5EB-CD4AA25536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Lesson 9.2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d the missing arithmetic term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1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10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1240" y="2813040"/>
            <a:ext cx="1170000" cy="731880"/>
          </a:xfrm>
          <a:custGeom>
            <a:avLst/>
            <a:gdLst/>
            <a:ahLst/>
            <a:rect l="l" t="t" r="r" b="b"/>
            <a:pathLst>
              <a:path w="3250" h="2035">
                <a:moveTo>
                  <a:pt x="2208" y="8682"/>
                </a:moveTo>
                <a:cubicBezTo>
                  <a:pt x="2202" y="8764"/>
                  <a:pt x="2202" y="8873"/>
                  <a:pt x="2183" y="8954"/>
                </a:cubicBezTo>
                <a:cubicBezTo>
                  <a:pt x="2167" y="9019"/>
                  <a:pt x="2120" y="9095"/>
                  <a:pt x="2108" y="9153"/>
                </a:cubicBezTo>
                <a:cubicBezTo>
                  <a:pt x="2092" y="9233"/>
                  <a:pt x="2093" y="9185"/>
                  <a:pt x="2059" y="9227"/>
                </a:cubicBezTo>
                <a:cubicBezTo>
                  <a:pt x="2059" y="9139"/>
                  <a:pt x="2074" y="9060"/>
                  <a:pt x="2084" y="8979"/>
                </a:cubicBezTo>
                <a:cubicBezTo>
                  <a:pt x="2098" y="8867"/>
                  <a:pt x="2129" y="8768"/>
                  <a:pt x="2158" y="8657"/>
                </a:cubicBezTo>
                <a:cubicBezTo>
                  <a:pt x="2190" y="8534"/>
                  <a:pt x="2241" y="8425"/>
                  <a:pt x="2282" y="8310"/>
                </a:cubicBezTo>
                <a:cubicBezTo>
                  <a:pt x="2331" y="8172"/>
                  <a:pt x="2343" y="8055"/>
                  <a:pt x="2431" y="7938"/>
                </a:cubicBezTo>
                <a:cubicBezTo>
                  <a:pt x="2464" y="7894"/>
                  <a:pt x="2490" y="7853"/>
                  <a:pt x="2530" y="7813"/>
                </a:cubicBezTo>
                <a:cubicBezTo>
                  <a:pt x="2591" y="7830"/>
                  <a:pt x="2559" y="7813"/>
                  <a:pt x="2604" y="7863"/>
                </a:cubicBezTo>
                <a:cubicBezTo>
                  <a:pt x="2651" y="7915"/>
                  <a:pt x="2672" y="7995"/>
                  <a:pt x="2679" y="8062"/>
                </a:cubicBezTo>
                <a:cubicBezTo>
                  <a:pt x="2692" y="8187"/>
                  <a:pt x="2717" y="8309"/>
                  <a:pt x="2729" y="8434"/>
                </a:cubicBezTo>
                <a:cubicBezTo>
                  <a:pt x="2748" y="8630"/>
                  <a:pt x="2768" y="8837"/>
                  <a:pt x="2803" y="9029"/>
                </a:cubicBezTo>
                <a:cubicBezTo>
                  <a:pt x="2817" y="9106"/>
                  <a:pt x="2831" y="9204"/>
                  <a:pt x="2853" y="9277"/>
                </a:cubicBezTo>
                <a:cubicBezTo>
                  <a:pt x="2862" y="9307"/>
                  <a:pt x="2853" y="9271"/>
                  <a:pt x="2853" y="9302"/>
                </a:cubicBezTo>
              </a:path>
              <a:path w="3250" h="2035">
                <a:moveTo>
                  <a:pt x="2158" y="9079"/>
                </a:moveTo>
                <a:cubicBezTo>
                  <a:pt x="2340" y="9079"/>
                  <a:pt x="2522" y="9079"/>
                  <a:pt x="2704" y="9079"/>
                </a:cubicBezTo>
              </a:path>
              <a:path w="3250" h="2035">
                <a:moveTo>
                  <a:pt x="3051" y="9178"/>
                </a:moveTo>
                <a:cubicBezTo>
                  <a:pt x="3091" y="9152"/>
                  <a:pt x="3105" y="9108"/>
                  <a:pt x="3150" y="9103"/>
                </a:cubicBezTo>
                <a:cubicBezTo>
                  <a:pt x="3199" y="9098"/>
                  <a:pt x="3203" y="9113"/>
                  <a:pt x="3225" y="9153"/>
                </a:cubicBezTo>
                <a:cubicBezTo>
                  <a:pt x="3268" y="9230"/>
                  <a:pt x="3295" y="9288"/>
                  <a:pt x="3299" y="9376"/>
                </a:cubicBezTo>
                <a:cubicBezTo>
                  <a:pt x="3303" y="9455"/>
                  <a:pt x="3305" y="9527"/>
                  <a:pt x="3274" y="9599"/>
                </a:cubicBezTo>
                <a:cubicBezTo>
                  <a:pt x="3230" y="9703"/>
                  <a:pt x="3167" y="9714"/>
                  <a:pt x="3076" y="9748"/>
                </a:cubicBezTo>
                <a:cubicBezTo>
                  <a:pt x="3032" y="9765"/>
                  <a:pt x="2944" y="9769"/>
                  <a:pt x="2902" y="9723"/>
                </a:cubicBezTo>
                <a:cubicBezTo>
                  <a:pt x="2884" y="9703"/>
                  <a:pt x="2864" y="9631"/>
                  <a:pt x="2877" y="9599"/>
                </a:cubicBezTo>
                <a:cubicBezTo>
                  <a:pt x="2900" y="9545"/>
                  <a:pt x="2954" y="9550"/>
                  <a:pt x="3001" y="9550"/>
                </a:cubicBezTo>
                <a:cubicBezTo>
                  <a:pt x="3073" y="9550"/>
                  <a:pt x="3089" y="9580"/>
                  <a:pt x="3125" y="9624"/>
                </a:cubicBezTo>
                <a:cubicBezTo>
                  <a:pt x="3157" y="9663"/>
                  <a:pt x="3207" y="9702"/>
                  <a:pt x="3225" y="9748"/>
                </a:cubicBezTo>
                <a:cubicBezTo>
                  <a:pt x="3241" y="9788"/>
                  <a:pt x="3238" y="9811"/>
                  <a:pt x="3274" y="9823"/>
                </a:cubicBezTo>
              </a:path>
              <a:path w="3250" h="2035">
                <a:moveTo>
                  <a:pt x="3473" y="9252"/>
                </a:moveTo>
                <a:cubicBezTo>
                  <a:pt x="3548" y="9252"/>
                  <a:pt x="3602" y="9232"/>
                  <a:pt x="3671" y="9227"/>
                </a:cubicBezTo>
                <a:cubicBezTo>
                  <a:pt x="3716" y="9227"/>
                  <a:pt x="3729" y="9231"/>
                  <a:pt x="3746" y="9203"/>
                </a:cubicBezTo>
              </a:path>
              <a:path w="3250" h="2035">
                <a:moveTo>
                  <a:pt x="3522" y="9252"/>
                </a:moveTo>
                <a:cubicBezTo>
                  <a:pt x="3511" y="9275"/>
                  <a:pt x="3447" y="9378"/>
                  <a:pt x="3473" y="9426"/>
                </a:cubicBezTo>
                <a:cubicBezTo>
                  <a:pt x="3481" y="9434"/>
                  <a:pt x="3489" y="9443"/>
                  <a:pt x="3497" y="9451"/>
                </a:cubicBezTo>
                <a:cubicBezTo>
                  <a:pt x="3507" y="9422"/>
                  <a:pt x="3531" y="9406"/>
                  <a:pt x="3572" y="9401"/>
                </a:cubicBezTo>
                <a:cubicBezTo>
                  <a:pt x="3620" y="9396"/>
                  <a:pt x="3661" y="9395"/>
                  <a:pt x="3696" y="9426"/>
                </a:cubicBezTo>
                <a:cubicBezTo>
                  <a:pt x="3758" y="9481"/>
                  <a:pt x="3782" y="9549"/>
                  <a:pt x="3820" y="9624"/>
                </a:cubicBezTo>
                <a:cubicBezTo>
                  <a:pt x="3850" y="9683"/>
                  <a:pt x="3850" y="9746"/>
                  <a:pt x="3795" y="9798"/>
                </a:cubicBezTo>
                <a:cubicBezTo>
                  <a:pt x="3734" y="9856"/>
                  <a:pt x="3648" y="9847"/>
                  <a:pt x="3572" y="9847"/>
                </a:cubicBezTo>
                <a:cubicBezTo>
                  <a:pt x="3485" y="9847"/>
                  <a:pt x="3424" y="9859"/>
                  <a:pt x="3373" y="9773"/>
                </a:cubicBezTo>
                <a:cubicBezTo>
                  <a:pt x="3373" y="9730"/>
                  <a:pt x="3368" y="9705"/>
                  <a:pt x="3349" y="9674"/>
                </a:cubicBezTo>
              </a:path>
              <a:path w="3250" h="2035">
                <a:moveTo>
                  <a:pt x="4018" y="8310"/>
                </a:moveTo>
                <a:cubicBezTo>
                  <a:pt x="4092" y="8290"/>
                  <a:pt x="4173" y="8283"/>
                  <a:pt x="4242" y="8260"/>
                </a:cubicBezTo>
                <a:cubicBezTo>
                  <a:pt x="4300" y="8240"/>
                  <a:pt x="4355" y="8222"/>
                  <a:pt x="4415" y="8210"/>
                </a:cubicBezTo>
              </a:path>
              <a:path w="3250" h="2035">
                <a:moveTo>
                  <a:pt x="4043" y="8409"/>
                </a:moveTo>
                <a:cubicBezTo>
                  <a:pt x="4181" y="8429"/>
                  <a:pt x="4301" y="8434"/>
                  <a:pt x="4440" y="8434"/>
                </a:cubicBezTo>
              </a:path>
              <a:path w="3250" h="2035">
                <a:moveTo>
                  <a:pt x="4862" y="8210"/>
                </a:moveTo>
                <a:cubicBezTo>
                  <a:pt x="5011" y="8210"/>
                  <a:pt x="5159" y="8210"/>
                  <a:pt x="5308" y="82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25800" y="2768760"/>
            <a:ext cx="44280" cy="446040"/>
          </a:xfrm>
          <a:custGeom>
            <a:avLst/>
            <a:gdLst/>
            <a:ahLst/>
            <a:rect l="l" t="t" r="r" b="b"/>
            <a:pathLst>
              <a:path w="125" h="1242">
                <a:moveTo>
                  <a:pt x="5953" y="7689"/>
                </a:moveTo>
                <a:cubicBezTo>
                  <a:pt x="5953" y="7850"/>
                  <a:pt x="5962" y="8003"/>
                  <a:pt x="5978" y="8161"/>
                </a:cubicBezTo>
                <a:cubicBezTo>
                  <a:pt x="5989" y="8269"/>
                  <a:pt x="5999" y="8376"/>
                  <a:pt x="6003" y="8483"/>
                </a:cubicBezTo>
                <a:cubicBezTo>
                  <a:pt x="6006" y="8574"/>
                  <a:pt x="6046" y="8663"/>
                  <a:pt x="6028" y="8756"/>
                </a:cubicBezTo>
                <a:cubicBezTo>
                  <a:pt x="6023" y="8783"/>
                  <a:pt x="5984" y="8890"/>
                  <a:pt x="5953" y="8905"/>
                </a:cubicBezTo>
                <a:cubicBezTo>
                  <a:pt x="5906" y="8929"/>
                  <a:pt x="5951" y="8921"/>
                  <a:pt x="5904" y="89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01920" y="2894040"/>
            <a:ext cx="233280" cy="25884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6896" y="8037"/>
                </a:moveTo>
                <a:cubicBezTo>
                  <a:pt x="6915" y="8150"/>
                  <a:pt x="6921" y="8245"/>
                  <a:pt x="6921" y="8359"/>
                </a:cubicBezTo>
                <a:cubicBezTo>
                  <a:pt x="6921" y="8441"/>
                  <a:pt x="6966" y="8503"/>
                  <a:pt x="6970" y="8582"/>
                </a:cubicBezTo>
                <a:cubicBezTo>
                  <a:pt x="6974" y="8647"/>
                  <a:pt x="7003" y="8679"/>
                  <a:pt x="7020" y="8731"/>
                </a:cubicBezTo>
                <a:cubicBezTo>
                  <a:pt x="7020" y="8739"/>
                  <a:pt x="7020" y="8748"/>
                  <a:pt x="7020" y="8756"/>
                </a:cubicBezTo>
              </a:path>
              <a:path w="646" h="720">
                <a:moveTo>
                  <a:pt x="6672" y="8285"/>
                </a:moveTo>
                <a:cubicBezTo>
                  <a:pt x="6774" y="8259"/>
                  <a:pt x="6864" y="8260"/>
                  <a:pt x="6970" y="8260"/>
                </a:cubicBezTo>
                <a:cubicBezTo>
                  <a:pt x="7086" y="8260"/>
                  <a:pt x="7201" y="8260"/>
                  <a:pt x="7317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67040" y="2751120"/>
            <a:ext cx="1008000" cy="490680"/>
          </a:xfrm>
          <a:custGeom>
            <a:avLst/>
            <a:gdLst/>
            <a:ahLst/>
            <a:rect l="l" t="t" r="r" b="b"/>
            <a:pathLst>
              <a:path w="2804" h="1365">
                <a:moveTo>
                  <a:pt x="8334" y="7640"/>
                </a:moveTo>
                <a:cubicBezTo>
                  <a:pt x="8297" y="7700"/>
                  <a:pt x="8236" y="7752"/>
                  <a:pt x="8186" y="7813"/>
                </a:cubicBezTo>
                <a:cubicBezTo>
                  <a:pt x="8099" y="7921"/>
                  <a:pt x="7988" y="8070"/>
                  <a:pt x="7962" y="8210"/>
                </a:cubicBezTo>
                <a:cubicBezTo>
                  <a:pt x="7932" y="8376"/>
                  <a:pt x="7979" y="8530"/>
                  <a:pt x="8037" y="8682"/>
                </a:cubicBezTo>
                <a:cubicBezTo>
                  <a:pt x="8086" y="8810"/>
                  <a:pt x="8153" y="8895"/>
                  <a:pt x="8235" y="9004"/>
                </a:cubicBezTo>
              </a:path>
              <a:path w="2804" h="1365">
                <a:moveTo>
                  <a:pt x="8756" y="7913"/>
                </a:moveTo>
                <a:cubicBezTo>
                  <a:pt x="8756" y="7941"/>
                  <a:pt x="8754" y="7952"/>
                  <a:pt x="8731" y="7962"/>
                </a:cubicBezTo>
                <a:cubicBezTo>
                  <a:pt x="8731" y="7905"/>
                  <a:pt x="8741" y="7884"/>
                  <a:pt x="8756" y="7838"/>
                </a:cubicBezTo>
                <a:cubicBezTo>
                  <a:pt x="8769" y="7799"/>
                  <a:pt x="8783" y="7769"/>
                  <a:pt x="8830" y="7764"/>
                </a:cubicBezTo>
                <a:cubicBezTo>
                  <a:pt x="8894" y="7757"/>
                  <a:pt x="8886" y="7732"/>
                  <a:pt x="8930" y="7789"/>
                </a:cubicBezTo>
                <a:cubicBezTo>
                  <a:pt x="8975" y="7847"/>
                  <a:pt x="8992" y="7881"/>
                  <a:pt x="9004" y="7962"/>
                </a:cubicBezTo>
                <a:cubicBezTo>
                  <a:pt x="9018" y="8057"/>
                  <a:pt x="8996" y="8168"/>
                  <a:pt x="8979" y="8260"/>
                </a:cubicBezTo>
                <a:cubicBezTo>
                  <a:pt x="8956" y="8379"/>
                  <a:pt x="8914" y="8456"/>
                  <a:pt x="8855" y="8558"/>
                </a:cubicBezTo>
                <a:cubicBezTo>
                  <a:pt x="8825" y="8611"/>
                  <a:pt x="8784" y="8672"/>
                  <a:pt x="8731" y="8706"/>
                </a:cubicBezTo>
                <a:cubicBezTo>
                  <a:pt x="8698" y="8727"/>
                  <a:pt x="8632" y="8756"/>
                  <a:pt x="8607" y="8706"/>
                </a:cubicBezTo>
                <a:cubicBezTo>
                  <a:pt x="8588" y="8670"/>
                  <a:pt x="8600" y="8528"/>
                  <a:pt x="8632" y="8508"/>
                </a:cubicBezTo>
                <a:cubicBezTo>
                  <a:pt x="8688" y="8473"/>
                  <a:pt x="8703" y="8501"/>
                  <a:pt x="8756" y="8533"/>
                </a:cubicBezTo>
                <a:cubicBezTo>
                  <a:pt x="8858" y="8594"/>
                  <a:pt x="8828" y="8622"/>
                  <a:pt x="8880" y="8731"/>
                </a:cubicBezTo>
                <a:cubicBezTo>
                  <a:pt x="8886" y="8743"/>
                  <a:pt x="8926" y="8827"/>
                  <a:pt x="8930" y="8830"/>
                </a:cubicBezTo>
                <a:cubicBezTo>
                  <a:pt x="8956" y="8847"/>
                  <a:pt x="8991" y="8794"/>
                  <a:pt x="9004" y="8781"/>
                </a:cubicBezTo>
              </a:path>
              <a:path w="2804" h="1365">
                <a:moveTo>
                  <a:pt x="9327" y="7863"/>
                </a:moveTo>
                <a:cubicBezTo>
                  <a:pt x="9399" y="7843"/>
                  <a:pt x="9479" y="7825"/>
                  <a:pt x="9550" y="7813"/>
                </a:cubicBezTo>
                <a:cubicBezTo>
                  <a:pt x="9607" y="7803"/>
                  <a:pt x="9672" y="7820"/>
                  <a:pt x="9723" y="7789"/>
                </a:cubicBezTo>
                <a:cubicBezTo>
                  <a:pt x="9746" y="7766"/>
                  <a:pt x="9750" y="7758"/>
                  <a:pt x="9773" y="7764"/>
                </a:cubicBezTo>
              </a:path>
              <a:path w="2804" h="1365">
                <a:moveTo>
                  <a:pt x="9302" y="7863"/>
                </a:moveTo>
                <a:cubicBezTo>
                  <a:pt x="9255" y="7963"/>
                  <a:pt x="9252" y="7965"/>
                  <a:pt x="9252" y="8062"/>
                </a:cubicBezTo>
                <a:cubicBezTo>
                  <a:pt x="9252" y="8095"/>
                  <a:pt x="9267" y="8168"/>
                  <a:pt x="9302" y="8186"/>
                </a:cubicBezTo>
                <a:cubicBezTo>
                  <a:pt x="9338" y="8204"/>
                  <a:pt x="9402" y="8154"/>
                  <a:pt x="9426" y="8136"/>
                </a:cubicBezTo>
                <a:cubicBezTo>
                  <a:pt x="9451" y="8117"/>
                  <a:pt x="9514" y="8091"/>
                  <a:pt x="9550" y="8111"/>
                </a:cubicBezTo>
                <a:cubicBezTo>
                  <a:pt x="9598" y="8138"/>
                  <a:pt x="9640" y="8262"/>
                  <a:pt x="9649" y="8310"/>
                </a:cubicBezTo>
                <a:cubicBezTo>
                  <a:pt x="9666" y="8398"/>
                  <a:pt x="9654" y="8449"/>
                  <a:pt x="9649" y="8533"/>
                </a:cubicBezTo>
                <a:cubicBezTo>
                  <a:pt x="9646" y="8592"/>
                  <a:pt x="9603" y="8681"/>
                  <a:pt x="9550" y="8706"/>
                </a:cubicBezTo>
                <a:cubicBezTo>
                  <a:pt x="9509" y="8725"/>
                  <a:pt x="9450" y="8731"/>
                  <a:pt x="9401" y="8731"/>
                </a:cubicBezTo>
                <a:cubicBezTo>
                  <a:pt x="9342" y="8731"/>
                  <a:pt x="9339" y="8732"/>
                  <a:pt x="9327" y="8682"/>
                </a:cubicBezTo>
              </a:path>
              <a:path w="2804" h="1365">
                <a:moveTo>
                  <a:pt x="9971" y="8260"/>
                </a:moveTo>
                <a:cubicBezTo>
                  <a:pt x="10070" y="8260"/>
                  <a:pt x="10170" y="8260"/>
                  <a:pt x="10269" y="8260"/>
                </a:cubicBezTo>
              </a:path>
              <a:path w="2804" h="1365">
                <a:moveTo>
                  <a:pt x="10740" y="7764"/>
                </a:moveTo>
                <a:cubicBezTo>
                  <a:pt x="10727" y="7887"/>
                  <a:pt x="10693" y="8057"/>
                  <a:pt x="10716" y="8186"/>
                </a:cubicBezTo>
                <a:cubicBezTo>
                  <a:pt x="10740" y="8319"/>
                  <a:pt x="10740" y="8443"/>
                  <a:pt x="10740" y="8582"/>
                </a:cubicBezTo>
                <a:cubicBezTo>
                  <a:pt x="10740" y="8651"/>
                  <a:pt x="10750" y="8720"/>
                  <a:pt x="10765" y="8756"/>
                </a:cubicBezTo>
                <a:cubicBezTo>
                  <a:pt x="10765" y="8764"/>
                  <a:pt x="10765" y="8773"/>
                  <a:pt x="10765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60880" y="2643120"/>
            <a:ext cx="965160" cy="581040"/>
          </a:xfrm>
          <a:custGeom>
            <a:avLst/>
            <a:gdLst/>
            <a:ahLst/>
            <a:rect l="l" t="t" r="r" b="b"/>
            <a:pathLst>
              <a:path w="2680" h="1613">
                <a:moveTo>
                  <a:pt x="11633" y="7417"/>
                </a:moveTo>
                <a:cubicBezTo>
                  <a:pt x="11717" y="7499"/>
                  <a:pt x="11732" y="7583"/>
                  <a:pt x="11782" y="7689"/>
                </a:cubicBezTo>
                <a:cubicBezTo>
                  <a:pt x="11865" y="7864"/>
                  <a:pt x="11902" y="7991"/>
                  <a:pt x="11906" y="8186"/>
                </a:cubicBezTo>
                <a:cubicBezTo>
                  <a:pt x="11909" y="8351"/>
                  <a:pt x="11913" y="8484"/>
                  <a:pt x="11832" y="8632"/>
                </a:cubicBezTo>
                <a:cubicBezTo>
                  <a:pt x="11763" y="8758"/>
                  <a:pt x="11659" y="8854"/>
                  <a:pt x="11559" y="8954"/>
                </a:cubicBezTo>
              </a:path>
              <a:path w="2680" h="1613">
                <a:moveTo>
                  <a:pt x="12675" y="7466"/>
                </a:moveTo>
                <a:cubicBezTo>
                  <a:pt x="12599" y="7597"/>
                  <a:pt x="12539" y="7727"/>
                  <a:pt x="12477" y="7863"/>
                </a:cubicBezTo>
                <a:cubicBezTo>
                  <a:pt x="12417" y="7995"/>
                  <a:pt x="12368" y="8138"/>
                  <a:pt x="12353" y="8285"/>
                </a:cubicBezTo>
                <a:cubicBezTo>
                  <a:pt x="12341" y="8403"/>
                  <a:pt x="12356" y="8543"/>
                  <a:pt x="12378" y="8657"/>
                </a:cubicBezTo>
                <a:cubicBezTo>
                  <a:pt x="12397" y="8755"/>
                  <a:pt x="12435" y="8811"/>
                  <a:pt x="12502" y="8880"/>
                </a:cubicBezTo>
                <a:cubicBezTo>
                  <a:pt x="12565" y="8944"/>
                  <a:pt x="12579" y="8883"/>
                  <a:pt x="12626" y="8830"/>
                </a:cubicBezTo>
              </a:path>
              <a:path w="2680" h="1613">
                <a:moveTo>
                  <a:pt x="12650" y="8161"/>
                </a:moveTo>
                <a:cubicBezTo>
                  <a:pt x="12762" y="8142"/>
                  <a:pt x="12863" y="8120"/>
                  <a:pt x="12973" y="8111"/>
                </a:cubicBezTo>
              </a:path>
              <a:path w="2680" h="1613">
                <a:moveTo>
                  <a:pt x="13667" y="7789"/>
                </a:moveTo>
                <a:cubicBezTo>
                  <a:pt x="13659" y="7703"/>
                  <a:pt x="13649" y="7659"/>
                  <a:pt x="13543" y="7689"/>
                </a:cubicBezTo>
                <a:cubicBezTo>
                  <a:pt x="13447" y="7716"/>
                  <a:pt x="13389" y="7769"/>
                  <a:pt x="13320" y="7838"/>
                </a:cubicBezTo>
                <a:cubicBezTo>
                  <a:pt x="13265" y="7893"/>
                  <a:pt x="13223" y="7954"/>
                  <a:pt x="13246" y="8037"/>
                </a:cubicBezTo>
                <a:cubicBezTo>
                  <a:pt x="13264" y="8099"/>
                  <a:pt x="13292" y="8154"/>
                  <a:pt x="13370" y="8136"/>
                </a:cubicBezTo>
                <a:cubicBezTo>
                  <a:pt x="13435" y="8121"/>
                  <a:pt x="13471" y="8078"/>
                  <a:pt x="13519" y="8037"/>
                </a:cubicBezTo>
                <a:cubicBezTo>
                  <a:pt x="13554" y="8008"/>
                  <a:pt x="13603" y="7932"/>
                  <a:pt x="13618" y="7888"/>
                </a:cubicBezTo>
                <a:cubicBezTo>
                  <a:pt x="13620" y="7882"/>
                  <a:pt x="13618" y="7795"/>
                  <a:pt x="13618" y="7863"/>
                </a:cubicBezTo>
                <a:cubicBezTo>
                  <a:pt x="13618" y="7945"/>
                  <a:pt x="13596" y="8005"/>
                  <a:pt x="13593" y="8086"/>
                </a:cubicBezTo>
                <a:cubicBezTo>
                  <a:pt x="13587" y="8254"/>
                  <a:pt x="13591" y="8423"/>
                  <a:pt x="13618" y="8582"/>
                </a:cubicBezTo>
                <a:cubicBezTo>
                  <a:pt x="13619" y="8589"/>
                  <a:pt x="13618" y="8739"/>
                  <a:pt x="13618" y="8607"/>
                </a:cubicBezTo>
              </a:path>
              <a:path w="2680" h="1613">
                <a:moveTo>
                  <a:pt x="13915" y="7342"/>
                </a:moveTo>
                <a:cubicBezTo>
                  <a:pt x="14046" y="7574"/>
                  <a:pt x="14118" y="7737"/>
                  <a:pt x="14188" y="7987"/>
                </a:cubicBezTo>
                <a:cubicBezTo>
                  <a:pt x="14248" y="8202"/>
                  <a:pt x="14258" y="8411"/>
                  <a:pt x="14188" y="8632"/>
                </a:cubicBezTo>
                <a:cubicBezTo>
                  <a:pt x="14153" y="8743"/>
                  <a:pt x="14058" y="8838"/>
                  <a:pt x="13990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82840" y="3751200"/>
            <a:ext cx="500040" cy="455760"/>
          </a:xfrm>
          <a:custGeom>
            <a:avLst/>
            <a:gdLst/>
            <a:ahLst/>
            <a:rect l="l" t="t" r="r" b="b"/>
            <a:pathLst>
              <a:path w="1390" h="1266">
                <a:moveTo>
                  <a:pt x="4142" y="10864"/>
                </a:moveTo>
                <a:cubicBezTo>
                  <a:pt x="4207" y="10864"/>
                  <a:pt x="4253" y="10885"/>
                  <a:pt x="4316" y="10889"/>
                </a:cubicBezTo>
                <a:cubicBezTo>
                  <a:pt x="4378" y="10892"/>
                  <a:pt x="4370" y="10880"/>
                  <a:pt x="4415" y="10914"/>
                </a:cubicBezTo>
              </a:path>
              <a:path w="1390" h="1266">
                <a:moveTo>
                  <a:pt x="4118" y="11112"/>
                </a:moveTo>
                <a:cubicBezTo>
                  <a:pt x="4213" y="11164"/>
                  <a:pt x="4209" y="11162"/>
                  <a:pt x="4316" y="11162"/>
                </a:cubicBezTo>
              </a:path>
              <a:path w="1390" h="1266">
                <a:moveTo>
                  <a:pt x="4688" y="10889"/>
                </a:moveTo>
                <a:cubicBezTo>
                  <a:pt x="4801" y="10870"/>
                  <a:pt x="4897" y="10864"/>
                  <a:pt x="5011" y="10864"/>
                </a:cubicBezTo>
                <a:cubicBezTo>
                  <a:pt x="5027" y="10864"/>
                  <a:pt x="5044" y="10864"/>
                  <a:pt x="5060" y="10864"/>
                </a:cubicBezTo>
              </a:path>
              <a:path w="1390" h="1266">
                <a:moveTo>
                  <a:pt x="5407" y="10418"/>
                </a:moveTo>
                <a:cubicBezTo>
                  <a:pt x="5431" y="10507"/>
                  <a:pt x="5432" y="10573"/>
                  <a:pt x="5432" y="10666"/>
                </a:cubicBezTo>
                <a:cubicBezTo>
                  <a:pt x="5432" y="10803"/>
                  <a:pt x="5443" y="10931"/>
                  <a:pt x="5457" y="11063"/>
                </a:cubicBezTo>
                <a:cubicBezTo>
                  <a:pt x="5469" y="11178"/>
                  <a:pt x="5467" y="11300"/>
                  <a:pt x="5482" y="11410"/>
                </a:cubicBezTo>
                <a:cubicBezTo>
                  <a:pt x="5490" y="11471"/>
                  <a:pt x="5497" y="11533"/>
                  <a:pt x="5507" y="11584"/>
                </a:cubicBezTo>
                <a:cubicBezTo>
                  <a:pt x="5515" y="11625"/>
                  <a:pt x="5507" y="11699"/>
                  <a:pt x="5507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13000" y="3821040"/>
            <a:ext cx="1347840" cy="457200"/>
          </a:xfrm>
          <a:custGeom>
            <a:avLst/>
            <a:gdLst/>
            <a:ahLst/>
            <a:rect l="l" t="t" r="r" b="b"/>
            <a:pathLst>
              <a:path w="3747" h="1266">
                <a:moveTo>
                  <a:pt x="6573" y="10840"/>
                </a:moveTo>
                <a:cubicBezTo>
                  <a:pt x="6573" y="10958"/>
                  <a:pt x="6593" y="11051"/>
                  <a:pt x="6598" y="11162"/>
                </a:cubicBezTo>
                <a:cubicBezTo>
                  <a:pt x="6600" y="11212"/>
                  <a:pt x="6679" y="11387"/>
                  <a:pt x="6648" y="11410"/>
                </a:cubicBezTo>
                <a:cubicBezTo>
                  <a:pt x="6640" y="11402"/>
                  <a:pt x="6631" y="11393"/>
                  <a:pt x="6623" y="11385"/>
                </a:cubicBezTo>
              </a:path>
              <a:path w="3747" h="1266">
                <a:moveTo>
                  <a:pt x="6424" y="11137"/>
                </a:moveTo>
                <a:cubicBezTo>
                  <a:pt x="6531" y="11152"/>
                  <a:pt x="6684" y="11188"/>
                  <a:pt x="6796" y="11162"/>
                </a:cubicBezTo>
                <a:cubicBezTo>
                  <a:pt x="6813" y="11154"/>
                  <a:pt x="6829" y="11145"/>
                  <a:pt x="6846" y="11137"/>
                </a:cubicBezTo>
              </a:path>
              <a:path w="3747" h="1266">
                <a:moveTo>
                  <a:pt x="7169" y="10790"/>
                </a:moveTo>
                <a:cubicBezTo>
                  <a:pt x="7245" y="10714"/>
                  <a:pt x="7245" y="10691"/>
                  <a:pt x="7342" y="10691"/>
                </a:cubicBezTo>
                <a:cubicBezTo>
                  <a:pt x="7393" y="10691"/>
                  <a:pt x="7489" y="10713"/>
                  <a:pt x="7516" y="10765"/>
                </a:cubicBezTo>
                <a:cubicBezTo>
                  <a:pt x="7557" y="10844"/>
                  <a:pt x="7555" y="11003"/>
                  <a:pt x="7541" y="11088"/>
                </a:cubicBezTo>
                <a:cubicBezTo>
                  <a:pt x="7523" y="11193"/>
                  <a:pt x="7470" y="11277"/>
                  <a:pt x="7417" y="11361"/>
                </a:cubicBezTo>
                <a:cubicBezTo>
                  <a:pt x="7378" y="11422"/>
                  <a:pt x="7369" y="11451"/>
                  <a:pt x="7317" y="11485"/>
                </a:cubicBezTo>
                <a:cubicBezTo>
                  <a:pt x="7252" y="11528"/>
                  <a:pt x="7256" y="11489"/>
                  <a:pt x="7218" y="11435"/>
                </a:cubicBezTo>
                <a:cubicBezTo>
                  <a:pt x="7187" y="11391"/>
                  <a:pt x="7193" y="11397"/>
                  <a:pt x="7193" y="11336"/>
                </a:cubicBezTo>
                <a:cubicBezTo>
                  <a:pt x="7245" y="11336"/>
                  <a:pt x="7255" y="11347"/>
                  <a:pt x="7293" y="11385"/>
                </a:cubicBezTo>
                <a:cubicBezTo>
                  <a:pt x="7364" y="11456"/>
                  <a:pt x="7443" y="11511"/>
                  <a:pt x="7516" y="11584"/>
                </a:cubicBezTo>
                <a:cubicBezTo>
                  <a:pt x="7559" y="11627"/>
                  <a:pt x="7599" y="11615"/>
                  <a:pt x="7640" y="11584"/>
                </a:cubicBezTo>
              </a:path>
              <a:path w="3747" h="1266">
                <a:moveTo>
                  <a:pt x="7863" y="10864"/>
                </a:moveTo>
                <a:cubicBezTo>
                  <a:pt x="7863" y="10940"/>
                  <a:pt x="7842" y="10954"/>
                  <a:pt x="7838" y="11013"/>
                </a:cubicBezTo>
                <a:cubicBezTo>
                  <a:pt x="7835" y="11054"/>
                  <a:pt x="7834" y="11122"/>
                  <a:pt x="7888" y="11137"/>
                </a:cubicBezTo>
                <a:cubicBezTo>
                  <a:pt x="7956" y="11156"/>
                  <a:pt x="8008" y="11162"/>
                  <a:pt x="8086" y="11162"/>
                </a:cubicBezTo>
                <a:cubicBezTo>
                  <a:pt x="8136" y="11162"/>
                  <a:pt x="8153" y="11162"/>
                  <a:pt x="8186" y="11162"/>
                </a:cubicBezTo>
              </a:path>
              <a:path w="3747" h="1266">
                <a:moveTo>
                  <a:pt x="8260" y="10616"/>
                </a:moveTo>
                <a:cubicBezTo>
                  <a:pt x="8199" y="10758"/>
                  <a:pt x="8166" y="10858"/>
                  <a:pt x="8161" y="11013"/>
                </a:cubicBezTo>
                <a:cubicBezTo>
                  <a:pt x="8157" y="11133"/>
                  <a:pt x="8159" y="11270"/>
                  <a:pt x="8186" y="11385"/>
                </a:cubicBezTo>
                <a:cubicBezTo>
                  <a:pt x="8204" y="11462"/>
                  <a:pt x="8210" y="11527"/>
                  <a:pt x="8210" y="11609"/>
                </a:cubicBezTo>
                <a:cubicBezTo>
                  <a:pt x="8210" y="11618"/>
                  <a:pt x="8210" y="11699"/>
                  <a:pt x="8210" y="11633"/>
                </a:cubicBezTo>
              </a:path>
              <a:path w="3747" h="1266">
                <a:moveTo>
                  <a:pt x="8632" y="10691"/>
                </a:moveTo>
                <a:cubicBezTo>
                  <a:pt x="8563" y="10879"/>
                  <a:pt x="8533" y="10970"/>
                  <a:pt x="8533" y="11162"/>
                </a:cubicBezTo>
                <a:cubicBezTo>
                  <a:pt x="8533" y="11267"/>
                  <a:pt x="8565" y="11352"/>
                  <a:pt x="8632" y="11435"/>
                </a:cubicBezTo>
                <a:cubicBezTo>
                  <a:pt x="8691" y="11508"/>
                  <a:pt x="8724" y="11573"/>
                  <a:pt x="8806" y="11559"/>
                </a:cubicBezTo>
              </a:path>
              <a:path w="3747" h="1266">
                <a:moveTo>
                  <a:pt x="8880" y="11112"/>
                </a:moveTo>
                <a:cubicBezTo>
                  <a:pt x="8998" y="11096"/>
                  <a:pt x="9114" y="11094"/>
                  <a:pt x="9227" y="11063"/>
                </a:cubicBezTo>
              </a:path>
              <a:path w="3747" h="1266">
                <a:moveTo>
                  <a:pt x="9649" y="10840"/>
                </a:moveTo>
                <a:cubicBezTo>
                  <a:pt x="9573" y="10849"/>
                  <a:pt x="9538" y="10875"/>
                  <a:pt x="9475" y="10914"/>
                </a:cubicBezTo>
                <a:cubicBezTo>
                  <a:pt x="9406" y="10956"/>
                  <a:pt x="9368" y="10983"/>
                  <a:pt x="9426" y="11063"/>
                </a:cubicBezTo>
                <a:cubicBezTo>
                  <a:pt x="9442" y="11086"/>
                  <a:pt x="9496" y="11104"/>
                  <a:pt x="9525" y="11088"/>
                </a:cubicBezTo>
                <a:cubicBezTo>
                  <a:pt x="9589" y="11053"/>
                  <a:pt x="9595" y="10964"/>
                  <a:pt x="9624" y="10914"/>
                </a:cubicBezTo>
                <a:cubicBezTo>
                  <a:pt x="9665" y="10843"/>
                  <a:pt x="9627" y="10879"/>
                  <a:pt x="9624" y="10889"/>
                </a:cubicBezTo>
                <a:cubicBezTo>
                  <a:pt x="9598" y="10983"/>
                  <a:pt x="9634" y="11100"/>
                  <a:pt x="9649" y="11187"/>
                </a:cubicBezTo>
                <a:cubicBezTo>
                  <a:pt x="9665" y="11284"/>
                  <a:pt x="9688" y="11314"/>
                  <a:pt x="9748" y="11385"/>
                </a:cubicBezTo>
                <a:cubicBezTo>
                  <a:pt x="9777" y="11419"/>
                  <a:pt x="9790" y="11444"/>
                  <a:pt x="9823" y="11460"/>
                </a:cubicBezTo>
              </a:path>
              <a:path w="3747" h="1266">
                <a:moveTo>
                  <a:pt x="10071" y="10691"/>
                </a:moveTo>
                <a:cubicBezTo>
                  <a:pt x="10144" y="10903"/>
                  <a:pt x="10170" y="11040"/>
                  <a:pt x="10170" y="11261"/>
                </a:cubicBezTo>
                <a:cubicBezTo>
                  <a:pt x="10170" y="11396"/>
                  <a:pt x="10133" y="11528"/>
                  <a:pt x="10096" y="11658"/>
                </a:cubicBezTo>
                <a:cubicBezTo>
                  <a:pt x="10073" y="11738"/>
                  <a:pt x="10028" y="11805"/>
                  <a:pt x="9996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43040" y="4419720"/>
            <a:ext cx="1482840" cy="393480"/>
          </a:xfrm>
          <a:custGeom>
            <a:avLst/>
            <a:gdLst/>
            <a:ahLst/>
            <a:rect l="l" t="t" r="r" b="b"/>
            <a:pathLst>
              <a:path w="4119" h="1093">
                <a:moveTo>
                  <a:pt x="4564" y="12551"/>
                </a:moveTo>
                <a:cubicBezTo>
                  <a:pt x="4637" y="12573"/>
                  <a:pt x="4643" y="12576"/>
                  <a:pt x="4713" y="12576"/>
                </a:cubicBezTo>
              </a:path>
              <a:path w="4119" h="1093">
                <a:moveTo>
                  <a:pt x="4564" y="12824"/>
                </a:moveTo>
                <a:cubicBezTo>
                  <a:pt x="4674" y="12848"/>
                  <a:pt x="4689" y="12844"/>
                  <a:pt x="4787" y="12824"/>
                </a:cubicBezTo>
              </a:path>
              <a:path w="4119" h="1093">
                <a:moveTo>
                  <a:pt x="5110" y="12576"/>
                </a:moveTo>
                <a:cubicBezTo>
                  <a:pt x="5209" y="12576"/>
                  <a:pt x="5266" y="12579"/>
                  <a:pt x="5358" y="12551"/>
                </a:cubicBezTo>
              </a:path>
              <a:path w="4119" h="1093">
                <a:moveTo>
                  <a:pt x="5680" y="12278"/>
                </a:moveTo>
                <a:cubicBezTo>
                  <a:pt x="5680" y="12456"/>
                  <a:pt x="5691" y="12627"/>
                  <a:pt x="5705" y="12799"/>
                </a:cubicBezTo>
                <a:cubicBezTo>
                  <a:pt x="5714" y="12908"/>
                  <a:pt x="5738" y="12995"/>
                  <a:pt x="5755" y="13097"/>
                </a:cubicBezTo>
                <a:cubicBezTo>
                  <a:pt x="5763" y="13143"/>
                  <a:pt x="5756" y="13231"/>
                  <a:pt x="5779" y="13271"/>
                </a:cubicBezTo>
                <a:cubicBezTo>
                  <a:pt x="5787" y="13279"/>
                  <a:pt x="5796" y="13287"/>
                  <a:pt x="5804" y="13295"/>
                </a:cubicBezTo>
              </a:path>
              <a:path w="4119" h="1093">
                <a:moveTo>
                  <a:pt x="6226" y="12551"/>
                </a:moveTo>
                <a:cubicBezTo>
                  <a:pt x="6226" y="12634"/>
                  <a:pt x="6241" y="12698"/>
                  <a:pt x="6251" y="12774"/>
                </a:cubicBezTo>
                <a:cubicBezTo>
                  <a:pt x="6261" y="12850"/>
                  <a:pt x="6270" y="12924"/>
                  <a:pt x="6276" y="12998"/>
                </a:cubicBezTo>
                <a:cubicBezTo>
                  <a:pt x="6280" y="13044"/>
                  <a:pt x="6327" y="13054"/>
                  <a:pt x="6276" y="13072"/>
                </a:cubicBezTo>
              </a:path>
              <a:path w="4119" h="1093">
                <a:moveTo>
                  <a:pt x="6077" y="12774"/>
                </a:moveTo>
                <a:cubicBezTo>
                  <a:pt x="6142" y="12774"/>
                  <a:pt x="6216" y="12780"/>
                  <a:pt x="6276" y="12799"/>
                </a:cubicBezTo>
                <a:cubicBezTo>
                  <a:pt x="6324" y="12823"/>
                  <a:pt x="6338" y="12832"/>
                  <a:pt x="6375" y="12824"/>
                </a:cubicBezTo>
              </a:path>
              <a:path w="4119" h="1093">
                <a:moveTo>
                  <a:pt x="6623" y="12650"/>
                </a:moveTo>
                <a:cubicBezTo>
                  <a:pt x="6706" y="12650"/>
                  <a:pt x="6722" y="12650"/>
                  <a:pt x="6772" y="12650"/>
                </a:cubicBezTo>
              </a:path>
              <a:path w="4119" h="1093">
                <a:moveTo>
                  <a:pt x="6970" y="12402"/>
                </a:moveTo>
                <a:cubicBezTo>
                  <a:pt x="7042" y="12359"/>
                  <a:pt x="7103" y="12329"/>
                  <a:pt x="7193" y="12353"/>
                </a:cubicBezTo>
                <a:cubicBezTo>
                  <a:pt x="7236" y="12364"/>
                  <a:pt x="7344" y="12411"/>
                  <a:pt x="7367" y="12452"/>
                </a:cubicBezTo>
                <a:cubicBezTo>
                  <a:pt x="7392" y="12497"/>
                  <a:pt x="7341" y="12568"/>
                  <a:pt x="7317" y="12601"/>
                </a:cubicBezTo>
                <a:cubicBezTo>
                  <a:pt x="7275" y="12659"/>
                  <a:pt x="7228" y="12711"/>
                  <a:pt x="7193" y="12774"/>
                </a:cubicBezTo>
                <a:cubicBezTo>
                  <a:pt x="7163" y="12828"/>
                  <a:pt x="7108" y="12886"/>
                  <a:pt x="7094" y="12948"/>
                </a:cubicBezTo>
                <a:cubicBezTo>
                  <a:pt x="7076" y="13027"/>
                  <a:pt x="7108" y="13042"/>
                  <a:pt x="7144" y="13097"/>
                </a:cubicBezTo>
                <a:cubicBezTo>
                  <a:pt x="7187" y="13162"/>
                  <a:pt x="7240" y="13183"/>
                  <a:pt x="7317" y="13196"/>
                </a:cubicBezTo>
                <a:cubicBezTo>
                  <a:pt x="7398" y="13210"/>
                  <a:pt x="7458" y="13139"/>
                  <a:pt x="7516" y="13097"/>
                </a:cubicBezTo>
              </a:path>
              <a:path w="4119" h="1093">
                <a:moveTo>
                  <a:pt x="7665" y="12477"/>
                </a:moveTo>
                <a:cubicBezTo>
                  <a:pt x="7665" y="12581"/>
                  <a:pt x="7680" y="12674"/>
                  <a:pt x="7689" y="12774"/>
                </a:cubicBezTo>
                <a:cubicBezTo>
                  <a:pt x="7700" y="12895"/>
                  <a:pt x="7691" y="12981"/>
                  <a:pt x="7739" y="13097"/>
                </a:cubicBezTo>
                <a:cubicBezTo>
                  <a:pt x="7751" y="13126"/>
                  <a:pt x="7799" y="13226"/>
                  <a:pt x="7813" y="13221"/>
                </a:cubicBezTo>
                <a:cubicBezTo>
                  <a:pt x="7821" y="13213"/>
                  <a:pt x="7830" y="13204"/>
                  <a:pt x="7838" y="13196"/>
                </a:cubicBezTo>
              </a:path>
              <a:path w="4119" h="1093">
                <a:moveTo>
                  <a:pt x="8136" y="12427"/>
                </a:moveTo>
                <a:cubicBezTo>
                  <a:pt x="8136" y="12518"/>
                  <a:pt x="8131" y="12613"/>
                  <a:pt x="8111" y="12700"/>
                </a:cubicBezTo>
                <a:cubicBezTo>
                  <a:pt x="8088" y="12802"/>
                  <a:pt x="8083" y="12896"/>
                  <a:pt x="8111" y="12998"/>
                </a:cubicBezTo>
                <a:cubicBezTo>
                  <a:pt x="8136" y="13088"/>
                  <a:pt x="8223" y="13180"/>
                  <a:pt x="8285" y="13246"/>
                </a:cubicBezTo>
                <a:cubicBezTo>
                  <a:pt x="8342" y="13307"/>
                  <a:pt x="8401" y="13340"/>
                  <a:pt x="8483" y="13345"/>
                </a:cubicBezTo>
                <a:cubicBezTo>
                  <a:pt x="8553" y="13349"/>
                  <a:pt x="8598" y="13304"/>
                  <a:pt x="8632" y="13246"/>
                </a:cubicBezTo>
                <a:cubicBezTo>
                  <a:pt x="8662" y="13195"/>
                  <a:pt x="8707" y="13137"/>
                  <a:pt x="8682" y="13072"/>
                </a:cubicBezTo>
                <a:cubicBezTo>
                  <a:pt x="8646" y="12978"/>
                  <a:pt x="8524" y="13005"/>
                  <a:pt x="8458" y="13022"/>
                </a:cubicBezTo>
                <a:cubicBezTo>
                  <a:pt x="8364" y="13046"/>
                  <a:pt x="8299" y="13143"/>
                  <a:pt x="8260" y="13221"/>
                </a:cubicBezTo>
                <a:cubicBezTo>
                  <a:pt x="8235" y="13294"/>
                  <a:pt x="8227" y="13318"/>
                  <a:pt x="8235" y="133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1160" y="4724280"/>
            <a:ext cx="473040" cy="571680"/>
          </a:xfrm>
          <a:custGeom>
            <a:avLst/>
            <a:gdLst/>
            <a:ahLst/>
            <a:rect l="l" t="t" r="r" b="b"/>
            <a:pathLst>
              <a:path w="1316" h="1588">
                <a:moveTo>
                  <a:pt x="2555" y="13841"/>
                </a:moveTo>
                <a:cubicBezTo>
                  <a:pt x="2555" y="13924"/>
                  <a:pt x="2567" y="13957"/>
                  <a:pt x="2555" y="14039"/>
                </a:cubicBezTo>
                <a:cubicBezTo>
                  <a:pt x="2542" y="14133"/>
                  <a:pt x="2530" y="14214"/>
                  <a:pt x="2530" y="14312"/>
                </a:cubicBezTo>
                <a:cubicBezTo>
                  <a:pt x="2530" y="14414"/>
                  <a:pt x="2530" y="14302"/>
                  <a:pt x="2530" y="14263"/>
                </a:cubicBezTo>
                <a:cubicBezTo>
                  <a:pt x="2530" y="14155"/>
                  <a:pt x="2540" y="14023"/>
                  <a:pt x="2555" y="13915"/>
                </a:cubicBezTo>
                <a:cubicBezTo>
                  <a:pt x="2572" y="13794"/>
                  <a:pt x="2596" y="13659"/>
                  <a:pt x="2629" y="13543"/>
                </a:cubicBezTo>
                <a:cubicBezTo>
                  <a:pt x="2656" y="13451"/>
                  <a:pt x="2689" y="13358"/>
                  <a:pt x="2729" y="13271"/>
                </a:cubicBezTo>
                <a:cubicBezTo>
                  <a:pt x="2757" y="13211"/>
                  <a:pt x="2781" y="13168"/>
                  <a:pt x="2828" y="13122"/>
                </a:cubicBezTo>
                <a:cubicBezTo>
                  <a:pt x="2866" y="13155"/>
                  <a:pt x="2886" y="13150"/>
                  <a:pt x="2902" y="13221"/>
                </a:cubicBezTo>
                <a:cubicBezTo>
                  <a:pt x="2921" y="13307"/>
                  <a:pt x="2916" y="13407"/>
                  <a:pt x="2927" y="13494"/>
                </a:cubicBezTo>
                <a:cubicBezTo>
                  <a:pt x="2946" y="13641"/>
                  <a:pt x="2981" y="13775"/>
                  <a:pt x="3026" y="13915"/>
                </a:cubicBezTo>
                <a:cubicBezTo>
                  <a:pt x="3051" y="13994"/>
                  <a:pt x="3080" y="14093"/>
                  <a:pt x="3125" y="14163"/>
                </a:cubicBezTo>
                <a:cubicBezTo>
                  <a:pt x="3142" y="14190"/>
                  <a:pt x="3161" y="14214"/>
                  <a:pt x="3175" y="14238"/>
                </a:cubicBezTo>
              </a:path>
              <a:path w="1316" h="1588">
                <a:moveTo>
                  <a:pt x="2704" y="14015"/>
                </a:moveTo>
                <a:cubicBezTo>
                  <a:pt x="2795" y="14015"/>
                  <a:pt x="2886" y="14015"/>
                  <a:pt x="2977" y="14015"/>
                </a:cubicBezTo>
              </a:path>
              <a:path w="1316" h="1588">
                <a:moveTo>
                  <a:pt x="3324" y="14039"/>
                </a:moveTo>
                <a:cubicBezTo>
                  <a:pt x="3380" y="14095"/>
                  <a:pt x="3392" y="14137"/>
                  <a:pt x="3349" y="14213"/>
                </a:cubicBezTo>
                <a:cubicBezTo>
                  <a:pt x="3311" y="14281"/>
                  <a:pt x="3253" y="14378"/>
                  <a:pt x="3200" y="14436"/>
                </a:cubicBezTo>
                <a:cubicBezTo>
                  <a:pt x="3192" y="14444"/>
                  <a:pt x="3183" y="14453"/>
                  <a:pt x="3175" y="14461"/>
                </a:cubicBezTo>
                <a:cubicBezTo>
                  <a:pt x="3200" y="14495"/>
                  <a:pt x="3201" y="14533"/>
                  <a:pt x="3249" y="14536"/>
                </a:cubicBezTo>
                <a:cubicBezTo>
                  <a:pt x="3321" y="14541"/>
                  <a:pt x="3359" y="14518"/>
                  <a:pt x="3423" y="14486"/>
                </a:cubicBezTo>
              </a:path>
              <a:path w="1316" h="1588">
                <a:moveTo>
                  <a:pt x="3671" y="14213"/>
                </a:moveTo>
                <a:cubicBezTo>
                  <a:pt x="3764" y="14195"/>
                  <a:pt x="3788" y="14206"/>
                  <a:pt x="3845" y="14163"/>
                </a:cubicBezTo>
              </a:path>
              <a:path w="1316" h="1588">
                <a:moveTo>
                  <a:pt x="3721" y="14238"/>
                </a:moveTo>
                <a:cubicBezTo>
                  <a:pt x="3638" y="14303"/>
                  <a:pt x="3646" y="14277"/>
                  <a:pt x="3646" y="14362"/>
                </a:cubicBezTo>
                <a:cubicBezTo>
                  <a:pt x="3646" y="14370"/>
                  <a:pt x="3728" y="14494"/>
                  <a:pt x="3746" y="14511"/>
                </a:cubicBezTo>
                <a:cubicBezTo>
                  <a:pt x="3807" y="14568"/>
                  <a:pt x="3820" y="14569"/>
                  <a:pt x="3820" y="14660"/>
                </a:cubicBezTo>
                <a:cubicBezTo>
                  <a:pt x="3820" y="14684"/>
                  <a:pt x="3820" y="14693"/>
                  <a:pt x="3820" y="14709"/>
                </a:cubicBezTo>
                <a:cubicBezTo>
                  <a:pt x="3769" y="14709"/>
                  <a:pt x="3735" y="14718"/>
                  <a:pt x="3696" y="14684"/>
                </a:cubicBezTo>
                <a:cubicBezTo>
                  <a:pt x="3688" y="14676"/>
                  <a:pt x="3679" y="14668"/>
                  <a:pt x="3671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16040" y="4991040"/>
            <a:ext cx="992160" cy="457200"/>
          </a:xfrm>
          <a:custGeom>
            <a:avLst/>
            <a:gdLst/>
            <a:ahLst/>
            <a:rect l="l" t="t" r="r" b="b"/>
            <a:pathLst>
              <a:path w="2754" h="1266">
                <a:moveTo>
                  <a:pt x="4490" y="13990"/>
                </a:moveTo>
                <a:cubicBezTo>
                  <a:pt x="4619" y="13990"/>
                  <a:pt x="4740" y="13984"/>
                  <a:pt x="4862" y="13965"/>
                </a:cubicBezTo>
                <a:cubicBezTo>
                  <a:pt x="4878" y="13965"/>
                  <a:pt x="4895" y="13965"/>
                  <a:pt x="4911" y="13965"/>
                </a:cubicBezTo>
              </a:path>
              <a:path w="2754" h="1266">
                <a:moveTo>
                  <a:pt x="4614" y="14288"/>
                </a:moveTo>
                <a:cubicBezTo>
                  <a:pt x="4722" y="14317"/>
                  <a:pt x="4755" y="14303"/>
                  <a:pt x="4862" y="14288"/>
                </a:cubicBezTo>
                <a:cubicBezTo>
                  <a:pt x="4878" y="14288"/>
                  <a:pt x="4895" y="14288"/>
                  <a:pt x="4911" y="14288"/>
                </a:cubicBezTo>
              </a:path>
              <a:path w="2754" h="1266">
                <a:moveTo>
                  <a:pt x="5085" y="14114"/>
                </a:moveTo>
                <a:cubicBezTo>
                  <a:pt x="5191" y="14137"/>
                  <a:pt x="5235" y="14148"/>
                  <a:pt x="5333" y="14114"/>
                </a:cubicBezTo>
                <a:cubicBezTo>
                  <a:pt x="5358" y="14106"/>
                  <a:pt x="5382" y="14097"/>
                  <a:pt x="5407" y="14089"/>
                </a:cubicBezTo>
              </a:path>
              <a:path w="2754" h="1266">
                <a:moveTo>
                  <a:pt x="5606" y="13866"/>
                </a:moveTo>
                <a:cubicBezTo>
                  <a:pt x="5771" y="13873"/>
                  <a:pt x="5825" y="13847"/>
                  <a:pt x="5904" y="13990"/>
                </a:cubicBezTo>
                <a:cubicBezTo>
                  <a:pt x="5956" y="14085"/>
                  <a:pt x="5958" y="14138"/>
                  <a:pt x="5928" y="14238"/>
                </a:cubicBezTo>
                <a:cubicBezTo>
                  <a:pt x="5898" y="14336"/>
                  <a:pt x="5846" y="14437"/>
                  <a:pt x="5779" y="14511"/>
                </a:cubicBezTo>
                <a:cubicBezTo>
                  <a:pt x="5741" y="14553"/>
                  <a:pt x="5687" y="14629"/>
                  <a:pt x="5631" y="14635"/>
                </a:cubicBezTo>
                <a:cubicBezTo>
                  <a:pt x="5623" y="14635"/>
                  <a:pt x="5614" y="14635"/>
                  <a:pt x="5606" y="14635"/>
                </a:cubicBezTo>
                <a:cubicBezTo>
                  <a:pt x="5606" y="14584"/>
                  <a:pt x="5597" y="14550"/>
                  <a:pt x="5631" y="14511"/>
                </a:cubicBezTo>
                <a:cubicBezTo>
                  <a:pt x="5665" y="14471"/>
                  <a:pt x="5695" y="14480"/>
                  <a:pt x="5730" y="14511"/>
                </a:cubicBezTo>
                <a:cubicBezTo>
                  <a:pt x="5820" y="14591"/>
                  <a:pt x="5908" y="14746"/>
                  <a:pt x="6028" y="14759"/>
                </a:cubicBezTo>
                <a:cubicBezTo>
                  <a:pt x="6072" y="14759"/>
                  <a:pt x="6086" y="14762"/>
                  <a:pt x="6102" y="14734"/>
                </a:cubicBezTo>
              </a:path>
              <a:path w="2754" h="1266">
                <a:moveTo>
                  <a:pt x="6300" y="14039"/>
                </a:moveTo>
                <a:cubicBezTo>
                  <a:pt x="6300" y="14228"/>
                  <a:pt x="6270" y="14452"/>
                  <a:pt x="6325" y="14635"/>
                </a:cubicBezTo>
                <a:cubicBezTo>
                  <a:pt x="6342" y="14691"/>
                  <a:pt x="6345" y="14802"/>
                  <a:pt x="6400" y="14784"/>
                </a:cubicBezTo>
                <a:cubicBezTo>
                  <a:pt x="6400" y="14776"/>
                  <a:pt x="6400" y="14767"/>
                  <a:pt x="6400" y="14759"/>
                </a:cubicBezTo>
              </a:path>
              <a:path w="2754" h="1266">
                <a:moveTo>
                  <a:pt x="6623" y="14039"/>
                </a:moveTo>
                <a:cubicBezTo>
                  <a:pt x="6780" y="13996"/>
                  <a:pt x="6797" y="14019"/>
                  <a:pt x="6945" y="14039"/>
                </a:cubicBezTo>
                <a:cubicBezTo>
                  <a:pt x="6982" y="14044"/>
                  <a:pt x="7103" y="14048"/>
                  <a:pt x="7119" y="14089"/>
                </a:cubicBezTo>
                <a:cubicBezTo>
                  <a:pt x="7143" y="14152"/>
                  <a:pt x="7103" y="14232"/>
                  <a:pt x="7094" y="14288"/>
                </a:cubicBezTo>
                <a:cubicBezTo>
                  <a:pt x="7074" y="14406"/>
                  <a:pt x="7108" y="14523"/>
                  <a:pt x="7119" y="14635"/>
                </a:cubicBezTo>
                <a:cubicBezTo>
                  <a:pt x="7131" y="14765"/>
                  <a:pt x="7171" y="14879"/>
                  <a:pt x="7193" y="15007"/>
                </a:cubicBezTo>
                <a:cubicBezTo>
                  <a:pt x="7193" y="15070"/>
                  <a:pt x="7201" y="15097"/>
                  <a:pt x="7243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68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68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Page 635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#1-13, 17, 21-25, 29-39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rithmetic Sequ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equence whose consecutive terms have a “common difference”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sequence is arithmetic if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–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–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… = 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d is the common differ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s each sequence arithmetic?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f so, find “d”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4, 9, 14, 19, 24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3.5, 4.4, 5.3, 6.1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20, 15, 10, 5, 0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81120" y="2205000"/>
            <a:ext cx="857160" cy="403200"/>
          </a:xfrm>
          <a:custGeom>
            <a:avLst/>
            <a:gdLst/>
            <a:ahLst/>
            <a:rect l="l" t="t" r="r" b="b"/>
            <a:pathLst>
              <a:path w="2383" h="1117">
                <a:moveTo>
                  <a:pt x="6747" y="6995"/>
                </a:moveTo>
                <a:cubicBezTo>
                  <a:pt x="6755" y="6995"/>
                  <a:pt x="6764" y="6995"/>
                  <a:pt x="6772" y="6995"/>
                </a:cubicBezTo>
                <a:cubicBezTo>
                  <a:pt x="6753" y="6971"/>
                  <a:pt x="6756" y="6950"/>
                  <a:pt x="6722" y="6921"/>
                </a:cubicBezTo>
                <a:cubicBezTo>
                  <a:pt x="6706" y="6907"/>
                  <a:pt x="6646" y="6883"/>
                  <a:pt x="6623" y="6871"/>
                </a:cubicBezTo>
                <a:cubicBezTo>
                  <a:pt x="6548" y="6833"/>
                  <a:pt x="6508" y="6821"/>
                  <a:pt x="6424" y="6796"/>
                </a:cubicBezTo>
                <a:cubicBezTo>
                  <a:pt x="6333" y="6768"/>
                  <a:pt x="6247" y="6731"/>
                  <a:pt x="6152" y="6722"/>
                </a:cubicBezTo>
                <a:cubicBezTo>
                  <a:pt x="6026" y="6710"/>
                  <a:pt x="5908" y="6697"/>
                  <a:pt x="5779" y="6697"/>
                </a:cubicBezTo>
                <a:cubicBezTo>
                  <a:pt x="5603" y="6697"/>
                  <a:pt x="5430" y="6709"/>
                  <a:pt x="5259" y="6747"/>
                </a:cubicBezTo>
                <a:cubicBezTo>
                  <a:pt x="5128" y="6776"/>
                  <a:pt x="4982" y="6813"/>
                  <a:pt x="4862" y="6871"/>
                </a:cubicBezTo>
                <a:cubicBezTo>
                  <a:pt x="4771" y="6915"/>
                  <a:pt x="4662" y="6980"/>
                  <a:pt x="4589" y="7045"/>
                </a:cubicBezTo>
                <a:cubicBezTo>
                  <a:pt x="4530" y="7098"/>
                  <a:pt x="4491" y="7136"/>
                  <a:pt x="4440" y="7193"/>
                </a:cubicBezTo>
                <a:cubicBezTo>
                  <a:pt x="4408" y="7229"/>
                  <a:pt x="4372" y="7261"/>
                  <a:pt x="4415" y="7218"/>
                </a:cubicBezTo>
              </a:path>
              <a:path w="2383" h="1117">
                <a:moveTo>
                  <a:pt x="5631" y="6548"/>
                </a:moveTo>
                <a:cubicBezTo>
                  <a:pt x="5631" y="6556"/>
                  <a:pt x="5631" y="6565"/>
                  <a:pt x="5631" y="6573"/>
                </a:cubicBezTo>
              </a:path>
              <a:path w="2383" h="1117">
                <a:moveTo>
                  <a:pt x="6102" y="6300"/>
                </a:moveTo>
                <a:cubicBezTo>
                  <a:pt x="6131" y="6263"/>
                  <a:pt x="6127" y="6249"/>
                  <a:pt x="6127" y="6201"/>
                </a:cubicBezTo>
                <a:cubicBezTo>
                  <a:pt x="6127" y="6143"/>
                  <a:pt x="6082" y="6181"/>
                  <a:pt x="6052" y="6152"/>
                </a:cubicBezTo>
                <a:cubicBezTo>
                  <a:pt x="6024" y="6124"/>
                  <a:pt x="6031" y="6159"/>
                  <a:pt x="5978" y="6176"/>
                </a:cubicBezTo>
                <a:cubicBezTo>
                  <a:pt x="5899" y="6201"/>
                  <a:pt x="5902" y="6213"/>
                  <a:pt x="5854" y="6276"/>
                </a:cubicBezTo>
                <a:cubicBezTo>
                  <a:pt x="5831" y="6307"/>
                  <a:pt x="5802" y="6374"/>
                  <a:pt x="5854" y="6400"/>
                </a:cubicBezTo>
                <a:cubicBezTo>
                  <a:pt x="5895" y="6420"/>
                  <a:pt x="5949" y="6391"/>
                  <a:pt x="5978" y="6375"/>
                </a:cubicBezTo>
                <a:cubicBezTo>
                  <a:pt x="6014" y="6354"/>
                  <a:pt x="6083" y="6318"/>
                  <a:pt x="6102" y="6276"/>
                </a:cubicBezTo>
                <a:cubicBezTo>
                  <a:pt x="6130" y="6214"/>
                  <a:pt x="6132" y="6232"/>
                  <a:pt x="6102" y="6276"/>
                </a:cubicBezTo>
                <a:cubicBezTo>
                  <a:pt x="6082" y="6305"/>
                  <a:pt x="6059" y="6367"/>
                  <a:pt x="6052" y="6400"/>
                </a:cubicBezTo>
                <a:cubicBezTo>
                  <a:pt x="6038" y="6466"/>
                  <a:pt x="6062" y="6514"/>
                  <a:pt x="6077" y="6573"/>
                </a:cubicBezTo>
                <a:cubicBezTo>
                  <a:pt x="6089" y="6619"/>
                  <a:pt x="6077" y="6664"/>
                  <a:pt x="6052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76680" y="2232000"/>
            <a:ext cx="1733400" cy="331920"/>
          </a:xfrm>
          <a:custGeom>
            <a:avLst/>
            <a:gdLst/>
            <a:ahLst/>
            <a:rect l="l" t="t" r="r" b="b"/>
            <a:pathLst>
              <a:path w="4813" h="919">
                <a:moveTo>
                  <a:pt x="9599" y="7094"/>
                </a:moveTo>
                <a:cubicBezTo>
                  <a:pt x="9622" y="7117"/>
                  <a:pt x="9626" y="7125"/>
                  <a:pt x="9649" y="7119"/>
                </a:cubicBezTo>
                <a:cubicBezTo>
                  <a:pt x="9629" y="7095"/>
                  <a:pt x="9631" y="7078"/>
                  <a:pt x="9599" y="7045"/>
                </a:cubicBezTo>
                <a:cubicBezTo>
                  <a:pt x="9550" y="6995"/>
                  <a:pt x="9509" y="6958"/>
                  <a:pt x="9451" y="6921"/>
                </a:cubicBezTo>
                <a:cubicBezTo>
                  <a:pt x="9364" y="6866"/>
                  <a:pt x="9275" y="6829"/>
                  <a:pt x="9178" y="6796"/>
                </a:cubicBezTo>
                <a:cubicBezTo>
                  <a:pt x="9076" y="6761"/>
                  <a:pt x="8962" y="6750"/>
                  <a:pt x="8855" y="6747"/>
                </a:cubicBezTo>
                <a:cubicBezTo>
                  <a:pt x="8721" y="6743"/>
                  <a:pt x="8588" y="6739"/>
                  <a:pt x="8458" y="6772"/>
                </a:cubicBezTo>
                <a:cubicBezTo>
                  <a:pt x="8302" y="6812"/>
                  <a:pt x="8164" y="6838"/>
                  <a:pt x="8012" y="6896"/>
                </a:cubicBezTo>
                <a:cubicBezTo>
                  <a:pt x="7952" y="6919"/>
                  <a:pt x="7885" y="6952"/>
                  <a:pt x="7838" y="6995"/>
                </a:cubicBezTo>
                <a:cubicBezTo>
                  <a:pt x="7807" y="7023"/>
                  <a:pt x="7769" y="7024"/>
                  <a:pt x="7739" y="7045"/>
                </a:cubicBezTo>
                <a:cubicBezTo>
                  <a:pt x="7712" y="7064"/>
                  <a:pt x="7710" y="7109"/>
                  <a:pt x="7739" y="7094"/>
                </a:cubicBezTo>
                <a:cubicBezTo>
                  <a:pt x="7739" y="7086"/>
                  <a:pt x="7739" y="7077"/>
                  <a:pt x="7739" y="7069"/>
                </a:cubicBezTo>
              </a:path>
              <a:path w="4813" h="919">
                <a:moveTo>
                  <a:pt x="8582" y="6648"/>
                </a:moveTo>
                <a:cubicBezTo>
                  <a:pt x="8590" y="6648"/>
                  <a:pt x="8599" y="6648"/>
                  <a:pt x="8607" y="6648"/>
                </a:cubicBezTo>
              </a:path>
              <a:path w="4813" h="919">
                <a:moveTo>
                  <a:pt x="8979" y="6400"/>
                </a:moveTo>
                <a:cubicBezTo>
                  <a:pt x="9002" y="6360"/>
                  <a:pt x="9055" y="6302"/>
                  <a:pt x="9029" y="6251"/>
                </a:cubicBezTo>
                <a:cubicBezTo>
                  <a:pt x="9016" y="6225"/>
                  <a:pt x="8955" y="6204"/>
                  <a:pt x="8930" y="6201"/>
                </a:cubicBezTo>
                <a:cubicBezTo>
                  <a:pt x="8873" y="6195"/>
                  <a:pt x="8850" y="6224"/>
                  <a:pt x="8806" y="6251"/>
                </a:cubicBezTo>
                <a:cubicBezTo>
                  <a:pt x="8761" y="6278"/>
                  <a:pt x="8696" y="6305"/>
                  <a:pt x="8731" y="6375"/>
                </a:cubicBezTo>
                <a:cubicBezTo>
                  <a:pt x="8753" y="6419"/>
                  <a:pt x="8758" y="6424"/>
                  <a:pt x="8806" y="6424"/>
                </a:cubicBezTo>
                <a:cubicBezTo>
                  <a:pt x="8855" y="6424"/>
                  <a:pt x="8865" y="6413"/>
                  <a:pt x="8905" y="6400"/>
                </a:cubicBezTo>
                <a:cubicBezTo>
                  <a:pt x="8951" y="6385"/>
                  <a:pt x="8984" y="6352"/>
                  <a:pt x="9004" y="6325"/>
                </a:cubicBezTo>
                <a:cubicBezTo>
                  <a:pt x="9012" y="6317"/>
                  <a:pt x="9021" y="6308"/>
                  <a:pt x="9029" y="6300"/>
                </a:cubicBezTo>
                <a:cubicBezTo>
                  <a:pt x="9029" y="6339"/>
                  <a:pt x="8999" y="6446"/>
                  <a:pt x="9004" y="6474"/>
                </a:cubicBezTo>
                <a:cubicBezTo>
                  <a:pt x="9012" y="6520"/>
                  <a:pt x="9029" y="6565"/>
                  <a:pt x="9029" y="6623"/>
                </a:cubicBezTo>
                <a:cubicBezTo>
                  <a:pt x="9029" y="6659"/>
                  <a:pt x="9028" y="6748"/>
                  <a:pt x="9054" y="6722"/>
                </a:cubicBezTo>
                <a:cubicBezTo>
                  <a:pt x="9054" y="6722"/>
                  <a:pt x="9031" y="6661"/>
                  <a:pt x="9029" y="6648"/>
                </a:cubicBezTo>
              </a:path>
              <a:path w="4813" h="919">
                <a:moveTo>
                  <a:pt x="12502" y="6995"/>
                </a:moveTo>
                <a:cubicBezTo>
                  <a:pt x="12522" y="7036"/>
                  <a:pt x="12530" y="7063"/>
                  <a:pt x="12526" y="7020"/>
                </a:cubicBezTo>
                <a:cubicBezTo>
                  <a:pt x="12524" y="7018"/>
                  <a:pt x="12483" y="6950"/>
                  <a:pt x="12477" y="6945"/>
                </a:cubicBezTo>
                <a:cubicBezTo>
                  <a:pt x="12438" y="6912"/>
                  <a:pt x="12440" y="6902"/>
                  <a:pt x="12402" y="6871"/>
                </a:cubicBezTo>
                <a:cubicBezTo>
                  <a:pt x="12374" y="6848"/>
                  <a:pt x="12314" y="6819"/>
                  <a:pt x="12278" y="6796"/>
                </a:cubicBezTo>
                <a:cubicBezTo>
                  <a:pt x="12198" y="6744"/>
                  <a:pt x="12119" y="6705"/>
                  <a:pt x="12030" y="6672"/>
                </a:cubicBezTo>
                <a:cubicBezTo>
                  <a:pt x="11888" y="6620"/>
                  <a:pt x="11733" y="6567"/>
                  <a:pt x="11584" y="6548"/>
                </a:cubicBezTo>
                <a:cubicBezTo>
                  <a:pt x="11475" y="6534"/>
                  <a:pt x="11319" y="6513"/>
                  <a:pt x="11212" y="6524"/>
                </a:cubicBezTo>
                <a:cubicBezTo>
                  <a:pt x="11074" y="6538"/>
                  <a:pt x="10948" y="6561"/>
                  <a:pt x="10815" y="6598"/>
                </a:cubicBezTo>
                <a:cubicBezTo>
                  <a:pt x="10726" y="6623"/>
                  <a:pt x="10596" y="6669"/>
                  <a:pt x="10517" y="6722"/>
                </a:cubicBezTo>
                <a:cubicBezTo>
                  <a:pt x="10441" y="6773"/>
                  <a:pt x="10360" y="6872"/>
                  <a:pt x="10319" y="6945"/>
                </a:cubicBezTo>
                <a:cubicBezTo>
                  <a:pt x="10286" y="7004"/>
                  <a:pt x="10294" y="6985"/>
                  <a:pt x="10319" y="7020"/>
                </a:cubicBezTo>
                <a:cubicBezTo>
                  <a:pt x="10351" y="7066"/>
                  <a:pt x="10341" y="7035"/>
                  <a:pt x="10393" y="7020"/>
                </a:cubicBezTo>
              </a:path>
              <a:path w="4813" h="919">
                <a:moveTo>
                  <a:pt x="11807" y="6499"/>
                </a:moveTo>
                <a:cubicBezTo>
                  <a:pt x="11807" y="6474"/>
                  <a:pt x="11807" y="6466"/>
                  <a:pt x="11832" y="6474"/>
                </a:cubicBezTo>
              </a:path>
              <a:path w="4813" h="919">
                <a:moveTo>
                  <a:pt x="12353" y="6276"/>
                </a:moveTo>
                <a:cubicBezTo>
                  <a:pt x="12318" y="6249"/>
                  <a:pt x="12277" y="6229"/>
                  <a:pt x="12229" y="6226"/>
                </a:cubicBezTo>
                <a:cubicBezTo>
                  <a:pt x="12168" y="6222"/>
                  <a:pt x="12136" y="6245"/>
                  <a:pt x="12080" y="6251"/>
                </a:cubicBezTo>
                <a:cubicBezTo>
                  <a:pt x="12052" y="6251"/>
                  <a:pt x="12041" y="6253"/>
                  <a:pt x="12030" y="6276"/>
                </a:cubicBezTo>
                <a:cubicBezTo>
                  <a:pt x="12047" y="6357"/>
                  <a:pt x="12071" y="6353"/>
                  <a:pt x="12129" y="6400"/>
                </a:cubicBezTo>
                <a:cubicBezTo>
                  <a:pt x="12178" y="6440"/>
                  <a:pt x="12266" y="6505"/>
                  <a:pt x="12303" y="6548"/>
                </a:cubicBezTo>
                <a:cubicBezTo>
                  <a:pt x="12326" y="6575"/>
                  <a:pt x="12345" y="6642"/>
                  <a:pt x="12353" y="6672"/>
                </a:cubicBezTo>
                <a:cubicBezTo>
                  <a:pt x="12298" y="6713"/>
                  <a:pt x="12285" y="6689"/>
                  <a:pt x="12229" y="6672"/>
                </a:cubicBezTo>
                <a:cubicBezTo>
                  <a:pt x="12186" y="6659"/>
                  <a:pt x="12163" y="6633"/>
                  <a:pt x="12129" y="6598"/>
                </a:cubicBezTo>
                <a:cubicBezTo>
                  <a:pt x="12094" y="6562"/>
                  <a:pt x="12105" y="6515"/>
                  <a:pt x="12129" y="6474"/>
                </a:cubicBezTo>
                <a:cubicBezTo>
                  <a:pt x="12162" y="6418"/>
                  <a:pt x="12230" y="6386"/>
                  <a:pt x="12278" y="6350"/>
                </a:cubicBezTo>
                <a:cubicBezTo>
                  <a:pt x="12307" y="6328"/>
                  <a:pt x="12342" y="6282"/>
                  <a:pt x="12353" y="6251"/>
                </a:cubicBezTo>
                <a:cubicBezTo>
                  <a:pt x="12353" y="6243"/>
                  <a:pt x="12353" y="6234"/>
                  <a:pt x="12353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86280" y="1768320"/>
            <a:ext cx="642960" cy="588960"/>
          </a:xfrm>
          <a:custGeom>
            <a:avLst/>
            <a:gdLst/>
            <a:ahLst/>
            <a:rect l="l" t="t" r="r" b="b"/>
            <a:pathLst>
              <a:path w="1787" h="1638">
                <a:moveTo>
                  <a:pt x="16247" y="5085"/>
                </a:moveTo>
                <a:cubicBezTo>
                  <a:pt x="16247" y="5206"/>
                  <a:pt x="16253" y="5318"/>
                  <a:pt x="16272" y="5432"/>
                </a:cubicBezTo>
                <a:cubicBezTo>
                  <a:pt x="16282" y="5490"/>
                  <a:pt x="16288" y="5554"/>
                  <a:pt x="16321" y="5606"/>
                </a:cubicBezTo>
                <a:cubicBezTo>
                  <a:pt x="16344" y="5642"/>
                  <a:pt x="16379" y="5665"/>
                  <a:pt x="16421" y="5655"/>
                </a:cubicBezTo>
                <a:cubicBezTo>
                  <a:pt x="16486" y="5640"/>
                  <a:pt x="16534" y="5590"/>
                  <a:pt x="16570" y="5531"/>
                </a:cubicBezTo>
                <a:cubicBezTo>
                  <a:pt x="16597" y="5486"/>
                  <a:pt x="16632" y="5385"/>
                  <a:pt x="16644" y="5333"/>
                </a:cubicBezTo>
                <a:cubicBezTo>
                  <a:pt x="16657" y="5273"/>
                  <a:pt x="16666" y="5195"/>
                  <a:pt x="16669" y="5135"/>
                </a:cubicBezTo>
                <a:cubicBezTo>
                  <a:pt x="16671" y="5102"/>
                  <a:pt x="16669" y="5068"/>
                  <a:pt x="16669" y="5035"/>
                </a:cubicBezTo>
                <a:cubicBezTo>
                  <a:pt x="16663" y="5116"/>
                  <a:pt x="16648" y="5179"/>
                  <a:pt x="16644" y="5259"/>
                </a:cubicBezTo>
                <a:cubicBezTo>
                  <a:pt x="16627" y="5615"/>
                  <a:pt x="16709" y="6011"/>
                  <a:pt x="16594" y="6350"/>
                </a:cubicBezTo>
                <a:cubicBezTo>
                  <a:pt x="16568" y="6428"/>
                  <a:pt x="16489" y="6486"/>
                  <a:pt x="16421" y="6524"/>
                </a:cubicBezTo>
                <a:cubicBezTo>
                  <a:pt x="16353" y="6561"/>
                  <a:pt x="16268" y="6546"/>
                  <a:pt x="16197" y="6524"/>
                </a:cubicBezTo>
                <a:cubicBezTo>
                  <a:pt x="16152" y="6510"/>
                  <a:pt x="16082" y="6425"/>
                  <a:pt x="16073" y="6375"/>
                </a:cubicBezTo>
                <a:cubicBezTo>
                  <a:pt x="16055" y="6278"/>
                  <a:pt x="16127" y="6180"/>
                  <a:pt x="16173" y="6102"/>
                </a:cubicBezTo>
              </a:path>
              <a:path w="1787" h="1638">
                <a:moveTo>
                  <a:pt x="16917" y="5457"/>
                </a:moveTo>
                <a:cubicBezTo>
                  <a:pt x="16991" y="5437"/>
                  <a:pt x="17070" y="5430"/>
                  <a:pt x="17140" y="5407"/>
                </a:cubicBezTo>
                <a:cubicBezTo>
                  <a:pt x="17194" y="5390"/>
                  <a:pt x="17258" y="5331"/>
                  <a:pt x="17289" y="5283"/>
                </a:cubicBezTo>
                <a:cubicBezTo>
                  <a:pt x="17314" y="5245"/>
                  <a:pt x="17362" y="5184"/>
                  <a:pt x="17338" y="5135"/>
                </a:cubicBezTo>
                <a:cubicBezTo>
                  <a:pt x="17318" y="5093"/>
                  <a:pt x="17268" y="5079"/>
                  <a:pt x="17239" y="5060"/>
                </a:cubicBezTo>
                <a:cubicBezTo>
                  <a:pt x="17200" y="5034"/>
                  <a:pt x="17136" y="5054"/>
                  <a:pt x="17090" y="5085"/>
                </a:cubicBezTo>
                <a:cubicBezTo>
                  <a:pt x="17012" y="5138"/>
                  <a:pt x="16983" y="5247"/>
                  <a:pt x="16966" y="5333"/>
                </a:cubicBezTo>
                <a:cubicBezTo>
                  <a:pt x="16954" y="5395"/>
                  <a:pt x="16965" y="5458"/>
                  <a:pt x="16991" y="5507"/>
                </a:cubicBezTo>
                <a:cubicBezTo>
                  <a:pt x="17015" y="5552"/>
                  <a:pt x="17037" y="5600"/>
                  <a:pt x="17090" y="5606"/>
                </a:cubicBezTo>
                <a:cubicBezTo>
                  <a:pt x="17141" y="5612"/>
                  <a:pt x="17174" y="5606"/>
                  <a:pt x="17214" y="5581"/>
                </a:cubicBezTo>
              </a:path>
              <a:path w="1787" h="1638">
                <a:moveTo>
                  <a:pt x="17859" y="4911"/>
                </a:moveTo>
                <a:cubicBezTo>
                  <a:pt x="17791" y="4932"/>
                  <a:pt x="17721" y="4945"/>
                  <a:pt x="17661" y="4986"/>
                </a:cubicBezTo>
                <a:cubicBezTo>
                  <a:pt x="17614" y="5018"/>
                  <a:pt x="17559" y="5055"/>
                  <a:pt x="17537" y="5110"/>
                </a:cubicBezTo>
                <a:cubicBezTo>
                  <a:pt x="17525" y="5140"/>
                  <a:pt x="17531" y="5219"/>
                  <a:pt x="17562" y="5234"/>
                </a:cubicBezTo>
                <a:cubicBezTo>
                  <a:pt x="17608" y="5257"/>
                  <a:pt x="17662" y="5282"/>
                  <a:pt x="17711" y="5308"/>
                </a:cubicBezTo>
                <a:cubicBezTo>
                  <a:pt x="17747" y="5327"/>
                  <a:pt x="17817" y="5366"/>
                  <a:pt x="17835" y="5407"/>
                </a:cubicBezTo>
                <a:cubicBezTo>
                  <a:pt x="17852" y="5445"/>
                  <a:pt x="17785" y="5498"/>
                  <a:pt x="17760" y="5507"/>
                </a:cubicBezTo>
                <a:cubicBezTo>
                  <a:pt x="17719" y="5522"/>
                  <a:pt x="17646" y="5513"/>
                  <a:pt x="17611" y="5531"/>
                </a:cubicBezTo>
                <a:cubicBezTo>
                  <a:pt x="17594" y="5540"/>
                  <a:pt x="17489" y="5562"/>
                  <a:pt x="17562" y="5531"/>
                </a:cubicBezTo>
                <a:cubicBezTo>
                  <a:pt x="17570" y="5531"/>
                  <a:pt x="17579" y="5531"/>
                  <a:pt x="17587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0360" y="1643040"/>
            <a:ext cx="812880" cy="376200"/>
          </a:xfrm>
          <a:custGeom>
            <a:avLst/>
            <a:gdLst/>
            <a:ahLst/>
            <a:rect l="l" t="t" r="r" b="b"/>
            <a:pathLst>
              <a:path w="2259" h="1043">
                <a:moveTo>
                  <a:pt x="19472" y="5283"/>
                </a:moveTo>
                <a:cubicBezTo>
                  <a:pt x="19422" y="5296"/>
                  <a:pt x="19454" y="5291"/>
                  <a:pt x="19422" y="5234"/>
                </a:cubicBezTo>
                <a:cubicBezTo>
                  <a:pt x="19400" y="5196"/>
                  <a:pt x="19415" y="5148"/>
                  <a:pt x="19397" y="5110"/>
                </a:cubicBezTo>
                <a:cubicBezTo>
                  <a:pt x="19376" y="5065"/>
                  <a:pt x="19353" y="5060"/>
                  <a:pt x="19323" y="5035"/>
                </a:cubicBezTo>
                <a:cubicBezTo>
                  <a:pt x="19259" y="4982"/>
                  <a:pt x="19251" y="5026"/>
                  <a:pt x="19199" y="5060"/>
                </a:cubicBezTo>
                <a:cubicBezTo>
                  <a:pt x="19147" y="5094"/>
                  <a:pt x="19074" y="5148"/>
                  <a:pt x="19050" y="5209"/>
                </a:cubicBezTo>
                <a:cubicBezTo>
                  <a:pt x="19026" y="5271"/>
                  <a:pt x="19004" y="5363"/>
                  <a:pt x="19000" y="5432"/>
                </a:cubicBezTo>
                <a:cubicBezTo>
                  <a:pt x="18996" y="5510"/>
                  <a:pt x="19041" y="5573"/>
                  <a:pt x="19100" y="5606"/>
                </a:cubicBezTo>
                <a:cubicBezTo>
                  <a:pt x="19136" y="5626"/>
                  <a:pt x="19269" y="5610"/>
                  <a:pt x="19298" y="5581"/>
                </a:cubicBezTo>
                <a:cubicBezTo>
                  <a:pt x="19369" y="5510"/>
                  <a:pt x="19452" y="5395"/>
                  <a:pt x="19496" y="5308"/>
                </a:cubicBezTo>
                <a:cubicBezTo>
                  <a:pt x="19541" y="5219"/>
                  <a:pt x="19562" y="5083"/>
                  <a:pt x="19571" y="4986"/>
                </a:cubicBezTo>
                <a:cubicBezTo>
                  <a:pt x="19583" y="4857"/>
                  <a:pt x="19574" y="4702"/>
                  <a:pt x="19546" y="4589"/>
                </a:cubicBezTo>
                <a:cubicBezTo>
                  <a:pt x="19546" y="4581"/>
                  <a:pt x="19546" y="4572"/>
                  <a:pt x="19546" y="4564"/>
                </a:cubicBezTo>
                <a:cubicBezTo>
                  <a:pt x="19542" y="4575"/>
                  <a:pt x="19531" y="4651"/>
                  <a:pt x="19521" y="4688"/>
                </a:cubicBezTo>
                <a:cubicBezTo>
                  <a:pt x="19498" y="4774"/>
                  <a:pt x="19482" y="4871"/>
                  <a:pt x="19472" y="4961"/>
                </a:cubicBezTo>
                <a:cubicBezTo>
                  <a:pt x="19461" y="5060"/>
                  <a:pt x="19451" y="5161"/>
                  <a:pt x="19447" y="5259"/>
                </a:cubicBezTo>
                <a:cubicBezTo>
                  <a:pt x="19443" y="5361"/>
                  <a:pt x="19461" y="5470"/>
                  <a:pt x="19521" y="5556"/>
                </a:cubicBezTo>
                <a:cubicBezTo>
                  <a:pt x="19541" y="5585"/>
                  <a:pt x="19611" y="5608"/>
                  <a:pt x="19645" y="5606"/>
                </a:cubicBezTo>
                <a:cubicBezTo>
                  <a:pt x="19686" y="5604"/>
                  <a:pt x="19739" y="5555"/>
                  <a:pt x="19769" y="5531"/>
                </a:cubicBezTo>
              </a:path>
              <a:path w="2259" h="1043">
                <a:moveTo>
                  <a:pt x="19943" y="5011"/>
                </a:moveTo>
                <a:cubicBezTo>
                  <a:pt x="19982" y="5020"/>
                  <a:pt x="19998" y="5035"/>
                  <a:pt x="20042" y="5035"/>
                </a:cubicBezTo>
                <a:cubicBezTo>
                  <a:pt x="20108" y="5035"/>
                  <a:pt x="20175" y="5035"/>
                  <a:pt x="20241" y="5035"/>
                </a:cubicBezTo>
              </a:path>
              <a:path w="2259" h="1043">
                <a:moveTo>
                  <a:pt x="19918" y="5234"/>
                </a:moveTo>
                <a:cubicBezTo>
                  <a:pt x="20001" y="5234"/>
                  <a:pt x="20083" y="5234"/>
                  <a:pt x="20166" y="5234"/>
                </a:cubicBezTo>
              </a:path>
              <a:path w="2259" h="1043">
                <a:moveTo>
                  <a:pt x="20811" y="4614"/>
                </a:moveTo>
                <a:cubicBezTo>
                  <a:pt x="20916" y="4614"/>
                  <a:pt x="20988" y="4594"/>
                  <a:pt x="21084" y="4589"/>
                </a:cubicBezTo>
                <a:cubicBezTo>
                  <a:pt x="21152" y="4585"/>
                  <a:pt x="21205" y="4604"/>
                  <a:pt x="21258" y="4564"/>
                </a:cubicBezTo>
              </a:path>
              <a:path w="2259" h="1043">
                <a:moveTo>
                  <a:pt x="20762" y="4663"/>
                </a:moveTo>
                <a:cubicBezTo>
                  <a:pt x="20756" y="4746"/>
                  <a:pt x="20737" y="4784"/>
                  <a:pt x="20737" y="4862"/>
                </a:cubicBezTo>
                <a:cubicBezTo>
                  <a:pt x="20737" y="4887"/>
                  <a:pt x="20737" y="4911"/>
                  <a:pt x="20737" y="4936"/>
                </a:cubicBezTo>
                <a:cubicBezTo>
                  <a:pt x="20792" y="4936"/>
                  <a:pt x="20810" y="4901"/>
                  <a:pt x="20836" y="4887"/>
                </a:cubicBezTo>
                <a:cubicBezTo>
                  <a:pt x="20873" y="4866"/>
                  <a:pt x="20981" y="4891"/>
                  <a:pt x="21010" y="4911"/>
                </a:cubicBezTo>
                <a:cubicBezTo>
                  <a:pt x="21074" y="4954"/>
                  <a:pt x="21099" y="4989"/>
                  <a:pt x="21134" y="5060"/>
                </a:cubicBezTo>
                <a:cubicBezTo>
                  <a:pt x="21167" y="5127"/>
                  <a:pt x="21202" y="5157"/>
                  <a:pt x="21208" y="5234"/>
                </a:cubicBezTo>
                <a:cubicBezTo>
                  <a:pt x="21212" y="5286"/>
                  <a:pt x="21130" y="5345"/>
                  <a:pt x="21084" y="5358"/>
                </a:cubicBezTo>
                <a:cubicBezTo>
                  <a:pt x="21020" y="5376"/>
                  <a:pt x="20955" y="5383"/>
                  <a:pt x="20886" y="5383"/>
                </a:cubicBezTo>
                <a:cubicBezTo>
                  <a:pt x="20837" y="5383"/>
                  <a:pt x="20835" y="5383"/>
                  <a:pt x="20786" y="5383"/>
                </a:cubicBezTo>
                <a:cubicBezTo>
                  <a:pt x="20778" y="5383"/>
                  <a:pt x="20770" y="5383"/>
                  <a:pt x="20762" y="53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56200" y="2687760"/>
            <a:ext cx="357120" cy="23328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16545" y="7813"/>
                </a:moveTo>
                <a:cubicBezTo>
                  <a:pt x="16545" y="7921"/>
                  <a:pt x="16666" y="8063"/>
                  <a:pt x="16570" y="8111"/>
                </a:cubicBezTo>
                <a:cubicBezTo>
                  <a:pt x="16546" y="8123"/>
                  <a:pt x="16570" y="8028"/>
                  <a:pt x="16570" y="7987"/>
                </a:cubicBezTo>
                <a:cubicBezTo>
                  <a:pt x="16570" y="7874"/>
                  <a:pt x="16577" y="7772"/>
                  <a:pt x="16594" y="7665"/>
                </a:cubicBezTo>
                <a:cubicBezTo>
                  <a:pt x="16608" y="7579"/>
                  <a:pt x="16626" y="7592"/>
                  <a:pt x="16694" y="7541"/>
                </a:cubicBezTo>
                <a:cubicBezTo>
                  <a:pt x="16739" y="7507"/>
                  <a:pt x="16770" y="7503"/>
                  <a:pt x="16818" y="7541"/>
                </a:cubicBezTo>
                <a:cubicBezTo>
                  <a:pt x="16894" y="7601"/>
                  <a:pt x="16888" y="7692"/>
                  <a:pt x="16917" y="7764"/>
                </a:cubicBezTo>
                <a:cubicBezTo>
                  <a:pt x="16932" y="7803"/>
                  <a:pt x="16953" y="7848"/>
                  <a:pt x="16966" y="7888"/>
                </a:cubicBezTo>
                <a:cubicBezTo>
                  <a:pt x="16979" y="7929"/>
                  <a:pt x="16937" y="7949"/>
                  <a:pt x="16991" y="7913"/>
                </a:cubicBezTo>
              </a:path>
              <a:path w="993" h="646">
                <a:moveTo>
                  <a:pt x="17140" y="7491"/>
                </a:moveTo>
                <a:cubicBezTo>
                  <a:pt x="17140" y="7433"/>
                  <a:pt x="17140" y="7557"/>
                  <a:pt x="17140" y="7615"/>
                </a:cubicBezTo>
                <a:cubicBezTo>
                  <a:pt x="17140" y="7712"/>
                  <a:pt x="17146" y="7738"/>
                  <a:pt x="17190" y="7813"/>
                </a:cubicBezTo>
                <a:cubicBezTo>
                  <a:pt x="17225" y="7872"/>
                  <a:pt x="17250" y="7900"/>
                  <a:pt x="17314" y="7913"/>
                </a:cubicBezTo>
                <a:cubicBezTo>
                  <a:pt x="17372" y="7925"/>
                  <a:pt x="17469" y="7922"/>
                  <a:pt x="17512" y="7888"/>
                </a:cubicBezTo>
                <a:cubicBezTo>
                  <a:pt x="17552" y="7856"/>
                  <a:pt x="17537" y="7811"/>
                  <a:pt x="17537" y="7764"/>
                </a:cubicBezTo>
                <a:cubicBezTo>
                  <a:pt x="17537" y="7722"/>
                  <a:pt x="17521" y="7641"/>
                  <a:pt x="17487" y="7615"/>
                </a:cubicBezTo>
                <a:cubicBezTo>
                  <a:pt x="17434" y="7573"/>
                  <a:pt x="17381" y="7545"/>
                  <a:pt x="17314" y="7541"/>
                </a:cubicBezTo>
                <a:cubicBezTo>
                  <a:pt x="17297" y="7541"/>
                  <a:pt x="17281" y="7541"/>
                  <a:pt x="17264" y="75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000" y="3517920"/>
            <a:ext cx="546120" cy="492120"/>
          </a:xfrm>
          <a:custGeom>
            <a:avLst/>
            <a:gdLst/>
            <a:ahLst/>
            <a:rect l="l" t="t" r="r" b="b"/>
            <a:pathLst>
              <a:path w="1514" h="1365">
                <a:moveTo>
                  <a:pt x="15677" y="9996"/>
                </a:moveTo>
                <a:cubicBezTo>
                  <a:pt x="15677" y="9988"/>
                  <a:pt x="15677" y="9979"/>
                  <a:pt x="15677" y="9971"/>
                </a:cubicBezTo>
              </a:path>
              <a:path w="1514" h="1365">
                <a:moveTo>
                  <a:pt x="15652" y="10244"/>
                </a:moveTo>
                <a:cubicBezTo>
                  <a:pt x="15707" y="10349"/>
                  <a:pt x="15712" y="10434"/>
                  <a:pt x="15825" y="10443"/>
                </a:cubicBezTo>
                <a:cubicBezTo>
                  <a:pt x="15901" y="10449"/>
                  <a:pt x="15914" y="10391"/>
                  <a:pt x="15949" y="10344"/>
                </a:cubicBezTo>
                <a:cubicBezTo>
                  <a:pt x="15988" y="10291"/>
                  <a:pt x="16013" y="10210"/>
                  <a:pt x="16024" y="10145"/>
                </a:cubicBezTo>
                <a:cubicBezTo>
                  <a:pt x="16032" y="10096"/>
                  <a:pt x="16024" y="9886"/>
                  <a:pt x="16024" y="9922"/>
                </a:cubicBezTo>
                <a:cubicBezTo>
                  <a:pt x="16024" y="10029"/>
                  <a:pt x="16002" y="10108"/>
                  <a:pt x="15999" y="10220"/>
                </a:cubicBezTo>
                <a:cubicBezTo>
                  <a:pt x="15995" y="10373"/>
                  <a:pt x="16010" y="10519"/>
                  <a:pt x="16024" y="10666"/>
                </a:cubicBezTo>
                <a:cubicBezTo>
                  <a:pt x="16034" y="10779"/>
                  <a:pt x="16037" y="10859"/>
                  <a:pt x="16024" y="10964"/>
                </a:cubicBezTo>
                <a:cubicBezTo>
                  <a:pt x="16015" y="11039"/>
                  <a:pt x="16019" y="11115"/>
                  <a:pt x="15925" y="11137"/>
                </a:cubicBezTo>
                <a:cubicBezTo>
                  <a:pt x="15866" y="11151"/>
                  <a:pt x="15777" y="11143"/>
                  <a:pt x="15726" y="11112"/>
                </a:cubicBezTo>
                <a:cubicBezTo>
                  <a:pt x="15672" y="11080"/>
                  <a:pt x="15642" y="10971"/>
                  <a:pt x="15652" y="10914"/>
                </a:cubicBezTo>
                <a:cubicBezTo>
                  <a:pt x="15660" y="10889"/>
                  <a:pt x="15669" y="10865"/>
                  <a:pt x="15677" y="10840"/>
                </a:cubicBezTo>
              </a:path>
              <a:path w="1514" h="1365">
                <a:moveTo>
                  <a:pt x="16346" y="10096"/>
                </a:moveTo>
                <a:cubicBezTo>
                  <a:pt x="16455" y="10041"/>
                  <a:pt x="16533" y="9990"/>
                  <a:pt x="16619" y="9922"/>
                </a:cubicBezTo>
                <a:cubicBezTo>
                  <a:pt x="16673" y="9879"/>
                  <a:pt x="16694" y="9895"/>
                  <a:pt x="16694" y="9823"/>
                </a:cubicBezTo>
                <a:cubicBezTo>
                  <a:pt x="16694" y="9760"/>
                  <a:pt x="16642" y="9773"/>
                  <a:pt x="16594" y="9773"/>
                </a:cubicBezTo>
                <a:cubicBezTo>
                  <a:pt x="16499" y="9773"/>
                  <a:pt x="16437" y="9834"/>
                  <a:pt x="16371" y="9897"/>
                </a:cubicBezTo>
                <a:cubicBezTo>
                  <a:pt x="16292" y="9972"/>
                  <a:pt x="16233" y="10032"/>
                  <a:pt x="16222" y="10145"/>
                </a:cubicBezTo>
                <a:cubicBezTo>
                  <a:pt x="16218" y="10184"/>
                  <a:pt x="16241" y="10270"/>
                  <a:pt x="16272" y="10294"/>
                </a:cubicBezTo>
                <a:cubicBezTo>
                  <a:pt x="16324" y="10335"/>
                  <a:pt x="16357" y="10344"/>
                  <a:pt x="16421" y="10344"/>
                </a:cubicBezTo>
                <a:cubicBezTo>
                  <a:pt x="16508" y="10344"/>
                  <a:pt x="16573" y="10290"/>
                  <a:pt x="16644" y="10244"/>
                </a:cubicBezTo>
              </a:path>
              <a:path w="1514" h="1365">
                <a:moveTo>
                  <a:pt x="16991" y="9847"/>
                </a:moveTo>
                <a:cubicBezTo>
                  <a:pt x="16929" y="9883"/>
                  <a:pt x="16785" y="9943"/>
                  <a:pt x="16768" y="10021"/>
                </a:cubicBezTo>
                <a:cubicBezTo>
                  <a:pt x="16754" y="10084"/>
                  <a:pt x="16859" y="10105"/>
                  <a:pt x="16892" y="10120"/>
                </a:cubicBezTo>
                <a:cubicBezTo>
                  <a:pt x="16967" y="10153"/>
                  <a:pt x="17039" y="10188"/>
                  <a:pt x="17115" y="10220"/>
                </a:cubicBezTo>
                <a:cubicBezTo>
                  <a:pt x="17132" y="10228"/>
                  <a:pt x="17148" y="10236"/>
                  <a:pt x="17165" y="10244"/>
                </a:cubicBezTo>
                <a:cubicBezTo>
                  <a:pt x="17107" y="10302"/>
                  <a:pt x="17093" y="10280"/>
                  <a:pt x="17016" y="10294"/>
                </a:cubicBezTo>
                <a:cubicBezTo>
                  <a:pt x="16939" y="10314"/>
                  <a:pt x="16921" y="10306"/>
                  <a:pt x="16892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0240" y="3402000"/>
            <a:ext cx="446040" cy="403200"/>
          </a:xfrm>
          <a:custGeom>
            <a:avLst/>
            <a:gdLst/>
            <a:ahLst/>
            <a:rect l="l" t="t" r="r" b="b"/>
            <a:pathLst>
              <a:path w="1241" h="1117">
                <a:moveTo>
                  <a:pt x="18504" y="10294"/>
                </a:moveTo>
                <a:cubicBezTo>
                  <a:pt x="18486" y="10250"/>
                  <a:pt x="18474" y="10184"/>
                  <a:pt x="18455" y="10145"/>
                </a:cubicBezTo>
                <a:cubicBezTo>
                  <a:pt x="18426" y="10087"/>
                  <a:pt x="18370" y="10069"/>
                  <a:pt x="18331" y="10046"/>
                </a:cubicBezTo>
                <a:cubicBezTo>
                  <a:pt x="18270" y="10010"/>
                  <a:pt x="18242" y="10026"/>
                  <a:pt x="18182" y="10071"/>
                </a:cubicBezTo>
                <a:cubicBezTo>
                  <a:pt x="18142" y="10101"/>
                  <a:pt x="18094" y="10195"/>
                  <a:pt x="18083" y="10244"/>
                </a:cubicBezTo>
                <a:cubicBezTo>
                  <a:pt x="18069" y="10308"/>
                  <a:pt x="18072" y="10411"/>
                  <a:pt x="18107" y="10468"/>
                </a:cubicBezTo>
                <a:cubicBezTo>
                  <a:pt x="18127" y="10501"/>
                  <a:pt x="18224" y="10576"/>
                  <a:pt x="18256" y="10567"/>
                </a:cubicBezTo>
                <a:cubicBezTo>
                  <a:pt x="18335" y="10545"/>
                  <a:pt x="18415" y="10479"/>
                  <a:pt x="18430" y="10393"/>
                </a:cubicBezTo>
                <a:cubicBezTo>
                  <a:pt x="18457" y="10242"/>
                  <a:pt x="18439" y="10127"/>
                  <a:pt x="18430" y="9971"/>
                </a:cubicBezTo>
                <a:cubicBezTo>
                  <a:pt x="18422" y="9842"/>
                  <a:pt x="18421" y="9724"/>
                  <a:pt x="18405" y="9599"/>
                </a:cubicBezTo>
                <a:cubicBezTo>
                  <a:pt x="18397" y="9539"/>
                  <a:pt x="18406" y="9502"/>
                  <a:pt x="18380" y="9451"/>
                </a:cubicBezTo>
                <a:cubicBezTo>
                  <a:pt x="18375" y="9515"/>
                  <a:pt x="18345" y="9587"/>
                  <a:pt x="18355" y="9649"/>
                </a:cubicBezTo>
                <a:cubicBezTo>
                  <a:pt x="18378" y="9783"/>
                  <a:pt x="18412" y="9916"/>
                  <a:pt x="18455" y="10046"/>
                </a:cubicBezTo>
                <a:cubicBezTo>
                  <a:pt x="18488" y="10147"/>
                  <a:pt x="18524" y="10187"/>
                  <a:pt x="18579" y="10269"/>
                </a:cubicBezTo>
                <a:cubicBezTo>
                  <a:pt x="18622" y="10334"/>
                  <a:pt x="18625" y="10348"/>
                  <a:pt x="18703" y="10368"/>
                </a:cubicBezTo>
                <a:cubicBezTo>
                  <a:pt x="18711" y="10368"/>
                  <a:pt x="18720" y="10368"/>
                  <a:pt x="18728" y="10368"/>
                </a:cubicBezTo>
              </a:path>
              <a:path w="1241" h="1117">
                <a:moveTo>
                  <a:pt x="18951" y="9823"/>
                </a:moveTo>
                <a:cubicBezTo>
                  <a:pt x="19022" y="9844"/>
                  <a:pt x="19053" y="9847"/>
                  <a:pt x="19124" y="9847"/>
                </a:cubicBezTo>
                <a:cubicBezTo>
                  <a:pt x="19149" y="9847"/>
                  <a:pt x="19157" y="9847"/>
                  <a:pt x="19174" y="9847"/>
                </a:cubicBezTo>
              </a:path>
              <a:path w="1241" h="1117">
                <a:moveTo>
                  <a:pt x="19000" y="10120"/>
                </a:moveTo>
                <a:cubicBezTo>
                  <a:pt x="19071" y="10100"/>
                  <a:pt x="19153" y="10059"/>
                  <a:pt x="19224" y="10046"/>
                </a:cubicBezTo>
                <a:cubicBezTo>
                  <a:pt x="19275" y="10037"/>
                  <a:pt x="19316" y="10032"/>
                  <a:pt x="19323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97840" y="3321000"/>
            <a:ext cx="473040" cy="457200"/>
          </a:xfrm>
          <a:custGeom>
            <a:avLst/>
            <a:gdLst/>
            <a:ahLst/>
            <a:rect l="l" t="t" r="r" b="b"/>
            <a:pathLst>
              <a:path w="1315" h="1266">
                <a:moveTo>
                  <a:pt x="19993" y="9699"/>
                </a:moveTo>
                <a:cubicBezTo>
                  <a:pt x="20063" y="9699"/>
                  <a:pt x="20102" y="9677"/>
                  <a:pt x="20166" y="9674"/>
                </a:cubicBezTo>
                <a:cubicBezTo>
                  <a:pt x="20249" y="9670"/>
                  <a:pt x="20290" y="9668"/>
                  <a:pt x="20365" y="9649"/>
                </a:cubicBezTo>
                <a:cubicBezTo>
                  <a:pt x="20373" y="9649"/>
                  <a:pt x="20381" y="9649"/>
                  <a:pt x="20389" y="9649"/>
                </a:cubicBezTo>
              </a:path>
              <a:path w="1315" h="1266">
                <a:moveTo>
                  <a:pt x="20910" y="9351"/>
                </a:moveTo>
                <a:cubicBezTo>
                  <a:pt x="20980" y="9351"/>
                  <a:pt x="21021" y="9338"/>
                  <a:pt x="21084" y="9327"/>
                </a:cubicBezTo>
                <a:cubicBezTo>
                  <a:pt x="21169" y="9313"/>
                  <a:pt x="21254" y="9280"/>
                  <a:pt x="21307" y="9227"/>
                </a:cubicBezTo>
              </a:path>
              <a:path w="1315" h="1266">
                <a:moveTo>
                  <a:pt x="20786" y="9401"/>
                </a:moveTo>
                <a:cubicBezTo>
                  <a:pt x="20763" y="9466"/>
                  <a:pt x="20725" y="9533"/>
                  <a:pt x="20712" y="9599"/>
                </a:cubicBezTo>
                <a:cubicBezTo>
                  <a:pt x="20707" y="9623"/>
                  <a:pt x="20723" y="9690"/>
                  <a:pt x="20737" y="9699"/>
                </a:cubicBezTo>
                <a:cubicBezTo>
                  <a:pt x="20777" y="9724"/>
                  <a:pt x="20802" y="9681"/>
                  <a:pt x="20811" y="9674"/>
                </a:cubicBezTo>
                <a:cubicBezTo>
                  <a:pt x="20836" y="9654"/>
                  <a:pt x="20842" y="9652"/>
                  <a:pt x="20886" y="9649"/>
                </a:cubicBezTo>
                <a:cubicBezTo>
                  <a:pt x="20944" y="9646"/>
                  <a:pt x="20982" y="9674"/>
                  <a:pt x="21034" y="9699"/>
                </a:cubicBezTo>
                <a:cubicBezTo>
                  <a:pt x="21101" y="9732"/>
                  <a:pt x="21173" y="9806"/>
                  <a:pt x="21208" y="9872"/>
                </a:cubicBezTo>
                <a:cubicBezTo>
                  <a:pt x="21252" y="9955"/>
                  <a:pt x="21258" y="10028"/>
                  <a:pt x="21258" y="10120"/>
                </a:cubicBezTo>
                <a:cubicBezTo>
                  <a:pt x="21258" y="10189"/>
                  <a:pt x="21229" y="10244"/>
                  <a:pt x="21183" y="10294"/>
                </a:cubicBezTo>
                <a:cubicBezTo>
                  <a:pt x="21127" y="10355"/>
                  <a:pt x="21058" y="10381"/>
                  <a:pt x="20985" y="10418"/>
                </a:cubicBezTo>
                <a:cubicBezTo>
                  <a:pt x="20926" y="10448"/>
                  <a:pt x="20852" y="10465"/>
                  <a:pt x="20786" y="10468"/>
                </a:cubicBezTo>
                <a:cubicBezTo>
                  <a:pt x="20702" y="10472"/>
                  <a:pt x="20640" y="10483"/>
                  <a:pt x="20563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erm of an arithmetic sequence is in the form</a:t>
            </a:r>
            <a:br>
              <a:rPr sz="4000"/>
            </a:b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1" lang="en-US" sz="5500" spc="-1" strike="noStrike" baseline="-25000">
                <a:solidFill>
                  <a:srgbClr val="ccecff"/>
                </a:solidFill>
                <a:latin typeface="Arial"/>
              </a:rPr>
              <a:t>n</a:t>
            </a: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1" lang="en-US" sz="55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 + (n – 1)d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an expression for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for an arithmetic sequence whe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15 and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18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4280" y="2643120"/>
            <a:ext cx="4224600" cy="946080"/>
          </a:xfrm>
          <a:custGeom>
            <a:avLst/>
            <a:gdLst/>
            <a:ahLst/>
            <a:rect l="l" t="t" r="r" b="b"/>
            <a:pathLst>
              <a:path w="11734" h="2630">
                <a:moveTo>
                  <a:pt x="3671" y="8731"/>
                </a:moveTo>
                <a:cubicBezTo>
                  <a:pt x="3645" y="8796"/>
                  <a:pt x="3608" y="8883"/>
                  <a:pt x="3597" y="8954"/>
                </a:cubicBezTo>
                <a:cubicBezTo>
                  <a:pt x="3581" y="9059"/>
                  <a:pt x="3557" y="9149"/>
                  <a:pt x="3522" y="9252"/>
                </a:cubicBezTo>
                <a:cubicBezTo>
                  <a:pt x="3497" y="9326"/>
                  <a:pt x="3472" y="9404"/>
                  <a:pt x="3448" y="9475"/>
                </a:cubicBezTo>
                <a:cubicBezTo>
                  <a:pt x="3423" y="9549"/>
                  <a:pt x="3400" y="9564"/>
                  <a:pt x="3373" y="9599"/>
                </a:cubicBezTo>
                <a:cubicBezTo>
                  <a:pt x="3378" y="9563"/>
                  <a:pt x="3393" y="9586"/>
                  <a:pt x="3398" y="9550"/>
                </a:cubicBezTo>
                <a:cubicBezTo>
                  <a:pt x="3412" y="9452"/>
                  <a:pt x="3446" y="9375"/>
                  <a:pt x="3473" y="9277"/>
                </a:cubicBezTo>
                <a:cubicBezTo>
                  <a:pt x="3560" y="8966"/>
                  <a:pt x="3619" y="8648"/>
                  <a:pt x="3696" y="8334"/>
                </a:cubicBezTo>
                <a:cubicBezTo>
                  <a:pt x="3746" y="8131"/>
                  <a:pt x="3788" y="7950"/>
                  <a:pt x="3870" y="7764"/>
                </a:cubicBezTo>
                <a:cubicBezTo>
                  <a:pt x="3906" y="7682"/>
                  <a:pt x="3918" y="7592"/>
                  <a:pt x="3969" y="7516"/>
                </a:cubicBezTo>
                <a:cubicBezTo>
                  <a:pt x="3997" y="7474"/>
                  <a:pt x="4046" y="7406"/>
                  <a:pt x="4093" y="7392"/>
                </a:cubicBezTo>
                <a:cubicBezTo>
                  <a:pt x="4136" y="7380"/>
                  <a:pt x="4161" y="7398"/>
                  <a:pt x="4192" y="7417"/>
                </a:cubicBezTo>
                <a:cubicBezTo>
                  <a:pt x="4263" y="7461"/>
                  <a:pt x="4288" y="7542"/>
                  <a:pt x="4316" y="7615"/>
                </a:cubicBezTo>
                <a:cubicBezTo>
                  <a:pt x="4359" y="7728"/>
                  <a:pt x="4386" y="7845"/>
                  <a:pt x="4415" y="7962"/>
                </a:cubicBezTo>
                <a:cubicBezTo>
                  <a:pt x="4450" y="8100"/>
                  <a:pt x="4460" y="8243"/>
                  <a:pt x="4490" y="8384"/>
                </a:cubicBezTo>
                <a:cubicBezTo>
                  <a:pt x="4522" y="8533"/>
                  <a:pt x="4553" y="8682"/>
                  <a:pt x="4589" y="8830"/>
                </a:cubicBezTo>
                <a:cubicBezTo>
                  <a:pt x="4618" y="8947"/>
                  <a:pt x="4629" y="9065"/>
                  <a:pt x="4663" y="9178"/>
                </a:cubicBezTo>
                <a:cubicBezTo>
                  <a:pt x="4681" y="9238"/>
                  <a:pt x="4721" y="9382"/>
                  <a:pt x="4762" y="9426"/>
                </a:cubicBezTo>
                <a:cubicBezTo>
                  <a:pt x="4785" y="9449"/>
                  <a:pt x="4789" y="9457"/>
                  <a:pt x="4812" y="9451"/>
                </a:cubicBezTo>
                <a:cubicBezTo>
                  <a:pt x="4768" y="9421"/>
                  <a:pt x="4784" y="9428"/>
                  <a:pt x="4738" y="9401"/>
                </a:cubicBezTo>
                <a:cubicBezTo>
                  <a:pt x="4721" y="9393"/>
                  <a:pt x="4705" y="9384"/>
                  <a:pt x="4688" y="9376"/>
                </a:cubicBezTo>
              </a:path>
              <a:path w="11734" h="2630">
                <a:moveTo>
                  <a:pt x="3721" y="9178"/>
                </a:moveTo>
                <a:cubicBezTo>
                  <a:pt x="3906" y="9183"/>
                  <a:pt x="4082" y="9193"/>
                  <a:pt x="4266" y="9203"/>
                </a:cubicBezTo>
              </a:path>
              <a:path w="11734" h="2630">
                <a:moveTo>
                  <a:pt x="5209" y="9525"/>
                </a:moveTo>
                <a:cubicBezTo>
                  <a:pt x="5191" y="9624"/>
                  <a:pt x="5184" y="9700"/>
                  <a:pt x="5184" y="9798"/>
                </a:cubicBezTo>
                <a:cubicBezTo>
                  <a:pt x="5184" y="9854"/>
                  <a:pt x="5177" y="9880"/>
                  <a:pt x="5209" y="9922"/>
                </a:cubicBezTo>
                <a:cubicBezTo>
                  <a:pt x="5241" y="9879"/>
                  <a:pt x="5254" y="9854"/>
                  <a:pt x="5259" y="9798"/>
                </a:cubicBezTo>
                <a:cubicBezTo>
                  <a:pt x="5262" y="9758"/>
                  <a:pt x="5269" y="9661"/>
                  <a:pt x="5283" y="9624"/>
                </a:cubicBezTo>
                <a:cubicBezTo>
                  <a:pt x="5303" y="9572"/>
                  <a:pt x="5319" y="9503"/>
                  <a:pt x="5333" y="9451"/>
                </a:cubicBezTo>
                <a:cubicBezTo>
                  <a:pt x="5342" y="9420"/>
                  <a:pt x="5371" y="9367"/>
                  <a:pt x="5407" y="9351"/>
                </a:cubicBezTo>
                <a:cubicBezTo>
                  <a:pt x="5444" y="9335"/>
                  <a:pt x="5472" y="9327"/>
                  <a:pt x="5507" y="9351"/>
                </a:cubicBezTo>
                <a:cubicBezTo>
                  <a:pt x="5548" y="9379"/>
                  <a:pt x="5591" y="9421"/>
                  <a:pt x="5631" y="9451"/>
                </a:cubicBezTo>
                <a:cubicBezTo>
                  <a:pt x="5684" y="9490"/>
                  <a:pt x="5678" y="9574"/>
                  <a:pt x="5705" y="9624"/>
                </a:cubicBezTo>
                <a:cubicBezTo>
                  <a:pt x="5742" y="9692"/>
                  <a:pt x="5760" y="9782"/>
                  <a:pt x="5779" y="9847"/>
                </a:cubicBezTo>
                <a:cubicBezTo>
                  <a:pt x="5779" y="9875"/>
                  <a:pt x="5781" y="9886"/>
                  <a:pt x="5804" y="9897"/>
                </a:cubicBezTo>
                <a:cubicBezTo>
                  <a:pt x="5844" y="9884"/>
                  <a:pt x="5874" y="9821"/>
                  <a:pt x="5904" y="9773"/>
                </a:cubicBezTo>
              </a:path>
              <a:path w="11734" h="2630">
                <a:moveTo>
                  <a:pt x="6077" y="8508"/>
                </a:moveTo>
                <a:cubicBezTo>
                  <a:pt x="6301" y="8508"/>
                  <a:pt x="6532" y="8497"/>
                  <a:pt x="6747" y="8533"/>
                </a:cubicBezTo>
                <a:cubicBezTo>
                  <a:pt x="6788" y="8540"/>
                  <a:pt x="6862" y="8533"/>
                  <a:pt x="6821" y="8533"/>
                </a:cubicBezTo>
                <a:cubicBezTo>
                  <a:pt x="6805" y="8533"/>
                  <a:pt x="6788" y="8533"/>
                  <a:pt x="6772" y="8533"/>
                </a:cubicBezTo>
              </a:path>
              <a:path w="11734" h="2630">
                <a:moveTo>
                  <a:pt x="6127" y="8855"/>
                </a:moveTo>
                <a:cubicBezTo>
                  <a:pt x="6288" y="8875"/>
                  <a:pt x="6374" y="8869"/>
                  <a:pt x="6524" y="8855"/>
                </a:cubicBezTo>
                <a:cubicBezTo>
                  <a:pt x="6697" y="8839"/>
                  <a:pt x="7169" y="8855"/>
                  <a:pt x="6995" y="8855"/>
                </a:cubicBezTo>
                <a:cubicBezTo>
                  <a:pt x="6987" y="8855"/>
                  <a:pt x="6978" y="8855"/>
                  <a:pt x="6970" y="8855"/>
                </a:cubicBezTo>
              </a:path>
              <a:path w="11734" h="2630">
                <a:moveTo>
                  <a:pt x="7789" y="7764"/>
                </a:moveTo>
                <a:cubicBezTo>
                  <a:pt x="7789" y="7957"/>
                  <a:pt x="7778" y="8145"/>
                  <a:pt x="7764" y="8334"/>
                </a:cubicBezTo>
                <a:cubicBezTo>
                  <a:pt x="7752" y="8491"/>
                  <a:pt x="7763" y="8650"/>
                  <a:pt x="7739" y="8806"/>
                </a:cubicBezTo>
                <a:cubicBezTo>
                  <a:pt x="7721" y="8928"/>
                  <a:pt x="7714" y="9058"/>
                  <a:pt x="7689" y="9178"/>
                </a:cubicBezTo>
                <a:cubicBezTo>
                  <a:pt x="7673" y="9257"/>
                  <a:pt x="7665" y="9320"/>
                  <a:pt x="7665" y="9401"/>
                </a:cubicBezTo>
                <a:cubicBezTo>
                  <a:pt x="7677" y="9376"/>
                  <a:pt x="7740" y="9297"/>
                  <a:pt x="7764" y="9252"/>
                </a:cubicBezTo>
                <a:cubicBezTo>
                  <a:pt x="7772" y="9227"/>
                  <a:pt x="7781" y="9203"/>
                  <a:pt x="7789" y="9178"/>
                </a:cubicBezTo>
              </a:path>
              <a:path w="11734" h="2630">
                <a:moveTo>
                  <a:pt x="8359" y="7714"/>
                </a:moveTo>
                <a:cubicBezTo>
                  <a:pt x="8443" y="7742"/>
                  <a:pt x="8516" y="7739"/>
                  <a:pt x="8607" y="7739"/>
                </a:cubicBezTo>
                <a:cubicBezTo>
                  <a:pt x="8704" y="7739"/>
                  <a:pt x="8834" y="7730"/>
                  <a:pt x="8930" y="7714"/>
                </a:cubicBezTo>
                <a:cubicBezTo>
                  <a:pt x="8975" y="7706"/>
                  <a:pt x="9118" y="7705"/>
                  <a:pt x="9153" y="7665"/>
                </a:cubicBezTo>
                <a:cubicBezTo>
                  <a:pt x="9153" y="7657"/>
                  <a:pt x="9153" y="7648"/>
                  <a:pt x="9153" y="7640"/>
                </a:cubicBezTo>
              </a:path>
              <a:path w="11734" h="2630">
                <a:moveTo>
                  <a:pt x="8409" y="7665"/>
                </a:moveTo>
                <a:cubicBezTo>
                  <a:pt x="8364" y="7769"/>
                  <a:pt x="8363" y="7836"/>
                  <a:pt x="8334" y="7938"/>
                </a:cubicBezTo>
                <a:cubicBezTo>
                  <a:pt x="8313" y="8012"/>
                  <a:pt x="8289" y="8081"/>
                  <a:pt x="8285" y="8161"/>
                </a:cubicBezTo>
                <a:cubicBezTo>
                  <a:pt x="8281" y="8235"/>
                  <a:pt x="8290" y="8276"/>
                  <a:pt x="8310" y="8334"/>
                </a:cubicBezTo>
                <a:cubicBezTo>
                  <a:pt x="8362" y="8321"/>
                  <a:pt x="8365" y="8325"/>
                  <a:pt x="8409" y="8285"/>
                </a:cubicBezTo>
                <a:cubicBezTo>
                  <a:pt x="8458" y="8241"/>
                  <a:pt x="8496" y="8178"/>
                  <a:pt x="8558" y="8161"/>
                </a:cubicBezTo>
                <a:cubicBezTo>
                  <a:pt x="8612" y="8146"/>
                  <a:pt x="8659" y="8167"/>
                  <a:pt x="8706" y="8186"/>
                </a:cubicBezTo>
                <a:cubicBezTo>
                  <a:pt x="8758" y="8208"/>
                  <a:pt x="8851" y="8308"/>
                  <a:pt x="8880" y="8359"/>
                </a:cubicBezTo>
                <a:cubicBezTo>
                  <a:pt x="8932" y="8451"/>
                  <a:pt x="8991" y="8576"/>
                  <a:pt x="9004" y="8682"/>
                </a:cubicBezTo>
                <a:cubicBezTo>
                  <a:pt x="9019" y="8807"/>
                  <a:pt x="9012" y="8967"/>
                  <a:pt x="8954" y="9079"/>
                </a:cubicBezTo>
                <a:cubicBezTo>
                  <a:pt x="8907" y="9170"/>
                  <a:pt x="8742" y="9275"/>
                  <a:pt x="8657" y="9302"/>
                </a:cubicBezTo>
                <a:cubicBezTo>
                  <a:pt x="8593" y="9322"/>
                  <a:pt x="8441" y="9312"/>
                  <a:pt x="8384" y="9277"/>
                </a:cubicBezTo>
                <a:cubicBezTo>
                  <a:pt x="8336" y="9247"/>
                  <a:pt x="8340" y="9200"/>
                  <a:pt x="8334" y="9153"/>
                </a:cubicBezTo>
              </a:path>
              <a:path w="11734" h="2630">
                <a:moveTo>
                  <a:pt x="9847" y="8161"/>
                </a:moveTo>
                <a:cubicBezTo>
                  <a:pt x="9847" y="8388"/>
                  <a:pt x="9847" y="8609"/>
                  <a:pt x="9872" y="8830"/>
                </a:cubicBezTo>
                <a:cubicBezTo>
                  <a:pt x="9880" y="8899"/>
                  <a:pt x="9891" y="8964"/>
                  <a:pt x="9897" y="9029"/>
                </a:cubicBezTo>
                <a:cubicBezTo>
                  <a:pt x="9901" y="9065"/>
                  <a:pt x="9913" y="9118"/>
                  <a:pt x="9897" y="9054"/>
                </a:cubicBezTo>
                <a:cubicBezTo>
                  <a:pt x="9897" y="9046"/>
                  <a:pt x="9897" y="9037"/>
                  <a:pt x="9897" y="9029"/>
                </a:cubicBezTo>
              </a:path>
              <a:path w="11734" h="2630">
                <a:moveTo>
                  <a:pt x="9525" y="8533"/>
                </a:moveTo>
                <a:cubicBezTo>
                  <a:pt x="9702" y="8533"/>
                  <a:pt x="9872" y="8521"/>
                  <a:pt x="10046" y="8508"/>
                </a:cubicBezTo>
                <a:cubicBezTo>
                  <a:pt x="10079" y="8508"/>
                  <a:pt x="10112" y="8508"/>
                  <a:pt x="10145" y="8508"/>
                </a:cubicBezTo>
              </a:path>
              <a:path w="11734" h="2630">
                <a:moveTo>
                  <a:pt x="11187" y="7640"/>
                </a:moveTo>
                <a:cubicBezTo>
                  <a:pt x="11094" y="7732"/>
                  <a:pt x="11056" y="7804"/>
                  <a:pt x="10988" y="7913"/>
                </a:cubicBezTo>
                <a:cubicBezTo>
                  <a:pt x="10887" y="8073"/>
                  <a:pt x="10832" y="8235"/>
                  <a:pt x="10765" y="8409"/>
                </a:cubicBezTo>
                <a:cubicBezTo>
                  <a:pt x="10702" y="8573"/>
                  <a:pt x="10679" y="8734"/>
                  <a:pt x="10641" y="8905"/>
                </a:cubicBezTo>
                <a:cubicBezTo>
                  <a:pt x="10614" y="9027"/>
                  <a:pt x="10595" y="9176"/>
                  <a:pt x="10616" y="9302"/>
                </a:cubicBezTo>
                <a:cubicBezTo>
                  <a:pt x="10628" y="9374"/>
                  <a:pt x="10641" y="9450"/>
                  <a:pt x="10716" y="9475"/>
                </a:cubicBezTo>
                <a:cubicBezTo>
                  <a:pt x="10761" y="9490"/>
                  <a:pt x="10800" y="9465"/>
                  <a:pt x="10840" y="9451"/>
                </a:cubicBezTo>
              </a:path>
              <a:path w="11734" h="2630">
                <a:moveTo>
                  <a:pt x="11212" y="8706"/>
                </a:moveTo>
                <a:cubicBezTo>
                  <a:pt x="11212" y="8814"/>
                  <a:pt x="11192" y="8901"/>
                  <a:pt x="11187" y="9004"/>
                </a:cubicBezTo>
                <a:cubicBezTo>
                  <a:pt x="11183" y="9086"/>
                  <a:pt x="11208" y="9150"/>
                  <a:pt x="11212" y="9227"/>
                </a:cubicBezTo>
                <a:cubicBezTo>
                  <a:pt x="11214" y="9268"/>
                  <a:pt x="11212" y="9310"/>
                  <a:pt x="11212" y="9351"/>
                </a:cubicBezTo>
                <a:cubicBezTo>
                  <a:pt x="11225" y="9331"/>
                  <a:pt x="11253" y="9303"/>
                  <a:pt x="11261" y="9252"/>
                </a:cubicBezTo>
                <a:cubicBezTo>
                  <a:pt x="11273" y="9178"/>
                  <a:pt x="11268" y="9102"/>
                  <a:pt x="11286" y="9029"/>
                </a:cubicBezTo>
                <a:cubicBezTo>
                  <a:pt x="11313" y="8922"/>
                  <a:pt x="11335" y="8811"/>
                  <a:pt x="11361" y="8706"/>
                </a:cubicBezTo>
                <a:cubicBezTo>
                  <a:pt x="11386" y="8604"/>
                  <a:pt x="11411" y="8589"/>
                  <a:pt x="11485" y="8533"/>
                </a:cubicBezTo>
                <a:cubicBezTo>
                  <a:pt x="11540" y="8491"/>
                  <a:pt x="11572" y="8507"/>
                  <a:pt x="11633" y="8533"/>
                </a:cubicBezTo>
                <a:cubicBezTo>
                  <a:pt x="11723" y="8571"/>
                  <a:pt x="11764" y="8648"/>
                  <a:pt x="11807" y="8731"/>
                </a:cubicBezTo>
                <a:cubicBezTo>
                  <a:pt x="11856" y="8824"/>
                  <a:pt x="11915" y="8948"/>
                  <a:pt x="11931" y="9054"/>
                </a:cubicBezTo>
                <a:cubicBezTo>
                  <a:pt x="11944" y="9139"/>
                  <a:pt x="11934" y="9245"/>
                  <a:pt x="11956" y="9327"/>
                </a:cubicBezTo>
                <a:cubicBezTo>
                  <a:pt x="11967" y="9369"/>
                  <a:pt x="11945" y="9427"/>
                  <a:pt x="11981" y="9451"/>
                </a:cubicBezTo>
                <a:cubicBezTo>
                  <a:pt x="12019" y="9477"/>
                  <a:pt x="12003" y="9413"/>
                  <a:pt x="12005" y="9401"/>
                </a:cubicBezTo>
              </a:path>
              <a:path w="11734" h="2630">
                <a:moveTo>
                  <a:pt x="12204" y="8830"/>
                </a:moveTo>
                <a:cubicBezTo>
                  <a:pt x="12328" y="8837"/>
                  <a:pt x="12452" y="8867"/>
                  <a:pt x="12576" y="8855"/>
                </a:cubicBezTo>
                <a:cubicBezTo>
                  <a:pt x="12699" y="8843"/>
                  <a:pt x="12794" y="8861"/>
                  <a:pt x="12874" y="8781"/>
                </a:cubicBezTo>
              </a:path>
              <a:path w="11734" h="2630">
                <a:moveTo>
                  <a:pt x="13072" y="8508"/>
                </a:moveTo>
                <a:cubicBezTo>
                  <a:pt x="13099" y="8644"/>
                  <a:pt x="13086" y="8720"/>
                  <a:pt x="13072" y="8855"/>
                </a:cubicBezTo>
                <a:cubicBezTo>
                  <a:pt x="13062" y="8955"/>
                  <a:pt x="13052" y="9054"/>
                  <a:pt x="13047" y="9153"/>
                </a:cubicBezTo>
                <a:cubicBezTo>
                  <a:pt x="13044" y="9222"/>
                  <a:pt x="13072" y="9281"/>
                  <a:pt x="13072" y="9351"/>
                </a:cubicBezTo>
                <a:cubicBezTo>
                  <a:pt x="13072" y="9359"/>
                  <a:pt x="13072" y="9368"/>
                  <a:pt x="13072" y="9376"/>
                </a:cubicBezTo>
                <a:cubicBezTo>
                  <a:pt x="13097" y="9368"/>
                  <a:pt x="13115" y="9318"/>
                  <a:pt x="13122" y="9277"/>
                </a:cubicBezTo>
                <a:cubicBezTo>
                  <a:pt x="13122" y="9260"/>
                  <a:pt x="13122" y="9244"/>
                  <a:pt x="13122" y="9227"/>
                </a:cubicBezTo>
              </a:path>
              <a:path w="11734" h="2630">
                <a:moveTo>
                  <a:pt x="13047" y="7342"/>
                </a:moveTo>
                <a:cubicBezTo>
                  <a:pt x="13203" y="7398"/>
                  <a:pt x="13312" y="7527"/>
                  <a:pt x="13419" y="7665"/>
                </a:cubicBezTo>
                <a:cubicBezTo>
                  <a:pt x="13556" y="7841"/>
                  <a:pt x="13646" y="8007"/>
                  <a:pt x="13742" y="8210"/>
                </a:cubicBezTo>
                <a:cubicBezTo>
                  <a:pt x="13870" y="8480"/>
                  <a:pt x="13965" y="8748"/>
                  <a:pt x="13965" y="9054"/>
                </a:cubicBezTo>
                <a:cubicBezTo>
                  <a:pt x="13965" y="9217"/>
                  <a:pt x="13905" y="9426"/>
                  <a:pt x="13841" y="9575"/>
                </a:cubicBezTo>
                <a:cubicBezTo>
                  <a:pt x="13784" y="9707"/>
                  <a:pt x="13744" y="9752"/>
                  <a:pt x="13643" y="9847"/>
                </a:cubicBezTo>
                <a:cubicBezTo>
                  <a:pt x="13610" y="9879"/>
                  <a:pt x="13542" y="9962"/>
                  <a:pt x="13494" y="9971"/>
                </a:cubicBezTo>
                <a:cubicBezTo>
                  <a:pt x="13466" y="9976"/>
                  <a:pt x="13416" y="9966"/>
                  <a:pt x="13444" y="9971"/>
                </a:cubicBezTo>
                <a:cubicBezTo>
                  <a:pt x="13469" y="9971"/>
                  <a:pt x="13477" y="9971"/>
                  <a:pt x="13494" y="9971"/>
                </a:cubicBezTo>
              </a:path>
              <a:path w="11734" h="2630">
                <a:moveTo>
                  <a:pt x="14337" y="7962"/>
                </a:moveTo>
                <a:cubicBezTo>
                  <a:pt x="14293" y="7962"/>
                  <a:pt x="14280" y="7965"/>
                  <a:pt x="14263" y="7938"/>
                </a:cubicBezTo>
                <a:cubicBezTo>
                  <a:pt x="14277" y="7920"/>
                  <a:pt x="14288" y="7895"/>
                  <a:pt x="14312" y="7863"/>
                </a:cubicBezTo>
                <a:cubicBezTo>
                  <a:pt x="14342" y="7822"/>
                  <a:pt x="14395" y="7789"/>
                  <a:pt x="14436" y="7764"/>
                </a:cubicBezTo>
                <a:cubicBezTo>
                  <a:pt x="14507" y="7722"/>
                  <a:pt x="14522" y="7679"/>
                  <a:pt x="14610" y="7665"/>
                </a:cubicBezTo>
                <a:cubicBezTo>
                  <a:pt x="14692" y="7652"/>
                  <a:pt x="14709" y="7657"/>
                  <a:pt x="14784" y="7665"/>
                </a:cubicBezTo>
                <a:cubicBezTo>
                  <a:pt x="14844" y="7671"/>
                  <a:pt x="14891" y="7694"/>
                  <a:pt x="14908" y="7764"/>
                </a:cubicBezTo>
                <a:cubicBezTo>
                  <a:pt x="14927" y="7846"/>
                  <a:pt x="14889" y="7940"/>
                  <a:pt x="14858" y="8012"/>
                </a:cubicBezTo>
                <a:cubicBezTo>
                  <a:pt x="14831" y="8074"/>
                  <a:pt x="14784" y="8167"/>
                  <a:pt x="14734" y="8210"/>
                </a:cubicBezTo>
                <a:cubicBezTo>
                  <a:pt x="14682" y="8255"/>
                  <a:pt x="14642" y="8292"/>
                  <a:pt x="14585" y="8334"/>
                </a:cubicBezTo>
                <a:cubicBezTo>
                  <a:pt x="14575" y="8341"/>
                  <a:pt x="14569" y="8375"/>
                  <a:pt x="14560" y="8384"/>
                </a:cubicBezTo>
                <a:cubicBezTo>
                  <a:pt x="14585" y="8349"/>
                  <a:pt x="14600" y="8336"/>
                  <a:pt x="14635" y="8310"/>
                </a:cubicBezTo>
                <a:cubicBezTo>
                  <a:pt x="14675" y="8280"/>
                  <a:pt x="14685" y="8288"/>
                  <a:pt x="14734" y="8285"/>
                </a:cubicBezTo>
                <a:cubicBezTo>
                  <a:pt x="14792" y="8282"/>
                  <a:pt x="14834" y="8327"/>
                  <a:pt x="14883" y="8359"/>
                </a:cubicBezTo>
                <a:cubicBezTo>
                  <a:pt x="14947" y="8401"/>
                  <a:pt x="15064" y="8527"/>
                  <a:pt x="15081" y="8607"/>
                </a:cubicBezTo>
                <a:cubicBezTo>
                  <a:pt x="15101" y="8700"/>
                  <a:pt x="15116" y="8789"/>
                  <a:pt x="15081" y="8880"/>
                </a:cubicBezTo>
                <a:cubicBezTo>
                  <a:pt x="15051" y="8959"/>
                  <a:pt x="15001" y="9007"/>
                  <a:pt x="14932" y="9054"/>
                </a:cubicBezTo>
                <a:cubicBezTo>
                  <a:pt x="14869" y="9096"/>
                  <a:pt x="14779" y="9119"/>
                  <a:pt x="14709" y="9128"/>
                </a:cubicBezTo>
                <a:cubicBezTo>
                  <a:pt x="14655" y="9135"/>
                  <a:pt x="14541" y="9118"/>
                  <a:pt x="14486" y="9103"/>
                </a:cubicBezTo>
                <a:cubicBezTo>
                  <a:pt x="14458" y="9096"/>
                  <a:pt x="14349" y="9058"/>
                  <a:pt x="14337" y="9029"/>
                </a:cubicBezTo>
                <a:cubicBezTo>
                  <a:pt x="14324" y="8998"/>
                  <a:pt x="14330" y="8954"/>
                  <a:pt x="14362" y="8954"/>
                </a:cubicBezTo>
                <a:cubicBezTo>
                  <a:pt x="14362" y="8962"/>
                  <a:pt x="14362" y="8971"/>
                  <a:pt x="14362" y="89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82800" y="2490840"/>
            <a:ext cx="4295520" cy="2590920"/>
          </a:xfrm>
          <a:custGeom>
            <a:avLst/>
            <a:gdLst/>
            <a:ahLst/>
            <a:rect l="l" t="t" r="r" b="b"/>
            <a:pathLst>
              <a:path w="11932" h="7194">
                <a:moveTo>
                  <a:pt x="4118" y="11509"/>
                </a:moveTo>
                <a:cubicBezTo>
                  <a:pt x="4092" y="11636"/>
                  <a:pt x="4078" y="11759"/>
                  <a:pt x="4043" y="11881"/>
                </a:cubicBezTo>
                <a:cubicBezTo>
                  <a:pt x="4017" y="11972"/>
                  <a:pt x="3994" y="12067"/>
                  <a:pt x="3969" y="12154"/>
                </a:cubicBezTo>
                <a:cubicBezTo>
                  <a:pt x="3957" y="12196"/>
                  <a:pt x="3913" y="12245"/>
                  <a:pt x="3894" y="12278"/>
                </a:cubicBezTo>
                <a:cubicBezTo>
                  <a:pt x="3872" y="12218"/>
                  <a:pt x="3870" y="12181"/>
                  <a:pt x="3870" y="12105"/>
                </a:cubicBezTo>
                <a:cubicBezTo>
                  <a:pt x="3870" y="11998"/>
                  <a:pt x="3895" y="11887"/>
                  <a:pt x="3919" y="11782"/>
                </a:cubicBezTo>
                <a:cubicBezTo>
                  <a:pt x="3951" y="11642"/>
                  <a:pt x="3984" y="11501"/>
                  <a:pt x="4018" y="11361"/>
                </a:cubicBezTo>
                <a:cubicBezTo>
                  <a:pt x="4078" y="11111"/>
                  <a:pt x="4133" y="10849"/>
                  <a:pt x="4242" y="10616"/>
                </a:cubicBezTo>
                <a:cubicBezTo>
                  <a:pt x="4268" y="10561"/>
                  <a:pt x="4308" y="10517"/>
                  <a:pt x="4341" y="10468"/>
                </a:cubicBezTo>
                <a:cubicBezTo>
                  <a:pt x="4379" y="10517"/>
                  <a:pt x="4386" y="10535"/>
                  <a:pt x="4415" y="10592"/>
                </a:cubicBezTo>
                <a:cubicBezTo>
                  <a:pt x="4455" y="10671"/>
                  <a:pt x="4468" y="10776"/>
                  <a:pt x="4490" y="10864"/>
                </a:cubicBezTo>
                <a:cubicBezTo>
                  <a:pt x="4561" y="11147"/>
                  <a:pt x="4623" y="11434"/>
                  <a:pt x="4713" y="11708"/>
                </a:cubicBezTo>
                <a:cubicBezTo>
                  <a:pt x="4750" y="11821"/>
                  <a:pt x="4796" y="11962"/>
                  <a:pt x="4812" y="12080"/>
                </a:cubicBezTo>
                <a:cubicBezTo>
                  <a:pt x="4817" y="12117"/>
                  <a:pt x="4878" y="12276"/>
                  <a:pt x="4862" y="12303"/>
                </a:cubicBezTo>
                <a:cubicBezTo>
                  <a:pt x="4862" y="12338"/>
                  <a:pt x="4857" y="12337"/>
                  <a:pt x="4837" y="12278"/>
                </a:cubicBezTo>
              </a:path>
              <a:path w="11932" h="7194">
                <a:moveTo>
                  <a:pt x="4093" y="11931"/>
                </a:moveTo>
                <a:cubicBezTo>
                  <a:pt x="4166" y="11931"/>
                  <a:pt x="4218" y="11953"/>
                  <a:pt x="4291" y="11956"/>
                </a:cubicBezTo>
                <a:cubicBezTo>
                  <a:pt x="4365" y="11960"/>
                  <a:pt x="4440" y="11956"/>
                  <a:pt x="4514" y="11956"/>
                </a:cubicBezTo>
              </a:path>
              <a:path w="11932" h="7194">
                <a:moveTo>
                  <a:pt x="5234" y="12254"/>
                </a:moveTo>
                <a:cubicBezTo>
                  <a:pt x="5240" y="12335"/>
                  <a:pt x="5259" y="12397"/>
                  <a:pt x="5259" y="12477"/>
                </a:cubicBezTo>
                <a:cubicBezTo>
                  <a:pt x="5259" y="12535"/>
                  <a:pt x="5259" y="12592"/>
                  <a:pt x="5259" y="12650"/>
                </a:cubicBezTo>
                <a:cubicBezTo>
                  <a:pt x="5221" y="12638"/>
                  <a:pt x="5234" y="12621"/>
                  <a:pt x="5234" y="12576"/>
                </a:cubicBezTo>
                <a:cubicBezTo>
                  <a:pt x="5234" y="12504"/>
                  <a:pt x="5239" y="12421"/>
                  <a:pt x="5259" y="12353"/>
                </a:cubicBezTo>
                <a:cubicBezTo>
                  <a:pt x="5280" y="12282"/>
                  <a:pt x="5299" y="12222"/>
                  <a:pt x="5333" y="12154"/>
                </a:cubicBezTo>
                <a:cubicBezTo>
                  <a:pt x="5375" y="12071"/>
                  <a:pt x="5417" y="12087"/>
                  <a:pt x="5482" y="12055"/>
                </a:cubicBezTo>
                <a:cubicBezTo>
                  <a:pt x="5557" y="12017"/>
                  <a:pt x="5630" y="12067"/>
                  <a:pt x="5680" y="12129"/>
                </a:cubicBezTo>
                <a:cubicBezTo>
                  <a:pt x="5734" y="12197"/>
                  <a:pt x="5773" y="12270"/>
                  <a:pt x="5804" y="12353"/>
                </a:cubicBezTo>
                <a:cubicBezTo>
                  <a:pt x="5836" y="12438"/>
                  <a:pt x="5850" y="12537"/>
                  <a:pt x="5854" y="12626"/>
                </a:cubicBezTo>
                <a:cubicBezTo>
                  <a:pt x="5855" y="12644"/>
                  <a:pt x="5866" y="12764"/>
                  <a:pt x="5879" y="12774"/>
                </a:cubicBezTo>
                <a:cubicBezTo>
                  <a:pt x="5904" y="12774"/>
                  <a:pt x="5912" y="12774"/>
                  <a:pt x="5904" y="12750"/>
                </a:cubicBezTo>
              </a:path>
              <a:path w="11932" h="7194">
                <a:moveTo>
                  <a:pt x="6127" y="11733"/>
                </a:moveTo>
                <a:cubicBezTo>
                  <a:pt x="6205" y="11733"/>
                  <a:pt x="6253" y="11745"/>
                  <a:pt x="6325" y="11757"/>
                </a:cubicBezTo>
                <a:cubicBezTo>
                  <a:pt x="6360" y="11763"/>
                  <a:pt x="6413" y="11757"/>
                  <a:pt x="6449" y="11757"/>
                </a:cubicBezTo>
              </a:path>
              <a:path w="11932" h="7194">
                <a:moveTo>
                  <a:pt x="6276" y="11906"/>
                </a:moveTo>
                <a:cubicBezTo>
                  <a:pt x="6327" y="11932"/>
                  <a:pt x="6393" y="11971"/>
                  <a:pt x="6449" y="11981"/>
                </a:cubicBezTo>
                <a:cubicBezTo>
                  <a:pt x="6499" y="11981"/>
                  <a:pt x="6515" y="11981"/>
                  <a:pt x="6548" y="11981"/>
                </a:cubicBezTo>
              </a:path>
              <a:path w="11932" h="7194">
                <a:moveTo>
                  <a:pt x="14486" y="7541"/>
                </a:moveTo>
                <a:cubicBezTo>
                  <a:pt x="14505" y="7449"/>
                  <a:pt x="14533" y="7372"/>
                  <a:pt x="14486" y="7293"/>
                </a:cubicBezTo>
                <a:cubicBezTo>
                  <a:pt x="14445" y="7225"/>
                  <a:pt x="14374" y="7204"/>
                  <a:pt x="14312" y="7169"/>
                </a:cubicBezTo>
                <a:cubicBezTo>
                  <a:pt x="14216" y="7116"/>
                  <a:pt x="14116" y="7057"/>
                  <a:pt x="14015" y="7020"/>
                </a:cubicBezTo>
                <a:cubicBezTo>
                  <a:pt x="13890" y="6975"/>
                  <a:pt x="13725" y="6933"/>
                  <a:pt x="13593" y="6921"/>
                </a:cubicBezTo>
                <a:cubicBezTo>
                  <a:pt x="13430" y="6906"/>
                  <a:pt x="13257" y="6917"/>
                  <a:pt x="13097" y="6945"/>
                </a:cubicBezTo>
                <a:cubicBezTo>
                  <a:pt x="12914" y="6977"/>
                  <a:pt x="12753" y="7044"/>
                  <a:pt x="12576" y="7094"/>
                </a:cubicBezTo>
                <a:cubicBezTo>
                  <a:pt x="12380" y="7149"/>
                  <a:pt x="12186" y="7241"/>
                  <a:pt x="12005" y="7342"/>
                </a:cubicBezTo>
                <a:cubicBezTo>
                  <a:pt x="11887" y="7408"/>
                  <a:pt x="11773" y="7493"/>
                  <a:pt x="11658" y="7565"/>
                </a:cubicBezTo>
                <a:cubicBezTo>
                  <a:pt x="11617" y="7591"/>
                  <a:pt x="11596" y="7611"/>
                  <a:pt x="11559" y="7640"/>
                </a:cubicBezTo>
                <a:cubicBezTo>
                  <a:pt x="11545" y="7593"/>
                  <a:pt x="11538" y="7616"/>
                  <a:pt x="11534" y="7541"/>
                </a:cubicBezTo>
                <a:cubicBezTo>
                  <a:pt x="11534" y="7524"/>
                  <a:pt x="11534" y="7508"/>
                  <a:pt x="11534" y="7491"/>
                </a:cubicBezTo>
              </a:path>
              <a:path w="11932" h="7194">
                <a:moveTo>
                  <a:pt x="11609" y="7169"/>
                </a:moveTo>
                <a:cubicBezTo>
                  <a:pt x="11609" y="7100"/>
                  <a:pt x="11612" y="7210"/>
                  <a:pt x="11609" y="7218"/>
                </a:cubicBezTo>
                <a:cubicBezTo>
                  <a:pt x="11584" y="7288"/>
                  <a:pt x="11569" y="7348"/>
                  <a:pt x="11534" y="7417"/>
                </a:cubicBezTo>
                <a:cubicBezTo>
                  <a:pt x="11502" y="7479"/>
                  <a:pt x="11456" y="7548"/>
                  <a:pt x="11435" y="7615"/>
                </a:cubicBezTo>
                <a:cubicBezTo>
                  <a:pt x="11424" y="7652"/>
                  <a:pt x="11424" y="7769"/>
                  <a:pt x="11460" y="7789"/>
                </a:cubicBezTo>
                <a:cubicBezTo>
                  <a:pt x="11554" y="7841"/>
                  <a:pt x="11639" y="7799"/>
                  <a:pt x="11733" y="7789"/>
                </a:cubicBezTo>
                <a:cubicBezTo>
                  <a:pt x="11822" y="7779"/>
                  <a:pt x="11893" y="7763"/>
                  <a:pt x="11981" y="7739"/>
                </a:cubicBezTo>
              </a:path>
              <a:path w="11932" h="7194">
                <a:moveTo>
                  <a:pt x="14660" y="7342"/>
                </a:moveTo>
                <a:cubicBezTo>
                  <a:pt x="14594" y="7269"/>
                  <a:pt x="14589" y="7232"/>
                  <a:pt x="14486" y="7218"/>
                </a:cubicBezTo>
                <a:cubicBezTo>
                  <a:pt x="14381" y="7204"/>
                  <a:pt x="14287" y="7232"/>
                  <a:pt x="14188" y="7243"/>
                </a:cubicBezTo>
                <a:cubicBezTo>
                  <a:pt x="14049" y="7259"/>
                  <a:pt x="13899" y="7286"/>
                  <a:pt x="13767" y="7342"/>
                </a:cubicBezTo>
                <a:cubicBezTo>
                  <a:pt x="13645" y="7394"/>
                  <a:pt x="13508" y="7444"/>
                  <a:pt x="13395" y="7516"/>
                </a:cubicBezTo>
                <a:cubicBezTo>
                  <a:pt x="13253" y="7606"/>
                  <a:pt x="13124" y="7703"/>
                  <a:pt x="12998" y="7813"/>
                </a:cubicBezTo>
                <a:cubicBezTo>
                  <a:pt x="12937" y="7866"/>
                  <a:pt x="12870" y="7954"/>
                  <a:pt x="12824" y="8012"/>
                </a:cubicBezTo>
                <a:cubicBezTo>
                  <a:pt x="12800" y="8042"/>
                  <a:pt x="12749" y="8120"/>
                  <a:pt x="12725" y="8136"/>
                </a:cubicBezTo>
                <a:cubicBezTo>
                  <a:pt x="12717" y="8136"/>
                  <a:pt x="12708" y="8136"/>
                  <a:pt x="12700" y="8136"/>
                </a:cubicBezTo>
              </a:path>
              <a:path w="11932" h="7194">
                <a:moveTo>
                  <a:pt x="12650" y="7689"/>
                </a:moveTo>
                <a:cubicBezTo>
                  <a:pt x="12646" y="7702"/>
                  <a:pt x="12599" y="7853"/>
                  <a:pt x="12601" y="7863"/>
                </a:cubicBezTo>
                <a:cubicBezTo>
                  <a:pt x="12607" y="7891"/>
                  <a:pt x="12633" y="7961"/>
                  <a:pt x="12650" y="7987"/>
                </a:cubicBezTo>
                <a:cubicBezTo>
                  <a:pt x="12665" y="8009"/>
                  <a:pt x="12748" y="8056"/>
                  <a:pt x="12774" y="8062"/>
                </a:cubicBezTo>
                <a:cubicBezTo>
                  <a:pt x="12871" y="8085"/>
                  <a:pt x="12980" y="8047"/>
                  <a:pt x="13072" y="8037"/>
                </a:cubicBezTo>
                <a:cubicBezTo>
                  <a:pt x="13193" y="8023"/>
                  <a:pt x="13189" y="7992"/>
                  <a:pt x="13271" y="7888"/>
                </a:cubicBezTo>
              </a:path>
              <a:path w="11932" h="7194">
                <a:moveTo>
                  <a:pt x="3349" y="11212"/>
                </a:moveTo>
                <a:cubicBezTo>
                  <a:pt x="3349" y="11561"/>
                  <a:pt x="3350" y="11907"/>
                  <a:pt x="3324" y="12254"/>
                </a:cubicBezTo>
                <a:cubicBezTo>
                  <a:pt x="3312" y="12417"/>
                  <a:pt x="3321" y="12592"/>
                  <a:pt x="3274" y="12750"/>
                </a:cubicBezTo>
                <a:cubicBezTo>
                  <a:pt x="3260" y="12795"/>
                  <a:pt x="3214" y="12835"/>
                  <a:pt x="3200" y="12874"/>
                </a:cubicBezTo>
                <a:cubicBezTo>
                  <a:pt x="3174" y="12808"/>
                  <a:pt x="3121" y="12757"/>
                  <a:pt x="3101" y="12675"/>
                </a:cubicBezTo>
                <a:cubicBezTo>
                  <a:pt x="3064" y="12523"/>
                  <a:pt x="3058" y="12359"/>
                  <a:pt x="3051" y="12204"/>
                </a:cubicBezTo>
                <a:cubicBezTo>
                  <a:pt x="3034" y="11806"/>
                  <a:pt x="3015" y="11378"/>
                  <a:pt x="3101" y="10988"/>
                </a:cubicBezTo>
                <a:cubicBezTo>
                  <a:pt x="3124" y="10883"/>
                  <a:pt x="3117" y="10801"/>
                  <a:pt x="3200" y="10716"/>
                </a:cubicBezTo>
                <a:cubicBezTo>
                  <a:pt x="3277" y="10638"/>
                  <a:pt x="3423" y="10657"/>
                  <a:pt x="3522" y="10641"/>
                </a:cubicBezTo>
                <a:cubicBezTo>
                  <a:pt x="3660" y="10619"/>
                  <a:pt x="3804" y="10604"/>
                  <a:pt x="3944" y="10592"/>
                </a:cubicBezTo>
                <a:cubicBezTo>
                  <a:pt x="4232" y="10566"/>
                  <a:pt x="4524" y="10544"/>
                  <a:pt x="4812" y="10517"/>
                </a:cubicBezTo>
                <a:cubicBezTo>
                  <a:pt x="5441" y="10457"/>
                  <a:pt x="6069" y="10403"/>
                  <a:pt x="6697" y="10344"/>
                </a:cubicBezTo>
                <a:cubicBezTo>
                  <a:pt x="7061" y="10310"/>
                  <a:pt x="7425" y="10316"/>
                  <a:pt x="7789" y="10294"/>
                </a:cubicBezTo>
                <a:cubicBezTo>
                  <a:pt x="8161" y="10271"/>
                  <a:pt x="8532" y="10258"/>
                  <a:pt x="8905" y="10244"/>
                </a:cubicBezTo>
                <a:cubicBezTo>
                  <a:pt x="9368" y="10227"/>
                  <a:pt x="9809" y="10231"/>
                  <a:pt x="10269" y="10244"/>
                </a:cubicBezTo>
                <a:cubicBezTo>
                  <a:pt x="10604" y="10254"/>
                  <a:pt x="10951" y="10234"/>
                  <a:pt x="11286" y="10220"/>
                </a:cubicBezTo>
                <a:cubicBezTo>
                  <a:pt x="11542" y="10210"/>
                  <a:pt x="11798" y="10186"/>
                  <a:pt x="12055" y="10195"/>
                </a:cubicBezTo>
                <a:cubicBezTo>
                  <a:pt x="12255" y="10202"/>
                  <a:pt x="12532" y="10190"/>
                  <a:pt x="12725" y="10244"/>
                </a:cubicBezTo>
                <a:cubicBezTo>
                  <a:pt x="12842" y="10277"/>
                  <a:pt x="12934" y="10305"/>
                  <a:pt x="13022" y="10393"/>
                </a:cubicBezTo>
                <a:cubicBezTo>
                  <a:pt x="13196" y="10567"/>
                  <a:pt x="13178" y="10752"/>
                  <a:pt x="13196" y="10988"/>
                </a:cubicBezTo>
                <a:cubicBezTo>
                  <a:pt x="13213" y="11215"/>
                  <a:pt x="13167" y="11433"/>
                  <a:pt x="13171" y="11658"/>
                </a:cubicBezTo>
                <a:cubicBezTo>
                  <a:pt x="13175" y="11882"/>
                  <a:pt x="13197" y="12130"/>
                  <a:pt x="13221" y="12353"/>
                </a:cubicBezTo>
                <a:cubicBezTo>
                  <a:pt x="13260" y="12718"/>
                  <a:pt x="13312" y="13080"/>
                  <a:pt x="13345" y="13444"/>
                </a:cubicBezTo>
                <a:cubicBezTo>
                  <a:pt x="13363" y="13644"/>
                  <a:pt x="13395" y="13846"/>
                  <a:pt x="13345" y="14039"/>
                </a:cubicBezTo>
                <a:cubicBezTo>
                  <a:pt x="13323" y="14083"/>
                  <a:pt x="13320" y="14095"/>
                  <a:pt x="13295" y="14114"/>
                </a:cubicBezTo>
                <a:cubicBezTo>
                  <a:pt x="13197" y="14095"/>
                  <a:pt x="13096" y="14078"/>
                  <a:pt x="12998" y="14064"/>
                </a:cubicBezTo>
                <a:cubicBezTo>
                  <a:pt x="12829" y="14041"/>
                  <a:pt x="12697" y="14052"/>
                  <a:pt x="12526" y="14064"/>
                </a:cubicBezTo>
                <a:cubicBezTo>
                  <a:pt x="12377" y="14074"/>
                  <a:pt x="12230" y="14078"/>
                  <a:pt x="12080" y="14089"/>
                </a:cubicBezTo>
                <a:cubicBezTo>
                  <a:pt x="11882" y="14103"/>
                  <a:pt x="11686" y="14121"/>
                  <a:pt x="11485" y="14114"/>
                </a:cubicBezTo>
                <a:cubicBezTo>
                  <a:pt x="11189" y="14104"/>
                  <a:pt x="10886" y="14088"/>
                  <a:pt x="10592" y="14064"/>
                </a:cubicBezTo>
                <a:cubicBezTo>
                  <a:pt x="10291" y="14039"/>
                  <a:pt x="9973" y="13989"/>
                  <a:pt x="9674" y="13940"/>
                </a:cubicBezTo>
                <a:cubicBezTo>
                  <a:pt x="9335" y="13884"/>
                  <a:pt x="8996" y="13828"/>
                  <a:pt x="8657" y="13767"/>
                </a:cubicBezTo>
                <a:cubicBezTo>
                  <a:pt x="8282" y="13700"/>
                  <a:pt x="7912" y="13607"/>
                  <a:pt x="7541" y="13519"/>
                </a:cubicBezTo>
                <a:cubicBezTo>
                  <a:pt x="7129" y="13421"/>
                  <a:pt x="6716" y="13326"/>
                  <a:pt x="6300" y="13246"/>
                </a:cubicBezTo>
                <a:cubicBezTo>
                  <a:pt x="5908" y="13170"/>
                  <a:pt x="5506" y="13119"/>
                  <a:pt x="5110" y="13072"/>
                </a:cubicBezTo>
                <a:cubicBezTo>
                  <a:pt x="4773" y="13032"/>
                  <a:pt x="4431" y="13013"/>
                  <a:pt x="4093" y="12998"/>
                </a:cubicBezTo>
                <a:cubicBezTo>
                  <a:pt x="3787" y="12984"/>
                  <a:pt x="3478" y="12959"/>
                  <a:pt x="3175" y="12998"/>
                </a:cubicBezTo>
                <a:cubicBezTo>
                  <a:pt x="3093" y="13009"/>
                  <a:pt x="2977" y="13016"/>
                  <a:pt x="2902" y="13047"/>
                </a:cubicBezTo>
                <a:cubicBezTo>
                  <a:pt x="2863" y="13063"/>
                  <a:pt x="2815" y="13077"/>
                  <a:pt x="2778" y="13097"/>
                </a:cubicBezTo>
                <a:cubicBezTo>
                  <a:pt x="2757" y="13108"/>
                  <a:pt x="2733" y="13169"/>
                  <a:pt x="2729" y="13171"/>
                </a:cubicBezTo>
              </a:path>
              <a:path w="11932" h="7194">
                <a:moveTo>
                  <a:pt x="7615" y="9475"/>
                </a:moveTo>
                <a:cubicBezTo>
                  <a:pt x="7636" y="9532"/>
                  <a:pt x="7658" y="9610"/>
                  <a:pt x="7640" y="9674"/>
                </a:cubicBezTo>
                <a:cubicBezTo>
                  <a:pt x="7619" y="9748"/>
                  <a:pt x="7594" y="9820"/>
                  <a:pt x="7590" y="9897"/>
                </a:cubicBezTo>
                <a:cubicBezTo>
                  <a:pt x="7587" y="9955"/>
                  <a:pt x="7590" y="10013"/>
                  <a:pt x="7590" y="10071"/>
                </a:cubicBezTo>
              </a:path>
              <a:path w="11932" h="7194">
                <a:moveTo>
                  <a:pt x="8086" y="9624"/>
                </a:moveTo>
                <a:cubicBezTo>
                  <a:pt x="8207" y="9624"/>
                  <a:pt x="8307" y="9620"/>
                  <a:pt x="8409" y="9599"/>
                </a:cubicBezTo>
                <a:cubicBezTo>
                  <a:pt x="8453" y="9599"/>
                  <a:pt x="8466" y="9602"/>
                  <a:pt x="8483" y="9575"/>
                </a:cubicBezTo>
              </a:path>
              <a:path w="11932" h="7194">
                <a:moveTo>
                  <a:pt x="8210" y="9550"/>
                </a:moveTo>
                <a:cubicBezTo>
                  <a:pt x="8176" y="9589"/>
                  <a:pt x="8108" y="9651"/>
                  <a:pt x="8086" y="9699"/>
                </a:cubicBezTo>
                <a:cubicBezTo>
                  <a:pt x="8064" y="9746"/>
                  <a:pt x="8105" y="9785"/>
                  <a:pt x="8111" y="9798"/>
                </a:cubicBezTo>
                <a:cubicBezTo>
                  <a:pt x="8122" y="9820"/>
                  <a:pt x="8151" y="9835"/>
                  <a:pt x="8186" y="9847"/>
                </a:cubicBezTo>
                <a:cubicBezTo>
                  <a:pt x="8244" y="9866"/>
                  <a:pt x="8324" y="9857"/>
                  <a:pt x="8384" y="9872"/>
                </a:cubicBezTo>
                <a:cubicBezTo>
                  <a:pt x="8456" y="9890"/>
                  <a:pt x="8460" y="9919"/>
                  <a:pt x="8508" y="9971"/>
                </a:cubicBezTo>
                <a:cubicBezTo>
                  <a:pt x="8555" y="10023"/>
                  <a:pt x="8523" y="10040"/>
                  <a:pt x="8483" y="10071"/>
                </a:cubicBezTo>
                <a:cubicBezTo>
                  <a:pt x="8439" y="10105"/>
                  <a:pt x="8342" y="10110"/>
                  <a:pt x="8285" y="10096"/>
                </a:cubicBezTo>
                <a:cubicBezTo>
                  <a:pt x="8233" y="10083"/>
                  <a:pt x="8181" y="10061"/>
                  <a:pt x="8161" y="10021"/>
                </a:cubicBezTo>
              </a:path>
              <a:path w="11932" h="7194">
                <a:moveTo>
                  <a:pt x="9103" y="9550"/>
                </a:moveTo>
                <a:cubicBezTo>
                  <a:pt x="9103" y="9674"/>
                  <a:pt x="9151" y="9921"/>
                  <a:pt x="9079" y="10021"/>
                </a:cubicBezTo>
              </a:path>
              <a:path w="11932" h="7194">
                <a:moveTo>
                  <a:pt x="8954" y="9748"/>
                </a:moveTo>
                <a:cubicBezTo>
                  <a:pt x="9040" y="9724"/>
                  <a:pt x="9119" y="9742"/>
                  <a:pt x="9203" y="9723"/>
                </a:cubicBezTo>
                <a:cubicBezTo>
                  <a:pt x="9219" y="9715"/>
                  <a:pt x="9236" y="9707"/>
                  <a:pt x="9252" y="9699"/>
                </a:cubicBezTo>
              </a:path>
              <a:path w="11932" h="7194">
                <a:moveTo>
                  <a:pt x="9699" y="9550"/>
                </a:moveTo>
                <a:cubicBezTo>
                  <a:pt x="9769" y="9507"/>
                  <a:pt x="9774" y="9537"/>
                  <a:pt x="9847" y="9550"/>
                </a:cubicBezTo>
                <a:cubicBezTo>
                  <a:pt x="9903" y="9560"/>
                  <a:pt x="9964" y="9554"/>
                  <a:pt x="9971" y="9624"/>
                </a:cubicBezTo>
                <a:cubicBezTo>
                  <a:pt x="9977" y="9677"/>
                  <a:pt x="9909" y="9703"/>
                  <a:pt x="9872" y="9723"/>
                </a:cubicBezTo>
                <a:cubicBezTo>
                  <a:pt x="9828" y="9746"/>
                  <a:pt x="9772" y="9768"/>
                  <a:pt x="9723" y="9773"/>
                </a:cubicBezTo>
                <a:cubicBezTo>
                  <a:pt x="9695" y="9773"/>
                  <a:pt x="9685" y="9776"/>
                  <a:pt x="9674" y="9798"/>
                </a:cubicBezTo>
                <a:cubicBezTo>
                  <a:pt x="9746" y="9798"/>
                  <a:pt x="9802" y="9797"/>
                  <a:pt x="9872" y="9823"/>
                </a:cubicBezTo>
                <a:cubicBezTo>
                  <a:pt x="9906" y="9836"/>
                  <a:pt x="9985" y="9907"/>
                  <a:pt x="9996" y="9947"/>
                </a:cubicBezTo>
                <a:cubicBezTo>
                  <a:pt x="10019" y="10028"/>
                  <a:pt x="9957" y="10027"/>
                  <a:pt x="9922" y="10046"/>
                </a:cubicBezTo>
                <a:cubicBezTo>
                  <a:pt x="9866" y="10077"/>
                  <a:pt x="9817" y="10071"/>
                  <a:pt x="9748" y="10071"/>
                </a:cubicBezTo>
                <a:cubicBezTo>
                  <a:pt x="9730" y="10071"/>
                  <a:pt x="9623" y="10061"/>
                  <a:pt x="9624" y="10046"/>
                </a:cubicBezTo>
                <a:cubicBezTo>
                  <a:pt x="9632" y="10029"/>
                  <a:pt x="9641" y="10013"/>
                  <a:pt x="9649" y="9996"/>
                </a:cubicBezTo>
              </a:path>
              <a:path w="11932" h="7194">
                <a:moveTo>
                  <a:pt x="10294" y="9773"/>
                </a:moveTo>
                <a:cubicBezTo>
                  <a:pt x="10296" y="9782"/>
                  <a:pt x="10303" y="9967"/>
                  <a:pt x="10319" y="9996"/>
                </a:cubicBezTo>
                <a:cubicBezTo>
                  <a:pt x="10327" y="10004"/>
                  <a:pt x="10336" y="10013"/>
                  <a:pt x="10344" y="10021"/>
                </a:cubicBezTo>
                <a:cubicBezTo>
                  <a:pt x="10354" y="9991"/>
                  <a:pt x="10384" y="9986"/>
                  <a:pt x="10393" y="9947"/>
                </a:cubicBezTo>
                <a:cubicBezTo>
                  <a:pt x="10406" y="9886"/>
                  <a:pt x="10428" y="9853"/>
                  <a:pt x="10468" y="9798"/>
                </a:cubicBezTo>
                <a:cubicBezTo>
                  <a:pt x="10501" y="9753"/>
                  <a:pt x="10582" y="9757"/>
                  <a:pt x="10616" y="9773"/>
                </a:cubicBezTo>
                <a:cubicBezTo>
                  <a:pt x="10691" y="9808"/>
                  <a:pt x="10704" y="9850"/>
                  <a:pt x="10740" y="9922"/>
                </a:cubicBezTo>
                <a:cubicBezTo>
                  <a:pt x="10770" y="9982"/>
                  <a:pt x="10783" y="10061"/>
                  <a:pt x="10790" y="10120"/>
                </a:cubicBezTo>
                <a:cubicBezTo>
                  <a:pt x="10790" y="10145"/>
                  <a:pt x="10790" y="10153"/>
                  <a:pt x="10815" y="10145"/>
                </a:cubicBezTo>
              </a:path>
              <a:path w="11932" h="7194">
                <a:moveTo>
                  <a:pt x="11162" y="9897"/>
                </a:moveTo>
                <a:cubicBezTo>
                  <a:pt x="11255" y="9916"/>
                  <a:pt x="11284" y="9936"/>
                  <a:pt x="11361" y="9897"/>
                </a:cubicBezTo>
              </a:path>
              <a:path w="11932" h="7194">
                <a:moveTo>
                  <a:pt x="11534" y="9624"/>
                </a:moveTo>
                <a:cubicBezTo>
                  <a:pt x="11604" y="9555"/>
                  <a:pt x="11611" y="9550"/>
                  <a:pt x="11708" y="9550"/>
                </a:cubicBezTo>
                <a:cubicBezTo>
                  <a:pt x="11769" y="9550"/>
                  <a:pt x="11813" y="9593"/>
                  <a:pt x="11832" y="9649"/>
                </a:cubicBezTo>
                <a:cubicBezTo>
                  <a:pt x="11853" y="9712"/>
                  <a:pt x="11810" y="9751"/>
                  <a:pt x="11782" y="9798"/>
                </a:cubicBezTo>
                <a:cubicBezTo>
                  <a:pt x="11758" y="9837"/>
                  <a:pt x="11698" y="9875"/>
                  <a:pt x="11683" y="9897"/>
                </a:cubicBezTo>
                <a:cubicBezTo>
                  <a:pt x="11668" y="9920"/>
                  <a:pt x="11660" y="9949"/>
                  <a:pt x="11708" y="9922"/>
                </a:cubicBezTo>
                <a:cubicBezTo>
                  <a:pt x="11772" y="9886"/>
                  <a:pt x="11788" y="9885"/>
                  <a:pt x="11857" y="9897"/>
                </a:cubicBezTo>
                <a:cubicBezTo>
                  <a:pt x="11925" y="9909"/>
                  <a:pt x="11912" y="9944"/>
                  <a:pt x="11931" y="9996"/>
                </a:cubicBezTo>
                <a:cubicBezTo>
                  <a:pt x="11951" y="10053"/>
                  <a:pt x="11948" y="10093"/>
                  <a:pt x="11906" y="10145"/>
                </a:cubicBezTo>
                <a:cubicBezTo>
                  <a:pt x="11881" y="10176"/>
                  <a:pt x="11816" y="10209"/>
                  <a:pt x="11782" y="10220"/>
                </a:cubicBezTo>
                <a:cubicBezTo>
                  <a:pt x="11775" y="10222"/>
                  <a:pt x="11636" y="10244"/>
                  <a:pt x="11633" y="10244"/>
                </a:cubicBezTo>
                <a:cubicBezTo>
                  <a:pt x="11571" y="10213"/>
                  <a:pt x="11540" y="10205"/>
                  <a:pt x="11485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98840" y="4089240"/>
            <a:ext cx="1812960" cy="527040"/>
          </a:xfrm>
          <a:custGeom>
            <a:avLst/>
            <a:gdLst/>
            <a:ahLst/>
            <a:rect l="l" t="t" r="r" b="b"/>
            <a:pathLst>
              <a:path w="5037" h="1464">
                <a:moveTo>
                  <a:pt x="7317" y="11460"/>
                </a:moveTo>
                <a:cubicBezTo>
                  <a:pt x="7324" y="11409"/>
                  <a:pt x="7303" y="11406"/>
                  <a:pt x="7342" y="11385"/>
                </a:cubicBezTo>
                <a:cubicBezTo>
                  <a:pt x="7389" y="11360"/>
                  <a:pt x="7488" y="11349"/>
                  <a:pt x="7541" y="11361"/>
                </a:cubicBezTo>
                <a:cubicBezTo>
                  <a:pt x="7609" y="11377"/>
                  <a:pt x="7705" y="11391"/>
                  <a:pt x="7764" y="11435"/>
                </a:cubicBezTo>
                <a:cubicBezTo>
                  <a:pt x="7860" y="11507"/>
                  <a:pt x="7882" y="11605"/>
                  <a:pt x="7838" y="11708"/>
                </a:cubicBezTo>
                <a:cubicBezTo>
                  <a:pt x="7792" y="11815"/>
                  <a:pt x="7687" y="11855"/>
                  <a:pt x="7590" y="11906"/>
                </a:cubicBezTo>
                <a:cubicBezTo>
                  <a:pt x="7520" y="11943"/>
                  <a:pt x="7427" y="11964"/>
                  <a:pt x="7367" y="12005"/>
                </a:cubicBezTo>
                <a:cubicBezTo>
                  <a:pt x="7344" y="12028"/>
                  <a:pt x="7333" y="12036"/>
                  <a:pt x="7367" y="12030"/>
                </a:cubicBezTo>
                <a:cubicBezTo>
                  <a:pt x="7416" y="12024"/>
                  <a:pt x="7468" y="11994"/>
                  <a:pt x="7516" y="12005"/>
                </a:cubicBezTo>
                <a:cubicBezTo>
                  <a:pt x="7585" y="12021"/>
                  <a:pt x="7649" y="12047"/>
                  <a:pt x="7714" y="12080"/>
                </a:cubicBezTo>
                <a:cubicBezTo>
                  <a:pt x="7821" y="12134"/>
                  <a:pt x="7873" y="12213"/>
                  <a:pt x="7888" y="12328"/>
                </a:cubicBezTo>
                <a:cubicBezTo>
                  <a:pt x="7899" y="12413"/>
                  <a:pt x="7866" y="12462"/>
                  <a:pt x="7813" y="12526"/>
                </a:cubicBezTo>
                <a:cubicBezTo>
                  <a:pt x="7753" y="12598"/>
                  <a:pt x="7651" y="12620"/>
                  <a:pt x="7565" y="12650"/>
                </a:cubicBezTo>
                <a:cubicBezTo>
                  <a:pt x="7462" y="12686"/>
                  <a:pt x="7413" y="12666"/>
                  <a:pt x="7317" y="12650"/>
                </a:cubicBezTo>
                <a:cubicBezTo>
                  <a:pt x="7244" y="12638"/>
                  <a:pt x="7234" y="12630"/>
                  <a:pt x="7218" y="12551"/>
                </a:cubicBezTo>
                <a:cubicBezTo>
                  <a:pt x="7218" y="12535"/>
                  <a:pt x="7218" y="12518"/>
                  <a:pt x="7218" y="12502"/>
                </a:cubicBezTo>
              </a:path>
              <a:path w="5037" h="1464">
                <a:moveTo>
                  <a:pt x="8111" y="12254"/>
                </a:moveTo>
                <a:cubicBezTo>
                  <a:pt x="8132" y="12382"/>
                  <a:pt x="8130" y="12436"/>
                  <a:pt x="8111" y="12551"/>
                </a:cubicBezTo>
                <a:cubicBezTo>
                  <a:pt x="8111" y="12601"/>
                  <a:pt x="8111" y="12617"/>
                  <a:pt x="8111" y="12650"/>
                </a:cubicBezTo>
                <a:cubicBezTo>
                  <a:pt x="8111" y="12713"/>
                  <a:pt x="8111" y="12596"/>
                  <a:pt x="8111" y="12576"/>
                </a:cubicBezTo>
                <a:cubicBezTo>
                  <a:pt x="8111" y="12502"/>
                  <a:pt x="8131" y="12420"/>
                  <a:pt x="8161" y="12353"/>
                </a:cubicBezTo>
                <a:cubicBezTo>
                  <a:pt x="8187" y="12295"/>
                  <a:pt x="8210" y="12197"/>
                  <a:pt x="8260" y="12154"/>
                </a:cubicBezTo>
                <a:cubicBezTo>
                  <a:pt x="8314" y="12108"/>
                  <a:pt x="8342" y="12099"/>
                  <a:pt x="8384" y="12105"/>
                </a:cubicBezTo>
                <a:cubicBezTo>
                  <a:pt x="8445" y="12114"/>
                  <a:pt x="8504" y="12165"/>
                  <a:pt x="8533" y="12229"/>
                </a:cubicBezTo>
                <a:cubicBezTo>
                  <a:pt x="8570" y="12309"/>
                  <a:pt x="8586" y="12397"/>
                  <a:pt x="8607" y="12477"/>
                </a:cubicBezTo>
                <a:cubicBezTo>
                  <a:pt x="8626" y="12548"/>
                  <a:pt x="8664" y="12639"/>
                  <a:pt x="8706" y="12700"/>
                </a:cubicBezTo>
                <a:cubicBezTo>
                  <a:pt x="8744" y="12755"/>
                  <a:pt x="8810" y="12720"/>
                  <a:pt x="8855" y="12700"/>
                </a:cubicBezTo>
              </a:path>
              <a:path w="5037" h="1464">
                <a:moveTo>
                  <a:pt x="9723" y="11906"/>
                </a:moveTo>
                <a:cubicBezTo>
                  <a:pt x="9753" y="11997"/>
                  <a:pt x="9748" y="12081"/>
                  <a:pt x="9748" y="12179"/>
                </a:cubicBezTo>
                <a:cubicBezTo>
                  <a:pt x="9748" y="12291"/>
                  <a:pt x="9738" y="12398"/>
                  <a:pt x="9773" y="12502"/>
                </a:cubicBezTo>
                <a:cubicBezTo>
                  <a:pt x="9796" y="12571"/>
                  <a:pt x="9795" y="12662"/>
                  <a:pt x="9823" y="12725"/>
                </a:cubicBezTo>
                <a:cubicBezTo>
                  <a:pt x="9845" y="12747"/>
                  <a:pt x="9856" y="12756"/>
                  <a:pt x="9823" y="12750"/>
                </a:cubicBezTo>
                <a:cubicBezTo>
                  <a:pt x="9823" y="12696"/>
                  <a:pt x="9817" y="12677"/>
                  <a:pt x="9798" y="12626"/>
                </a:cubicBezTo>
              </a:path>
              <a:path w="5037" h="1464">
                <a:moveTo>
                  <a:pt x="9525" y="12229"/>
                </a:moveTo>
                <a:cubicBezTo>
                  <a:pt x="9642" y="12253"/>
                  <a:pt x="9753" y="12274"/>
                  <a:pt x="9872" y="12278"/>
                </a:cubicBezTo>
                <a:cubicBezTo>
                  <a:pt x="9947" y="12278"/>
                  <a:pt x="9971" y="12278"/>
                  <a:pt x="10021" y="12278"/>
                </a:cubicBezTo>
              </a:path>
              <a:path w="5037" h="1464">
                <a:moveTo>
                  <a:pt x="10542" y="11534"/>
                </a:moveTo>
                <a:cubicBezTo>
                  <a:pt x="10580" y="11665"/>
                  <a:pt x="10607" y="11768"/>
                  <a:pt x="10592" y="11906"/>
                </a:cubicBezTo>
                <a:cubicBezTo>
                  <a:pt x="10575" y="12067"/>
                  <a:pt x="10567" y="12217"/>
                  <a:pt x="10567" y="12378"/>
                </a:cubicBezTo>
                <a:cubicBezTo>
                  <a:pt x="10567" y="12487"/>
                  <a:pt x="10577" y="12572"/>
                  <a:pt x="10592" y="12675"/>
                </a:cubicBezTo>
                <a:cubicBezTo>
                  <a:pt x="10598" y="12716"/>
                  <a:pt x="10591" y="12807"/>
                  <a:pt x="10616" y="12774"/>
                </a:cubicBezTo>
                <a:cubicBezTo>
                  <a:pt x="10616" y="12766"/>
                  <a:pt x="10616" y="12758"/>
                  <a:pt x="10616" y="12750"/>
                </a:cubicBezTo>
              </a:path>
              <a:path w="5037" h="1464">
                <a:moveTo>
                  <a:pt x="10889" y="11658"/>
                </a:moveTo>
                <a:cubicBezTo>
                  <a:pt x="10992" y="11560"/>
                  <a:pt x="11057" y="11445"/>
                  <a:pt x="11212" y="11485"/>
                </a:cubicBezTo>
                <a:cubicBezTo>
                  <a:pt x="11319" y="11512"/>
                  <a:pt x="11414" y="11667"/>
                  <a:pt x="11460" y="11757"/>
                </a:cubicBezTo>
                <a:cubicBezTo>
                  <a:pt x="11521" y="11874"/>
                  <a:pt x="11531" y="12026"/>
                  <a:pt x="11534" y="12154"/>
                </a:cubicBezTo>
                <a:cubicBezTo>
                  <a:pt x="11537" y="12286"/>
                  <a:pt x="11534" y="12424"/>
                  <a:pt x="11509" y="12551"/>
                </a:cubicBezTo>
                <a:cubicBezTo>
                  <a:pt x="11485" y="12674"/>
                  <a:pt x="11419" y="12704"/>
                  <a:pt x="11361" y="12799"/>
                </a:cubicBezTo>
                <a:cubicBezTo>
                  <a:pt x="11361" y="12807"/>
                  <a:pt x="11361" y="12816"/>
                  <a:pt x="11361" y="12824"/>
                </a:cubicBezTo>
                <a:cubicBezTo>
                  <a:pt x="11324" y="12797"/>
                  <a:pt x="11307" y="12797"/>
                  <a:pt x="11286" y="12750"/>
                </a:cubicBezTo>
                <a:cubicBezTo>
                  <a:pt x="11269" y="12714"/>
                  <a:pt x="11238" y="12649"/>
                  <a:pt x="11261" y="12601"/>
                </a:cubicBezTo>
                <a:cubicBezTo>
                  <a:pt x="11281" y="12560"/>
                  <a:pt x="11347" y="12512"/>
                  <a:pt x="11385" y="12502"/>
                </a:cubicBezTo>
                <a:cubicBezTo>
                  <a:pt x="11471" y="12479"/>
                  <a:pt x="11578" y="12526"/>
                  <a:pt x="11658" y="12551"/>
                </a:cubicBezTo>
                <a:cubicBezTo>
                  <a:pt x="11779" y="12589"/>
                  <a:pt x="11888" y="12653"/>
                  <a:pt x="12005" y="12700"/>
                </a:cubicBezTo>
                <a:cubicBezTo>
                  <a:pt x="12076" y="12729"/>
                  <a:pt x="12192" y="12787"/>
                  <a:pt x="12254" y="12750"/>
                </a:cubicBezTo>
                <a:cubicBezTo>
                  <a:pt x="12254" y="12733"/>
                  <a:pt x="12254" y="12717"/>
                  <a:pt x="12254" y="127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the first three terms.  Find their common difference.  Write a sequence formula for 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rm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200;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k+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- 2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2000" y="3340080"/>
            <a:ext cx="930240" cy="652320"/>
          </a:xfrm>
          <a:custGeom>
            <a:avLst/>
            <a:gdLst/>
            <a:ahLst/>
            <a:rect l="l" t="t" r="r" b="b"/>
            <a:pathLst>
              <a:path w="2580" h="1812">
                <a:moveTo>
                  <a:pt x="3150" y="9525"/>
                </a:moveTo>
                <a:cubicBezTo>
                  <a:pt x="3158" y="9472"/>
                  <a:pt x="3164" y="9441"/>
                  <a:pt x="3200" y="9401"/>
                </a:cubicBezTo>
                <a:cubicBezTo>
                  <a:pt x="3220" y="9379"/>
                  <a:pt x="3217" y="9359"/>
                  <a:pt x="3249" y="9327"/>
                </a:cubicBezTo>
                <a:cubicBezTo>
                  <a:pt x="3277" y="9299"/>
                  <a:pt x="3313" y="9285"/>
                  <a:pt x="3349" y="9277"/>
                </a:cubicBezTo>
                <a:cubicBezTo>
                  <a:pt x="3402" y="9265"/>
                  <a:pt x="3458" y="9273"/>
                  <a:pt x="3497" y="9302"/>
                </a:cubicBezTo>
                <a:cubicBezTo>
                  <a:pt x="3538" y="9333"/>
                  <a:pt x="3590" y="9400"/>
                  <a:pt x="3597" y="9451"/>
                </a:cubicBezTo>
                <a:cubicBezTo>
                  <a:pt x="3614" y="9570"/>
                  <a:pt x="3601" y="9709"/>
                  <a:pt x="3572" y="9823"/>
                </a:cubicBezTo>
                <a:cubicBezTo>
                  <a:pt x="3544" y="9935"/>
                  <a:pt x="3502" y="10020"/>
                  <a:pt x="3448" y="10120"/>
                </a:cubicBezTo>
                <a:cubicBezTo>
                  <a:pt x="3398" y="10213"/>
                  <a:pt x="3317" y="10293"/>
                  <a:pt x="3225" y="10344"/>
                </a:cubicBezTo>
                <a:cubicBezTo>
                  <a:pt x="3184" y="10366"/>
                  <a:pt x="3099" y="10385"/>
                  <a:pt x="3051" y="10368"/>
                </a:cubicBezTo>
                <a:cubicBezTo>
                  <a:pt x="3006" y="10352"/>
                  <a:pt x="2997" y="10328"/>
                  <a:pt x="2977" y="10294"/>
                </a:cubicBezTo>
                <a:cubicBezTo>
                  <a:pt x="2954" y="10255"/>
                  <a:pt x="2939" y="10192"/>
                  <a:pt x="2952" y="10145"/>
                </a:cubicBezTo>
                <a:cubicBezTo>
                  <a:pt x="2964" y="10102"/>
                  <a:pt x="2992" y="10080"/>
                  <a:pt x="3026" y="10046"/>
                </a:cubicBezTo>
                <a:cubicBezTo>
                  <a:pt x="3076" y="9996"/>
                  <a:pt x="3080" y="9999"/>
                  <a:pt x="3150" y="9996"/>
                </a:cubicBezTo>
                <a:cubicBezTo>
                  <a:pt x="3216" y="9993"/>
                  <a:pt x="3229" y="10001"/>
                  <a:pt x="3274" y="10046"/>
                </a:cubicBezTo>
                <a:cubicBezTo>
                  <a:pt x="3307" y="10079"/>
                  <a:pt x="3362" y="10148"/>
                  <a:pt x="3373" y="10195"/>
                </a:cubicBezTo>
                <a:cubicBezTo>
                  <a:pt x="3385" y="10248"/>
                  <a:pt x="3382" y="10317"/>
                  <a:pt x="3398" y="10368"/>
                </a:cubicBezTo>
                <a:cubicBezTo>
                  <a:pt x="3418" y="10431"/>
                  <a:pt x="3407" y="10428"/>
                  <a:pt x="3448" y="10418"/>
                </a:cubicBezTo>
              </a:path>
              <a:path w="2580" h="1812">
                <a:moveTo>
                  <a:pt x="3944" y="9624"/>
                </a:moveTo>
                <a:cubicBezTo>
                  <a:pt x="3938" y="9731"/>
                  <a:pt x="3932" y="9821"/>
                  <a:pt x="3894" y="9922"/>
                </a:cubicBezTo>
                <a:cubicBezTo>
                  <a:pt x="3864" y="10001"/>
                  <a:pt x="3848" y="10085"/>
                  <a:pt x="3845" y="10170"/>
                </a:cubicBezTo>
                <a:cubicBezTo>
                  <a:pt x="3842" y="10259"/>
                  <a:pt x="3844" y="10340"/>
                  <a:pt x="3894" y="10418"/>
                </a:cubicBezTo>
                <a:cubicBezTo>
                  <a:pt x="3933" y="10480"/>
                  <a:pt x="4023" y="10511"/>
                  <a:pt x="4093" y="10492"/>
                </a:cubicBezTo>
                <a:cubicBezTo>
                  <a:pt x="4177" y="10469"/>
                  <a:pt x="4232" y="10403"/>
                  <a:pt x="4291" y="10344"/>
                </a:cubicBezTo>
                <a:cubicBezTo>
                  <a:pt x="4347" y="10288"/>
                  <a:pt x="4402" y="10200"/>
                  <a:pt x="4415" y="10120"/>
                </a:cubicBezTo>
                <a:cubicBezTo>
                  <a:pt x="4439" y="9975"/>
                  <a:pt x="4393" y="9857"/>
                  <a:pt x="4341" y="9723"/>
                </a:cubicBezTo>
                <a:cubicBezTo>
                  <a:pt x="4307" y="9635"/>
                  <a:pt x="4262" y="9604"/>
                  <a:pt x="4192" y="9550"/>
                </a:cubicBezTo>
                <a:cubicBezTo>
                  <a:pt x="4145" y="9514"/>
                  <a:pt x="4099" y="9484"/>
                  <a:pt x="4043" y="9475"/>
                </a:cubicBezTo>
                <a:cubicBezTo>
                  <a:pt x="3994" y="9467"/>
                  <a:pt x="3977" y="9507"/>
                  <a:pt x="3969" y="9525"/>
                </a:cubicBezTo>
                <a:cubicBezTo>
                  <a:pt x="3942" y="9587"/>
                  <a:pt x="4004" y="9575"/>
                  <a:pt x="4043" y="9575"/>
                </a:cubicBezTo>
              </a:path>
              <a:path w="2580" h="1812">
                <a:moveTo>
                  <a:pt x="4688" y="9550"/>
                </a:moveTo>
                <a:cubicBezTo>
                  <a:pt x="4688" y="9617"/>
                  <a:pt x="4673" y="9661"/>
                  <a:pt x="4663" y="9723"/>
                </a:cubicBezTo>
                <a:cubicBezTo>
                  <a:pt x="4648" y="9812"/>
                  <a:pt x="4624" y="9906"/>
                  <a:pt x="4614" y="9996"/>
                </a:cubicBezTo>
                <a:cubicBezTo>
                  <a:pt x="4604" y="10093"/>
                  <a:pt x="4628" y="10177"/>
                  <a:pt x="4638" y="10269"/>
                </a:cubicBezTo>
                <a:cubicBezTo>
                  <a:pt x="4648" y="10363"/>
                  <a:pt x="4662" y="10451"/>
                  <a:pt x="4738" y="10517"/>
                </a:cubicBezTo>
                <a:cubicBezTo>
                  <a:pt x="4825" y="10592"/>
                  <a:pt x="4921" y="10556"/>
                  <a:pt x="5011" y="10542"/>
                </a:cubicBezTo>
                <a:cubicBezTo>
                  <a:pt x="5098" y="10528"/>
                  <a:pt x="5127" y="10476"/>
                  <a:pt x="5159" y="10393"/>
                </a:cubicBezTo>
                <a:cubicBezTo>
                  <a:pt x="5192" y="10309"/>
                  <a:pt x="5228" y="10212"/>
                  <a:pt x="5209" y="10120"/>
                </a:cubicBezTo>
                <a:cubicBezTo>
                  <a:pt x="5188" y="10022"/>
                  <a:pt x="5189" y="9886"/>
                  <a:pt x="5135" y="9798"/>
                </a:cubicBezTo>
                <a:cubicBezTo>
                  <a:pt x="5088" y="9720"/>
                  <a:pt x="4988" y="9665"/>
                  <a:pt x="4911" y="9624"/>
                </a:cubicBezTo>
                <a:cubicBezTo>
                  <a:pt x="4846" y="9589"/>
                  <a:pt x="4765" y="9531"/>
                  <a:pt x="4688" y="9550"/>
                </a:cubicBezTo>
                <a:cubicBezTo>
                  <a:pt x="4680" y="9558"/>
                  <a:pt x="4671" y="9567"/>
                  <a:pt x="4663" y="9575"/>
                </a:cubicBezTo>
              </a:path>
              <a:path w="2580" h="1812">
                <a:moveTo>
                  <a:pt x="5531" y="10542"/>
                </a:moveTo>
                <a:cubicBezTo>
                  <a:pt x="5494" y="10845"/>
                  <a:pt x="5495" y="10757"/>
                  <a:pt x="5383" y="10964"/>
                </a:cubicBezTo>
                <a:cubicBezTo>
                  <a:pt x="5359" y="11036"/>
                  <a:pt x="5352" y="11059"/>
                  <a:pt x="5308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14720" y="3411360"/>
            <a:ext cx="733320" cy="536760"/>
          </a:xfrm>
          <a:custGeom>
            <a:avLst/>
            <a:gdLst/>
            <a:ahLst/>
            <a:rect l="l" t="t" r="r" b="b"/>
            <a:pathLst>
              <a:path w="2035" h="1490">
                <a:moveTo>
                  <a:pt x="6276" y="10567"/>
                </a:moveTo>
                <a:cubicBezTo>
                  <a:pt x="6284" y="10559"/>
                  <a:pt x="6292" y="10550"/>
                  <a:pt x="6300" y="10542"/>
                </a:cubicBezTo>
              </a:path>
              <a:path w="2035" h="1490">
                <a:moveTo>
                  <a:pt x="6176" y="9525"/>
                </a:moveTo>
                <a:cubicBezTo>
                  <a:pt x="6176" y="9508"/>
                  <a:pt x="6176" y="9492"/>
                  <a:pt x="6176" y="9475"/>
                </a:cubicBezTo>
                <a:cubicBezTo>
                  <a:pt x="6176" y="9541"/>
                  <a:pt x="6157" y="9563"/>
                  <a:pt x="6152" y="9624"/>
                </a:cubicBezTo>
                <a:cubicBezTo>
                  <a:pt x="6144" y="9721"/>
                  <a:pt x="6165" y="9807"/>
                  <a:pt x="6176" y="9897"/>
                </a:cubicBezTo>
                <a:cubicBezTo>
                  <a:pt x="6187" y="9989"/>
                  <a:pt x="6188" y="10079"/>
                  <a:pt x="6201" y="10170"/>
                </a:cubicBezTo>
                <a:cubicBezTo>
                  <a:pt x="6206" y="10208"/>
                  <a:pt x="6231" y="10459"/>
                  <a:pt x="6226" y="10468"/>
                </a:cubicBezTo>
                <a:cubicBezTo>
                  <a:pt x="6201" y="10468"/>
                  <a:pt x="6193" y="10468"/>
                  <a:pt x="6201" y="10492"/>
                </a:cubicBezTo>
                <a:cubicBezTo>
                  <a:pt x="6228" y="10440"/>
                  <a:pt x="6199" y="10471"/>
                  <a:pt x="6226" y="10418"/>
                </a:cubicBezTo>
              </a:path>
              <a:path w="2035" h="1490">
                <a:moveTo>
                  <a:pt x="6945" y="9674"/>
                </a:moveTo>
                <a:cubicBezTo>
                  <a:pt x="6916" y="9644"/>
                  <a:pt x="6914" y="9628"/>
                  <a:pt x="6846" y="9624"/>
                </a:cubicBezTo>
                <a:cubicBezTo>
                  <a:pt x="6782" y="9620"/>
                  <a:pt x="6705" y="9648"/>
                  <a:pt x="6648" y="9674"/>
                </a:cubicBezTo>
                <a:cubicBezTo>
                  <a:pt x="6569" y="9710"/>
                  <a:pt x="6523" y="9781"/>
                  <a:pt x="6548" y="9872"/>
                </a:cubicBezTo>
                <a:cubicBezTo>
                  <a:pt x="6579" y="9982"/>
                  <a:pt x="6669" y="10093"/>
                  <a:pt x="6722" y="10195"/>
                </a:cubicBezTo>
                <a:cubicBezTo>
                  <a:pt x="6750" y="10249"/>
                  <a:pt x="6870" y="10420"/>
                  <a:pt x="6846" y="10517"/>
                </a:cubicBezTo>
                <a:cubicBezTo>
                  <a:pt x="6838" y="10525"/>
                  <a:pt x="6829" y="10534"/>
                  <a:pt x="6821" y="10542"/>
                </a:cubicBezTo>
                <a:cubicBezTo>
                  <a:pt x="6768" y="10534"/>
                  <a:pt x="6764" y="10533"/>
                  <a:pt x="6722" y="10492"/>
                </a:cubicBezTo>
                <a:cubicBezTo>
                  <a:pt x="6681" y="10451"/>
                  <a:pt x="6658" y="10399"/>
                  <a:pt x="6648" y="10344"/>
                </a:cubicBezTo>
                <a:cubicBezTo>
                  <a:pt x="6641" y="10304"/>
                  <a:pt x="6649" y="10173"/>
                  <a:pt x="6672" y="10145"/>
                </a:cubicBezTo>
                <a:cubicBezTo>
                  <a:pt x="6720" y="10088"/>
                  <a:pt x="6797" y="10038"/>
                  <a:pt x="6846" y="9971"/>
                </a:cubicBezTo>
                <a:cubicBezTo>
                  <a:pt x="6892" y="9907"/>
                  <a:pt x="6938" y="9855"/>
                  <a:pt x="6995" y="9798"/>
                </a:cubicBezTo>
                <a:cubicBezTo>
                  <a:pt x="7027" y="9767"/>
                  <a:pt x="7034" y="9734"/>
                  <a:pt x="7069" y="9699"/>
                </a:cubicBezTo>
                <a:cubicBezTo>
                  <a:pt x="7116" y="9775"/>
                  <a:pt x="7079" y="9811"/>
                  <a:pt x="7069" y="9897"/>
                </a:cubicBezTo>
                <a:cubicBezTo>
                  <a:pt x="7057" y="10003"/>
                  <a:pt x="7053" y="10148"/>
                  <a:pt x="7094" y="10244"/>
                </a:cubicBezTo>
                <a:cubicBezTo>
                  <a:pt x="7135" y="10341"/>
                  <a:pt x="7194" y="10381"/>
                  <a:pt x="7268" y="10443"/>
                </a:cubicBezTo>
                <a:cubicBezTo>
                  <a:pt x="7329" y="10493"/>
                  <a:pt x="7378" y="10542"/>
                  <a:pt x="7466" y="10517"/>
                </a:cubicBezTo>
                <a:cubicBezTo>
                  <a:pt x="7523" y="10501"/>
                  <a:pt x="7611" y="10446"/>
                  <a:pt x="7640" y="10393"/>
                </a:cubicBezTo>
                <a:cubicBezTo>
                  <a:pt x="7685" y="10311"/>
                  <a:pt x="7711" y="10212"/>
                  <a:pt x="7714" y="10120"/>
                </a:cubicBezTo>
                <a:cubicBezTo>
                  <a:pt x="7717" y="10036"/>
                  <a:pt x="7718" y="9944"/>
                  <a:pt x="7665" y="9872"/>
                </a:cubicBezTo>
                <a:cubicBezTo>
                  <a:pt x="7603" y="9788"/>
                  <a:pt x="7580" y="9778"/>
                  <a:pt x="7491" y="9748"/>
                </a:cubicBezTo>
                <a:cubicBezTo>
                  <a:pt x="7443" y="9724"/>
                  <a:pt x="7429" y="9716"/>
                  <a:pt x="7392" y="9723"/>
                </a:cubicBezTo>
              </a:path>
              <a:path w="2035" h="1490">
                <a:moveTo>
                  <a:pt x="8186" y="10468"/>
                </a:moveTo>
                <a:cubicBezTo>
                  <a:pt x="8153" y="10558"/>
                  <a:pt x="8122" y="10651"/>
                  <a:pt x="8086" y="10740"/>
                </a:cubicBezTo>
                <a:cubicBezTo>
                  <a:pt x="8055" y="10817"/>
                  <a:pt x="8022" y="10884"/>
                  <a:pt x="8012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5080" y="3537000"/>
            <a:ext cx="581040" cy="357120"/>
          </a:xfrm>
          <a:custGeom>
            <a:avLst/>
            <a:gdLst/>
            <a:ahLst/>
            <a:rect l="l" t="t" r="r" b="b"/>
            <a:pathLst>
              <a:path w="1613" h="993">
                <a:moveTo>
                  <a:pt x="9054" y="9823"/>
                </a:moveTo>
                <a:cubicBezTo>
                  <a:pt x="9023" y="9944"/>
                  <a:pt x="8971" y="10072"/>
                  <a:pt x="8954" y="10195"/>
                </a:cubicBezTo>
                <a:cubicBezTo>
                  <a:pt x="8938" y="10311"/>
                  <a:pt x="8930" y="10424"/>
                  <a:pt x="8930" y="10542"/>
                </a:cubicBezTo>
                <a:cubicBezTo>
                  <a:pt x="8930" y="10623"/>
                  <a:pt x="8905" y="10683"/>
                  <a:pt x="8905" y="10765"/>
                </a:cubicBezTo>
                <a:cubicBezTo>
                  <a:pt x="8905" y="10793"/>
                  <a:pt x="8907" y="10804"/>
                  <a:pt x="8930" y="10815"/>
                </a:cubicBezTo>
                <a:cubicBezTo>
                  <a:pt x="8938" y="10771"/>
                  <a:pt x="8948" y="10736"/>
                  <a:pt x="8954" y="10691"/>
                </a:cubicBezTo>
              </a:path>
              <a:path w="1613" h="993">
                <a:moveTo>
                  <a:pt x="9351" y="9847"/>
                </a:moveTo>
                <a:cubicBezTo>
                  <a:pt x="9351" y="9950"/>
                  <a:pt x="9335" y="10022"/>
                  <a:pt x="9302" y="10120"/>
                </a:cubicBezTo>
                <a:cubicBezTo>
                  <a:pt x="9278" y="10193"/>
                  <a:pt x="9221" y="10321"/>
                  <a:pt x="9227" y="10393"/>
                </a:cubicBezTo>
                <a:cubicBezTo>
                  <a:pt x="9233" y="10468"/>
                  <a:pt x="9250" y="10560"/>
                  <a:pt x="9302" y="10616"/>
                </a:cubicBezTo>
                <a:cubicBezTo>
                  <a:pt x="9347" y="10665"/>
                  <a:pt x="9407" y="10711"/>
                  <a:pt x="9475" y="10716"/>
                </a:cubicBezTo>
                <a:cubicBezTo>
                  <a:pt x="9565" y="10722"/>
                  <a:pt x="9600" y="10674"/>
                  <a:pt x="9649" y="10616"/>
                </a:cubicBezTo>
                <a:cubicBezTo>
                  <a:pt x="9700" y="10556"/>
                  <a:pt x="9699" y="10520"/>
                  <a:pt x="9699" y="10443"/>
                </a:cubicBezTo>
                <a:cubicBezTo>
                  <a:pt x="9699" y="10398"/>
                  <a:pt x="9702" y="10385"/>
                  <a:pt x="9674" y="10368"/>
                </a:cubicBezTo>
                <a:cubicBezTo>
                  <a:pt x="9600" y="10357"/>
                  <a:pt x="9565" y="10393"/>
                  <a:pt x="9525" y="10468"/>
                </a:cubicBezTo>
                <a:cubicBezTo>
                  <a:pt x="9493" y="10527"/>
                  <a:pt x="9483" y="10589"/>
                  <a:pt x="9525" y="10641"/>
                </a:cubicBezTo>
                <a:cubicBezTo>
                  <a:pt x="9566" y="10692"/>
                  <a:pt x="9588" y="10707"/>
                  <a:pt x="9649" y="10716"/>
                </a:cubicBezTo>
              </a:path>
              <a:path w="1613" h="993">
                <a:moveTo>
                  <a:pt x="10021" y="9971"/>
                </a:moveTo>
                <a:cubicBezTo>
                  <a:pt x="9971" y="10057"/>
                  <a:pt x="9888" y="10169"/>
                  <a:pt x="9872" y="10269"/>
                </a:cubicBezTo>
                <a:cubicBezTo>
                  <a:pt x="9857" y="10361"/>
                  <a:pt x="9864" y="10489"/>
                  <a:pt x="9922" y="10567"/>
                </a:cubicBezTo>
                <a:cubicBezTo>
                  <a:pt x="9974" y="10637"/>
                  <a:pt x="10095" y="10771"/>
                  <a:pt x="10195" y="10765"/>
                </a:cubicBezTo>
                <a:cubicBezTo>
                  <a:pt x="10284" y="10760"/>
                  <a:pt x="10367" y="10670"/>
                  <a:pt x="10418" y="10616"/>
                </a:cubicBezTo>
                <a:cubicBezTo>
                  <a:pt x="10493" y="10538"/>
                  <a:pt x="10513" y="10451"/>
                  <a:pt x="10517" y="10344"/>
                </a:cubicBezTo>
                <a:cubicBezTo>
                  <a:pt x="10520" y="10254"/>
                  <a:pt x="10520" y="10150"/>
                  <a:pt x="10468" y="10071"/>
                </a:cubicBezTo>
                <a:cubicBezTo>
                  <a:pt x="10385" y="9946"/>
                  <a:pt x="10241" y="9932"/>
                  <a:pt x="10120" y="9897"/>
                </a:cubicBezTo>
                <a:cubicBezTo>
                  <a:pt x="10104" y="9889"/>
                  <a:pt x="10087" y="9880"/>
                  <a:pt x="10071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64000" y="3411360"/>
            <a:ext cx="1447920" cy="490680"/>
          </a:xfrm>
          <a:custGeom>
            <a:avLst/>
            <a:gdLst/>
            <a:ahLst/>
            <a:rect l="l" t="t" r="r" b="b"/>
            <a:pathLst>
              <a:path w="4020" h="1366">
                <a:moveTo>
                  <a:pt x="13171" y="10393"/>
                </a:moveTo>
                <a:cubicBezTo>
                  <a:pt x="13171" y="10426"/>
                  <a:pt x="13171" y="10459"/>
                  <a:pt x="13171" y="10492"/>
                </a:cubicBezTo>
                <a:cubicBezTo>
                  <a:pt x="13171" y="10584"/>
                  <a:pt x="13186" y="10501"/>
                  <a:pt x="13171" y="10468"/>
                </a:cubicBezTo>
                <a:cubicBezTo>
                  <a:pt x="13141" y="10403"/>
                  <a:pt x="13142" y="10340"/>
                  <a:pt x="13122" y="10269"/>
                </a:cubicBezTo>
                <a:cubicBezTo>
                  <a:pt x="13101" y="10194"/>
                  <a:pt x="13035" y="10116"/>
                  <a:pt x="12973" y="10071"/>
                </a:cubicBezTo>
                <a:cubicBezTo>
                  <a:pt x="12915" y="10029"/>
                  <a:pt x="12845" y="10010"/>
                  <a:pt x="12774" y="10021"/>
                </a:cubicBezTo>
                <a:cubicBezTo>
                  <a:pt x="12663" y="10038"/>
                  <a:pt x="12538" y="10062"/>
                  <a:pt x="12477" y="10170"/>
                </a:cubicBezTo>
                <a:cubicBezTo>
                  <a:pt x="12421" y="10269"/>
                  <a:pt x="12421" y="10341"/>
                  <a:pt x="12427" y="10443"/>
                </a:cubicBezTo>
                <a:cubicBezTo>
                  <a:pt x="12433" y="10543"/>
                  <a:pt x="12440" y="10646"/>
                  <a:pt x="12526" y="10716"/>
                </a:cubicBezTo>
                <a:cubicBezTo>
                  <a:pt x="12580" y="10760"/>
                  <a:pt x="12706" y="10801"/>
                  <a:pt x="12774" y="10790"/>
                </a:cubicBezTo>
                <a:cubicBezTo>
                  <a:pt x="12866" y="10776"/>
                  <a:pt x="12965" y="10712"/>
                  <a:pt x="13022" y="10641"/>
                </a:cubicBezTo>
                <a:cubicBezTo>
                  <a:pt x="13099" y="10545"/>
                  <a:pt x="13117" y="10409"/>
                  <a:pt x="13146" y="10294"/>
                </a:cubicBezTo>
                <a:cubicBezTo>
                  <a:pt x="13178" y="10166"/>
                  <a:pt x="13192" y="10029"/>
                  <a:pt x="13196" y="9897"/>
                </a:cubicBezTo>
                <a:cubicBezTo>
                  <a:pt x="13199" y="9780"/>
                  <a:pt x="13181" y="9637"/>
                  <a:pt x="13146" y="9525"/>
                </a:cubicBezTo>
                <a:cubicBezTo>
                  <a:pt x="13138" y="9508"/>
                  <a:pt x="13130" y="9492"/>
                  <a:pt x="13122" y="9475"/>
                </a:cubicBezTo>
                <a:cubicBezTo>
                  <a:pt x="13093" y="9553"/>
                  <a:pt x="13097" y="9614"/>
                  <a:pt x="13097" y="9699"/>
                </a:cubicBezTo>
                <a:cubicBezTo>
                  <a:pt x="13097" y="9823"/>
                  <a:pt x="13102" y="9950"/>
                  <a:pt x="13122" y="10071"/>
                </a:cubicBezTo>
                <a:cubicBezTo>
                  <a:pt x="13142" y="10192"/>
                  <a:pt x="13170" y="10325"/>
                  <a:pt x="13196" y="10443"/>
                </a:cubicBezTo>
                <a:cubicBezTo>
                  <a:pt x="13212" y="10517"/>
                  <a:pt x="13270" y="10586"/>
                  <a:pt x="13320" y="10641"/>
                </a:cubicBezTo>
                <a:cubicBezTo>
                  <a:pt x="13348" y="10669"/>
                  <a:pt x="13362" y="10678"/>
                  <a:pt x="13395" y="10666"/>
                </a:cubicBezTo>
              </a:path>
              <a:path w="4020" h="1366">
                <a:moveTo>
                  <a:pt x="13618" y="10170"/>
                </a:moveTo>
                <a:cubicBezTo>
                  <a:pt x="13731" y="10151"/>
                  <a:pt x="13826" y="10145"/>
                  <a:pt x="13940" y="10145"/>
                </a:cubicBezTo>
              </a:path>
              <a:path w="4020" h="1366">
                <a:moveTo>
                  <a:pt x="13667" y="10393"/>
                </a:moveTo>
                <a:cubicBezTo>
                  <a:pt x="13830" y="10434"/>
                  <a:pt x="13953" y="10479"/>
                  <a:pt x="14114" y="10393"/>
                </a:cubicBezTo>
                <a:cubicBezTo>
                  <a:pt x="14122" y="10385"/>
                  <a:pt x="14131" y="10376"/>
                  <a:pt x="14139" y="10368"/>
                </a:cubicBezTo>
              </a:path>
              <a:path w="4020" h="1366">
                <a:moveTo>
                  <a:pt x="14288" y="10120"/>
                </a:moveTo>
                <a:cubicBezTo>
                  <a:pt x="14397" y="10106"/>
                  <a:pt x="14468" y="10106"/>
                  <a:pt x="14560" y="10071"/>
                </a:cubicBezTo>
              </a:path>
              <a:path w="4020" h="1366">
                <a:moveTo>
                  <a:pt x="14883" y="9723"/>
                </a:moveTo>
                <a:cubicBezTo>
                  <a:pt x="15019" y="9651"/>
                  <a:pt x="15036" y="9649"/>
                  <a:pt x="15180" y="9649"/>
                </a:cubicBezTo>
                <a:cubicBezTo>
                  <a:pt x="15267" y="9649"/>
                  <a:pt x="15295" y="9665"/>
                  <a:pt x="15354" y="9723"/>
                </a:cubicBezTo>
                <a:cubicBezTo>
                  <a:pt x="15416" y="9784"/>
                  <a:pt x="15354" y="9816"/>
                  <a:pt x="15329" y="9872"/>
                </a:cubicBezTo>
                <a:cubicBezTo>
                  <a:pt x="15284" y="9972"/>
                  <a:pt x="15223" y="10011"/>
                  <a:pt x="15156" y="10096"/>
                </a:cubicBezTo>
                <a:cubicBezTo>
                  <a:pt x="15093" y="10177"/>
                  <a:pt x="15033" y="10255"/>
                  <a:pt x="14982" y="10344"/>
                </a:cubicBezTo>
                <a:cubicBezTo>
                  <a:pt x="14950" y="10400"/>
                  <a:pt x="14879" y="10503"/>
                  <a:pt x="14883" y="10567"/>
                </a:cubicBezTo>
                <a:cubicBezTo>
                  <a:pt x="14885" y="10593"/>
                  <a:pt x="14934" y="10632"/>
                  <a:pt x="14957" y="10641"/>
                </a:cubicBezTo>
                <a:cubicBezTo>
                  <a:pt x="15053" y="10677"/>
                  <a:pt x="15155" y="10666"/>
                  <a:pt x="15255" y="10666"/>
                </a:cubicBezTo>
                <a:cubicBezTo>
                  <a:pt x="15385" y="10666"/>
                  <a:pt x="15464" y="10674"/>
                  <a:pt x="15577" y="10616"/>
                </a:cubicBezTo>
                <a:cubicBezTo>
                  <a:pt x="15594" y="10608"/>
                  <a:pt x="15610" y="10600"/>
                  <a:pt x="15627" y="10592"/>
                </a:cubicBezTo>
              </a:path>
              <a:path w="4020" h="1366">
                <a:moveTo>
                  <a:pt x="15999" y="9922"/>
                </a:moveTo>
                <a:cubicBezTo>
                  <a:pt x="15935" y="10070"/>
                  <a:pt x="15849" y="10202"/>
                  <a:pt x="15875" y="10368"/>
                </a:cubicBezTo>
                <a:cubicBezTo>
                  <a:pt x="15895" y="10496"/>
                  <a:pt x="15947" y="10637"/>
                  <a:pt x="16024" y="10740"/>
                </a:cubicBezTo>
                <a:cubicBezTo>
                  <a:pt x="16061" y="10789"/>
                  <a:pt x="16180" y="10872"/>
                  <a:pt x="16247" y="10840"/>
                </a:cubicBezTo>
                <a:cubicBezTo>
                  <a:pt x="16318" y="10806"/>
                  <a:pt x="16405" y="10691"/>
                  <a:pt x="16421" y="10616"/>
                </a:cubicBezTo>
                <a:cubicBezTo>
                  <a:pt x="16448" y="10495"/>
                  <a:pt x="16417" y="10332"/>
                  <a:pt x="16371" y="10220"/>
                </a:cubicBezTo>
                <a:cubicBezTo>
                  <a:pt x="16329" y="10118"/>
                  <a:pt x="16234" y="9993"/>
                  <a:pt x="16148" y="9922"/>
                </a:cubicBezTo>
                <a:cubicBezTo>
                  <a:pt x="16066" y="9854"/>
                  <a:pt x="15975" y="9832"/>
                  <a:pt x="15875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18160" y="3554280"/>
            <a:ext cx="189000" cy="9864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18107" y="9872"/>
                </a:moveTo>
                <a:cubicBezTo>
                  <a:pt x="18206" y="9872"/>
                  <a:pt x="18306" y="9872"/>
                  <a:pt x="18405" y="9872"/>
                </a:cubicBezTo>
              </a:path>
              <a:path w="522" h="274">
                <a:moveTo>
                  <a:pt x="18256" y="10120"/>
                </a:moveTo>
                <a:cubicBezTo>
                  <a:pt x="18429" y="10137"/>
                  <a:pt x="18482" y="10157"/>
                  <a:pt x="18628" y="101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54080" y="4295880"/>
            <a:ext cx="955800" cy="803160"/>
          </a:xfrm>
          <a:custGeom>
            <a:avLst/>
            <a:gdLst/>
            <a:ahLst/>
            <a:rect l="l" t="t" r="r" b="b"/>
            <a:pathLst>
              <a:path w="2655" h="2233">
                <a:moveTo>
                  <a:pt x="3448" y="12700"/>
                </a:moveTo>
                <a:cubicBezTo>
                  <a:pt x="3348" y="12849"/>
                  <a:pt x="3272" y="12997"/>
                  <a:pt x="3225" y="13171"/>
                </a:cubicBezTo>
                <a:cubicBezTo>
                  <a:pt x="3182" y="13329"/>
                  <a:pt x="3138" y="13483"/>
                  <a:pt x="3101" y="13643"/>
                </a:cubicBezTo>
                <a:cubicBezTo>
                  <a:pt x="3088" y="13698"/>
                  <a:pt x="3028" y="13907"/>
                  <a:pt x="2977" y="13940"/>
                </a:cubicBezTo>
                <a:cubicBezTo>
                  <a:pt x="2952" y="13965"/>
                  <a:pt x="2944" y="13973"/>
                  <a:pt x="2927" y="13940"/>
                </a:cubicBezTo>
                <a:cubicBezTo>
                  <a:pt x="2933" y="13855"/>
                  <a:pt x="2930" y="13748"/>
                  <a:pt x="2952" y="13667"/>
                </a:cubicBezTo>
                <a:cubicBezTo>
                  <a:pt x="2997" y="13500"/>
                  <a:pt x="3067" y="13335"/>
                  <a:pt x="3125" y="13171"/>
                </a:cubicBezTo>
                <a:cubicBezTo>
                  <a:pt x="3188" y="12993"/>
                  <a:pt x="3215" y="12805"/>
                  <a:pt x="3274" y="12626"/>
                </a:cubicBezTo>
                <a:cubicBezTo>
                  <a:pt x="3323" y="12478"/>
                  <a:pt x="3354" y="12329"/>
                  <a:pt x="3398" y="12179"/>
                </a:cubicBezTo>
                <a:cubicBezTo>
                  <a:pt x="3419" y="12108"/>
                  <a:pt x="3416" y="11989"/>
                  <a:pt x="3448" y="11931"/>
                </a:cubicBezTo>
                <a:cubicBezTo>
                  <a:pt x="3456" y="11931"/>
                  <a:pt x="3465" y="11931"/>
                  <a:pt x="3473" y="11931"/>
                </a:cubicBezTo>
                <a:cubicBezTo>
                  <a:pt x="3473" y="12027"/>
                  <a:pt x="3482" y="12111"/>
                  <a:pt x="3497" y="12204"/>
                </a:cubicBezTo>
                <a:cubicBezTo>
                  <a:pt x="3542" y="12489"/>
                  <a:pt x="3588" y="12691"/>
                  <a:pt x="3696" y="12948"/>
                </a:cubicBezTo>
                <a:cubicBezTo>
                  <a:pt x="3764" y="13111"/>
                  <a:pt x="3838" y="13262"/>
                  <a:pt x="3919" y="13419"/>
                </a:cubicBezTo>
                <a:cubicBezTo>
                  <a:pt x="3966" y="13510"/>
                  <a:pt x="4013" y="13619"/>
                  <a:pt x="4043" y="13717"/>
                </a:cubicBezTo>
                <a:cubicBezTo>
                  <a:pt x="4043" y="13725"/>
                  <a:pt x="4043" y="13734"/>
                  <a:pt x="4043" y="13742"/>
                </a:cubicBezTo>
                <a:cubicBezTo>
                  <a:pt x="3973" y="13698"/>
                  <a:pt x="3890" y="13626"/>
                  <a:pt x="3820" y="13568"/>
                </a:cubicBezTo>
              </a:path>
              <a:path w="2655" h="2233">
                <a:moveTo>
                  <a:pt x="3125" y="13295"/>
                </a:moveTo>
                <a:cubicBezTo>
                  <a:pt x="3230" y="13356"/>
                  <a:pt x="3327" y="13384"/>
                  <a:pt x="3448" y="13395"/>
                </a:cubicBezTo>
                <a:cubicBezTo>
                  <a:pt x="3547" y="13395"/>
                  <a:pt x="3580" y="13395"/>
                  <a:pt x="3646" y="13395"/>
                </a:cubicBezTo>
              </a:path>
              <a:path w="2655" h="2233">
                <a:moveTo>
                  <a:pt x="4366" y="13841"/>
                </a:moveTo>
                <a:cubicBezTo>
                  <a:pt x="4366" y="13914"/>
                  <a:pt x="4360" y="13978"/>
                  <a:pt x="4341" y="14015"/>
                </a:cubicBezTo>
                <a:cubicBezTo>
                  <a:pt x="4341" y="14023"/>
                  <a:pt x="4341" y="14031"/>
                  <a:pt x="4341" y="14039"/>
                </a:cubicBezTo>
                <a:cubicBezTo>
                  <a:pt x="4341" y="13976"/>
                  <a:pt x="4363" y="13949"/>
                  <a:pt x="4366" y="13891"/>
                </a:cubicBezTo>
                <a:cubicBezTo>
                  <a:pt x="4371" y="13812"/>
                  <a:pt x="4411" y="13765"/>
                  <a:pt x="4440" y="13692"/>
                </a:cubicBezTo>
                <a:cubicBezTo>
                  <a:pt x="4471" y="13614"/>
                  <a:pt x="4517" y="13545"/>
                  <a:pt x="4589" y="13494"/>
                </a:cubicBezTo>
                <a:cubicBezTo>
                  <a:pt x="4640" y="13458"/>
                  <a:pt x="4695" y="13455"/>
                  <a:pt x="4738" y="13494"/>
                </a:cubicBezTo>
                <a:cubicBezTo>
                  <a:pt x="4818" y="13567"/>
                  <a:pt x="4792" y="13673"/>
                  <a:pt x="4812" y="13767"/>
                </a:cubicBezTo>
                <a:cubicBezTo>
                  <a:pt x="4834" y="13872"/>
                  <a:pt x="4878" y="14024"/>
                  <a:pt x="4936" y="14114"/>
                </a:cubicBezTo>
                <a:cubicBezTo>
                  <a:pt x="4953" y="14141"/>
                  <a:pt x="4999" y="14183"/>
                  <a:pt x="5035" y="14163"/>
                </a:cubicBezTo>
                <a:cubicBezTo>
                  <a:pt x="5064" y="14135"/>
                  <a:pt x="5072" y="14122"/>
                  <a:pt x="5060" y="14089"/>
                </a:cubicBezTo>
              </a:path>
              <a:path w="2655" h="2233">
                <a:moveTo>
                  <a:pt x="5135" y="13146"/>
                </a:moveTo>
                <a:cubicBezTo>
                  <a:pt x="5266" y="13153"/>
                  <a:pt x="5357" y="13179"/>
                  <a:pt x="5482" y="13196"/>
                </a:cubicBezTo>
                <a:cubicBezTo>
                  <a:pt x="5533" y="13196"/>
                  <a:pt x="5552" y="13197"/>
                  <a:pt x="5581" y="13221"/>
                </a:cubicBezTo>
              </a:path>
              <a:path w="2655" h="2233">
                <a:moveTo>
                  <a:pt x="5035" y="13469"/>
                </a:moveTo>
                <a:cubicBezTo>
                  <a:pt x="5170" y="13514"/>
                  <a:pt x="5287" y="13536"/>
                  <a:pt x="5432" y="13543"/>
                </a:cubicBezTo>
                <a:cubicBezTo>
                  <a:pt x="5457" y="13543"/>
                  <a:pt x="5465" y="13543"/>
                  <a:pt x="5482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32000" y="4464000"/>
            <a:ext cx="777960" cy="509760"/>
          </a:xfrm>
          <a:custGeom>
            <a:avLst/>
            <a:gdLst/>
            <a:ahLst/>
            <a:rect l="l" t="t" r="r" b="b"/>
            <a:pathLst>
              <a:path w="2159" h="1415">
                <a:moveTo>
                  <a:pt x="6474" y="12402"/>
                </a:moveTo>
                <a:cubicBezTo>
                  <a:pt x="6556" y="12454"/>
                  <a:pt x="6626" y="12469"/>
                  <a:pt x="6648" y="12576"/>
                </a:cubicBezTo>
                <a:cubicBezTo>
                  <a:pt x="6669" y="12682"/>
                  <a:pt x="6672" y="12789"/>
                  <a:pt x="6672" y="12898"/>
                </a:cubicBezTo>
                <a:cubicBezTo>
                  <a:pt x="6672" y="13022"/>
                  <a:pt x="6658" y="13204"/>
                  <a:pt x="6623" y="13320"/>
                </a:cubicBezTo>
                <a:cubicBezTo>
                  <a:pt x="6600" y="13396"/>
                  <a:pt x="6534" y="13562"/>
                  <a:pt x="6474" y="13618"/>
                </a:cubicBezTo>
                <a:cubicBezTo>
                  <a:pt x="6421" y="13668"/>
                  <a:pt x="6374" y="13674"/>
                  <a:pt x="6325" y="13667"/>
                </a:cubicBezTo>
                <a:cubicBezTo>
                  <a:pt x="6270" y="13660"/>
                  <a:pt x="6217" y="13608"/>
                  <a:pt x="6201" y="13543"/>
                </a:cubicBezTo>
                <a:cubicBezTo>
                  <a:pt x="6182" y="13463"/>
                  <a:pt x="6189" y="13319"/>
                  <a:pt x="6226" y="13246"/>
                </a:cubicBezTo>
                <a:cubicBezTo>
                  <a:pt x="6251" y="13196"/>
                  <a:pt x="6325" y="13177"/>
                  <a:pt x="6375" y="13196"/>
                </a:cubicBezTo>
                <a:cubicBezTo>
                  <a:pt x="6423" y="13214"/>
                  <a:pt x="6497" y="13329"/>
                  <a:pt x="6524" y="13370"/>
                </a:cubicBezTo>
                <a:cubicBezTo>
                  <a:pt x="6561" y="13426"/>
                  <a:pt x="6631" y="13531"/>
                  <a:pt x="6648" y="13593"/>
                </a:cubicBezTo>
                <a:cubicBezTo>
                  <a:pt x="6662" y="13642"/>
                  <a:pt x="6649" y="13717"/>
                  <a:pt x="6722" y="13717"/>
                </a:cubicBezTo>
                <a:cubicBezTo>
                  <a:pt x="6750" y="13717"/>
                  <a:pt x="6761" y="13715"/>
                  <a:pt x="6772" y="13692"/>
                </a:cubicBezTo>
              </a:path>
              <a:path w="2159" h="1415">
                <a:moveTo>
                  <a:pt x="7094" y="12650"/>
                </a:moveTo>
                <a:cubicBezTo>
                  <a:pt x="7094" y="12701"/>
                  <a:pt x="7081" y="12751"/>
                  <a:pt x="7069" y="12799"/>
                </a:cubicBezTo>
                <a:cubicBezTo>
                  <a:pt x="7041" y="12908"/>
                  <a:pt x="6985" y="13010"/>
                  <a:pt x="6970" y="13122"/>
                </a:cubicBezTo>
                <a:cubicBezTo>
                  <a:pt x="6951" y="13263"/>
                  <a:pt x="7007" y="13388"/>
                  <a:pt x="7094" y="13494"/>
                </a:cubicBezTo>
                <a:cubicBezTo>
                  <a:pt x="7135" y="13544"/>
                  <a:pt x="7223" y="13609"/>
                  <a:pt x="7293" y="13593"/>
                </a:cubicBezTo>
                <a:cubicBezTo>
                  <a:pt x="7365" y="13577"/>
                  <a:pt x="7437" y="13477"/>
                  <a:pt x="7466" y="13419"/>
                </a:cubicBezTo>
                <a:cubicBezTo>
                  <a:pt x="7533" y="13286"/>
                  <a:pt x="7531" y="13089"/>
                  <a:pt x="7516" y="12948"/>
                </a:cubicBezTo>
                <a:cubicBezTo>
                  <a:pt x="7506" y="12851"/>
                  <a:pt x="7457" y="12675"/>
                  <a:pt x="7392" y="12601"/>
                </a:cubicBezTo>
                <a:cubicBezTo>
                  <a:pt x="7355" y="12559"/>
                  <a:pt x="7239" y="12496"/>
                  <a:pt x="7193" y="12502"/>
                </a:cubicBezTo>
                <a:cubicBezTo>
                  <a:pt x="7118" y="12511"/>
                  <a:pt x="7038" y="12608"/>
                  <a:pt x="7020" y="12675"/>
                </a:cubicBezTo>
                <a:cubicBezTo>
                  <a:pt x="6993" y="12776"/>
                  <a:pt x="6998" y="12897"/>
                  <a:pt x="7020" y="12998"/>
                </a:cubicBezTo>
                <a:cubicBezTo>
                  <a:pt x="7045" y="13114"/>
                  <a:pt x="7086" y="13148"/>
                  <a:pt x="7169" y="13221"/>
                </a:cubicBezTo>
              </a:path>
              <a:path w="2159" h="1415">
                <a:moveTo>
                  <a:pt x="7789" y="12626"/>
                </a:moveTo>
                <a:cubicBezTo>
                  <a:pt x="7770" y="12701"/>
                  <a:pt x="7778" y="12772"/>
                  <a:pt x="7764" y="12849"/>
                </a:cubicBezTo>
                <a:cubicBezTo>
                  <a:pt x="7738" y="12986"/>
                  <a:pt x="7754" y="13084"/>
                  <a:pt x="7764" y="13221"/>
                </a:cubicBezTo>
                <a:cubicBezTo>
                  <a:pt x="7776" y="13386"/>
                  <a:pt x="7797" y="13477"/>
                  <a:pt x="7888" y="13618"/>
                </a:cubicBezTo>
                <a:cubicBezTo>
                  <a:pt x="7940" y="13698"/>
                  <a:pt x="7984" y="13793"/>
                  <a:pt x="8086" y="13816"/>
                </a:cubicBezTo>
                <a:cubicBezTo>
                  <a:pt x="8209" y="13843"/>
                  <a:pt x="8278" y="13672"/>
                  <a:pt x="8310" y="13593"/>
                </a:cubicBezTo>
                <a:cubicBezTo>
                  <a:pt x="8365" y="13454"/>
                  <a:pt x="8376" y="13270"/>
                  <a:pt x="8359" y="13122"/>
                </a:cubicBezTo>
                <a:cubicBezTo>
                  <a:pt x="8342" y="12969"/>
                  <a:pt x="8287" y="12832"/>
                  <a:pt x="8210" y="12700"/>
                </a:cubicBezTo>
                <a:cubicBezTo>
                  <a:pt x="8152" y="12600"/>
                  <a:pt x="8035" y="12520"/>
                  <a:pt x="7913" y="12526"/>
                </a:cubicBezTo>
                <a:cubicBezTo>
                  <a:pt x="7875" y="12528"/>
                  <a:pt x="7796" y="12610"/>
                  <a:pt x="7789" y="12650"/>
                </a:cubicBezTo>
                <a:cubicBezTo>
                  <a:pt x="7778" y="12712"/>
                  <a:pt x="7806" y="12764"/>
                  <a:pt x="7813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70160" y="4394160"/>
            <a:ext cx="2251080" cy="749520"/>
          </a:xfrm>
          <a:custGeom>
            <a:avLst/>
            <a:gdLst/>
            <a:ahLst/>
            <a:rect l="l" t="t" r="r" b="b"/>
            <a:pathLst>
              <a:path w="6251" h="2085">
                <a:moveTo>
                  <a:pt x="9004" y="12700"/>
                </a:moveTo>
                <a:cubicBezTo>
                  <a:pt x="9004" y="12794"/>
                  <a:pt x="8973" y="12913"/>
                  <a:pt x="8979" y="12998"/>
                </a:cubicBezTo>
                <a:cubicBezTo>
                  <a:pt x="8987" y="13106"/>
                  <a:pt x="9000" y="13238"/>
                  <a:pt x="9029" y="13345"/>
                </a:cubicBezTo>
                <a:cubicBezTo>
                  <a:pt x="9052" y="13429"/>
                  <a:pt x="9085" y="13511"/>
                  <a:pt x="9103" y="13593"/>
                </a:cubicBezTo>
                <a:cubicBezTo>
                  <a:pt x="9103" y="13601"/>
                  <a:pt x="9103" y="13610"/>
                  <a:pt x="9103" y="13618"/>
                </a:cubicBezTo>
              </a:path>
              <a:path w="6251" h="2085">
                <a:moveTo>
                  <a:pt x="8806" y="13047"/>
                </a:moveTo>
                <a:cubicBezTo>
                  <a:pt x="8916" y="13047"/>
                  <a:pt x="8997" y="13072"/>
                  <a:pt x="9103" y="13097"/>
                </a:cubicBezTo>
                <a:cubicBezTo>
                  <a:pt x="9222" y="13125"/>
                  <a:pt x="9330" y="13122"/>
                  <a:pt x="9451" y="13122"/>
                </a:cubicBezTo>
              </a:path>
              <a:path w="6251" h="2085">
                <a:moveTo>
                  <a:pt x="10096" y="12526"/>
                </a:moveTo>
                <a:cubicBezTo>
                  <a:pt x="10054" y="12617"/>
                  <a:pt x="9996" y="12684"/>
                  <a:pt x="9947" y="12774"/>
                </a:cubicBezTo>
                <a:cubicBezTo>
                  <a:pt x="9877" y="12902"/>
                  <a:pt x="9834" y="13004"/>
                  <a:pt x="9798" y="13146"/>
                </a:cubicBezTo>
                <a:cubicBezTo>
                  <a:pt x="9770" y="13259"/>
                  <a:pt x="9776" y="13431"/>
                  <a:pt x="9823" y="13543"/>
                </a:cubicBezTo>
                <a:cubicBezTo>
                  <a:pt x="9845" y="13597"/>
                  <a:pt x="9907" y="13746"/>
                  <a:pt x="9971" y="13767"/>
                </a:cubicBezTo>
                <a:cubicBezTo>
                  <a:pt x="10016" y="13767"/>
                  <a:pt x="10029" y="13770"/>
                  <a:pt x="10046" y="13742"/>
                </a:cubicBezTo>
              </a:path>
              <a:path w="6251" h="2085">
                <a:moveTo>
                  <a:pt x="10220" y="13022"/>
                </a:moveTo>
                <a:cubicBezTo>
                  <a:pt x="10248" y="13100"/>
                  <a:pt x="10244" y="13162"/>
                  <a:pt x="10244" y="13246"/>
                </a:cubicBezTo>
                <a:cubicBezTo>
                  <a:pt x="10244" y="13317"/>
                  <a:pt x="10275" y="13431"/>
                  <a:pt x="10269" y="13494"/>
                </a:cubicBezTo>
                <a:cubicBezTo>
                  <a:pt x="10261" y="13510"/>
                  <a:pt x="10252" y="13527"/>
                  <a:pt x="10244" y="13543"/>
                </a:cubicBezTo>
                <a:cubicBezTo>
                  <a:pt x="10244" y="13584"/>
                  <a:pt x="10232" y="13509"/>
                  <a:pt x="10244" y="13469"/>
                </a:cubicBezTo>
                <a:cubicBezTo>
                  <a:pt x="10271" y="13378"/>
                  <a:pt x="10261" y="13288"/>
                  <a:pt x="10294" y="13196"/>
                </a:cubicBezTo>
                <a:cubicBezTo>
                  <a:pt x="10319" y="13127"/>
                  <a:pt x="10347" y="13032"/>
                  <a:pt x="10393" y="12973"/>
                </a:cubicBezTo>
                <a:cubicBezTo>
                  <a:pt x="10459" y="12889"/>
                  <a:pt x="10524" y="12880"/>
                  <a:pt x="10592" y="12973"/>
                </a:cubicBezTo>
                <a:cubicBezTo>
                  <a:pt x="10642" y="13041"/>
                  <a:pt x="10669" y="13142"/>
                  <a:pt x="10691" y="13221"/>
                </a:cubicBezTo>
                <a:cubicBezTo>
                  <a:pt x="10730" y="13360"/>
                  <a:pt x="10759" y="13538"/>
                  <a:pt x="10815" y="13667"/>
                </a:cubicBezTo>
                <a:cubicBezTo>
                  <a:pt x="10838" y="13719"/>
                  <a:pt x="10858" y="13708"/>
                  <a:pt x="10889" y="13692"/>
                </a:cubicBezTo>
              </a:path>
              <a:path w="6251" h="2085">
                <a:moveTo>
                  <a:pt x="11013" y="13221"/>
                </a:moveTo>
                <a:cubicBezTo>
                  <a:pt x="11117" y="13200"/>
                  <a:pt x="11205" y="13196"/>
                  <a:pt x="11311" y="13196"/>
                </a:cubicBezTo>
                <a:cubicBezTo>
                  <a:pt x="11363" y="13196"/>
                  <a:pt x="11381" y="13195"/>
                  <a:pt x="11410" y="13171"/>
                </a:cubicBezTo>
              </a:path>
              <a:path w="6251" h="2085">
                <a:moveTo>
                  <a:pt x="11658" y="12700"/>
                </a:moveTo>
                <a:cubicBezTo>
                  <a:pt x="11640" y="12878"/>
                  <a:pt x="11629" y="13023"/>
                  <a:pt x="11658" y="13196"/>
                </a:cubicBezTo>
                <a:cubicBezTo>
                  <a:pt x="11678" y="13317"/>
                  <a:pt x="11728" y="13419"/>
                  <a:pt x="11733" y="13543"/>
                </a:cubicBezTo>
                <a:cubicBezTo>
                  <a:pt x="11734" y="13558"/>
                  <a:pt x="11757" y="13681"/>
                  <a:pt x="11757" y="13618"/>
                </a:cubicBezTo>
                <a:cubicBezTo>
                  <a:pt x="11757" y="13610"/>
                  <a:pt x="11757" y="13601"/>
                  <a:pt x="11757" y="13593"/>
                </a:cubicBezTo>
              </a:path>
              <a:path w="6251" h="2085">
                <a:moveTo>
                  <a:pt x="11708" y="12204"/>
                </a:moveTo>
                <a:cubicBezTo>
                  <a:pt x="11897" y="12328"/>
                  <a:pt x="11961" y="12408"/>
                  <a:pt x="12080" y="12601"/>
                </a:cubicBezTo>
                <a:cubicBezTo>
                  <a:pt x="12190" y="12780"/>
                  <a:pt x="12237" y="12967"/>
                  <a:pt x="12278" y="13171"/>
                </a:cubicBezTo>
                <a:cubicBezTo>
                  <a:pt x="12311" y="13333"/>
                  <a:pt x="12312" y="13482"/>
                  <a:pt x="12278" y="13643"/>
                </a:cubicBezTo>
                <a:cubicBezTo>
                  <a:pt x="12254" y="13754"/>
                  <a:pt x="12221" y="13828"/>
                  <a:pt x="12154" y="13915"/>
                </a:cubicBezTo>
                <a:cubicBezTo>
                  <a:pt x="12132" y="13937"/>
                  <a:pt x="12127" y="13946"/>
                  <a:pt x="12105" y="13940"/>
                </a:cubicBezTo>
                <a:cubicBezTo>
                  <a:pt x="12112" y="13879"/>
                  <a:pt x="12126" y="13847"/>
                  <a:pt x="12154" y="13791"/>
                </a:cubicBezTo>
              </a:path>
              <a:path w="6251" h="2085">
                <a:moveTo>
                  <a:pt x="12874" y="12402"/>
                </a:moveTo>
                <a:cubicBezTo>
                  <a:pt x="12820" y="12548"/>
                  <a:pt x="12803" y="12674"/>
                  <a:pt x="12774" y="12824"/>
                </a:cubicBezTo>
                <a:cubicBezTo>
                  <a:pt x="12744" y="12981"/>
                  <a:pt x="12705" y="13132"/>
                  <a:pt x="12725" y="13295"/>
                </a:cubicBezTo>
                <a:cubicBezTo>
                  <a:pt x="12739" y="13410"/>
                  <a:pt x="12765" y="13616"/>
                  <a:pt x="12824" y="13717"/>
                </a:cubicBezTo>
                <a:cubicBezTo>
                  <a:pt x="12867" y="13791"/>
                  <a:pt x="12937" y="13935"/>
                  <a:pt x="13022" y="13866"/>
                </a:cubicBezTo>
                <a:cubicBezTo>
                  <a:pt x="13030" y="13858"/>
                  <a:pt x="13039" y="13849"/>
                  <a:pt x="13047" y="13841"/>
                </a:cubicBezTo>
              </a:path>
              <a:path w="6251" h="2085">
                <a:moveTo>
                  <a:pt x="13022" y="13072"/>
                </a:moveTo>
                <a:cubicBezTo>
                  <a:pt x="13110" y="13048"/>
                  <a:pt x="13179" y="13047"/>
                  <a:pt x="13271" y="13047"/>
                </a:cubicBezTo>
                <a:cubicBezTo>
                  <a:pt x="13339" y="13047"/>
                  <a:pt x="13358" y="13050"/>
                  <a:pt x="13395" y="13022"/>
                </a:cubicBezTo>
              </a:path>
              <a:path w="6251" h="2085">
                <a:moveTo>
                  <a:pt x="13643" y="12675"/>
                </a:moveTo>
                <a:cubicBezTo>
                  <a:pt x="13731" y="12675"/>
                  <a:pt x="13771" y="12688"/>
                  <a:pt x="13816" y="12774"/>
                </a:cubicBezTo>
                <a:cubicBezTo>
                  <a:pt x="13867" y="12873"/>
                  <a:pt x="13887" y="12989"/>
                  <a:pt x="13891" y="13097"/>
                </a:cubicBezTo>
                <a:cubicBezTo>
                  <a:pt x="13896" y="13232"/>
                  <a:pt x="13870" y="13321"/>
                  <a:pt x="13816" y="13444"/>
                </a:cubicBezTo>
                <a:cubicBezTo>
                  <a:pt x="13789" y="13507"/>
                  <a:pt x="13734" y="13570"/>
                  <a:pt x="13667" y="13593"/>
                </a:cubicBezTo>
                <a:cubicBezTo>
                  <a:pt x="13595" y="13617"/>
                  <a:pt x="13589" y="13539"/>
                  <a:pt x="13568" y="13494"/>
                </a:cubicBezTo>
                <a:cubicBezTo>
                  <a:pt x="13530" y="13411"/>
                  <a:pt x="13519" y="13364"/>
                  <a:pt x="13519" y="13271"/>
                </a:cubicBezTo>
                <a:cubicBezTo>
                  <a:pt x="13519" y="13228"/>
                  <a:pt x="13554" y="13200"/>
                  <a:pt x="13593" y="13196"/>
                </a:cubicBezTo>
                <a:cubicBezTo>
                  <a:pt x="13632" y="13192"/>
                  <a:pt x="13688" y="13245"/>
                  <a:pt x="13717" y="13271"/>
                </a:cubicBezTo>
                <a:cubicBezTo>
                  <a:pt x="13781" y="13330"/>
                  <a:pt x="13863" y="13392"/>
                  <a:pt x="13915" y="13444"/>
                </a:cubicBezTo>
                <a:cubicBezTo>
                  <a:pt x="13963" y="13493"/>
                  <a:pt x="13963" y="13519"/>
                  <a:pt x="14039" y="13519"/>
                </a:cubicBezTo>
              </a:path>
              <a:path w="6251" h="2085">
                <a:moveTo>
                  <a:pt x="14213" y="12824"/>
                </a:moveTo>
                <a:cubicBezTo>
                  <a:pt x="14207" y="12911"/>
                  <a:pt x="14157" y="13039"/>
                  <a:pt x="14163" y="13122"/>
                </a:cubicBezTo>
                <a:cubicBezTo>
                  <a:pt x="14172" y="13237"/>
                  <a:pt x="14218" y="13318"/>
                  <a:pt x="14263" y="13419"/>
                </a:cubicBezTo>
                <a:cubicBezTo>
                  <a:pt x="14304" y="13510"/>
                  <a:pt x="14334" y="13577"/>
                  <a:pt x="14436" y="13593"/>
                </a:cubicBezTo>
                <a:cubicBezTo>
                  <a:pt x="14532" y="13608"/>
                  <a:pt x="14566" y="13453"/>
                  <a:pt x="14585" y="13395"/>
                </a:cubicBezTo>
                <a:cubicBezTo>
                  <a:pt x="14630" y="13254"/>
                  <a:pt x="14597" y="13158"/>
                  <a:pt x="14560" y="13022"/>
                </a:cubicBezTo>
                <a:cubicBezTo>
                  <a:pt x="14531" y="12913"/>
                  <a:pt x="14480" y="12798"/>
                  <a:pt x="14387" y="12725"/>
                </a:cubicBezTo>
                <a:cubicBezTo>
                  <a:pt x="14346" y="12693"/>
                  <a:pt x="14311" y="12700"/>
                  <a:pt x="14263" y="12700"/>
                </a:cubicBezTo>
                <a:cubicBezTo>
                  <a:pt x="14220" y="12743"/>
                  <a:pt x="14208" y="12765"/>
                  <a:pt x="14238" y="12824"/>
                </a:cubicBezTo>
                <a:cubicBezTo>
                  <a:pt x="14246" y="12832"/>
                  <a:pt x="14255" y="12841"/>
                  <a:pt x="14263" y="12849"/>
                </a:cubicBezTo>
              </a:path>
              <a:path w="6251" h="2085">
                <a:moveTo>
                  <a:pt x="14709" y="12229"/>
                </a:moveTo>
                <a:cubicBezTo>
                  <a:pt x="14797" y="12357"/>
                  <a:pt x="14891" y="12497"/>
                  <a:pt x="14932" y="12650"/>
                </a:cubicBezTo>
                <a:cubicBezTo>
                  <a:pt x="15001" y="12912"/>
                  <a:pt x="15059" y="13196"/>
                  <a:pt x="15056" y="13469"/>
                </a:cubicBezTo>
                <a:cubicBezTo>
                  <a:pt x="15054" y="13656"/>
                  <a:pt x="14984" y="13847"/>
                  <a:pt x="14908" y="14015"/>
                </a:cubicBezTo>
                <a:cubicBezTo>
                  <a:pt x="14857" y="14128"/>
                  <a:pt x="14765" y="14195"/>
                  <a:pt x="14684" y="142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25360" y="4840200"/>
            <a:ext cx="785880" cy="1044720"/>
          </a:xfrm>
          <a:custGeom>
            <a:avLst/>
            <a:gdLst/>
            <a:ahLst/>
            <a:rect l="l" t="t" r="r" b="b"/>
            <a:pathLst>
              <a:path w="2184" h="2903">
                <a:moveTo>
                  <a:pt x="5011" y="13444"/>
                </a:moveTo>
                <a:cubicBezTo>
                  <a:pt x="5011" y="13475"/>
                  <a:pt x="5036" y="13486"/>
                  <a:pt x="5060" y="13494"/>
                </a:cubicBezTo>
              </a:path>
              <a:path w="2184" h="2903">
                <a:moveTo>
                  <a:pt x="3373" y="15056"/>
                </a:moveTo>
                <a:cubicBezTo>
                  <a:pt x="3334" y="15175"/>
                  <a:pt x="3332" y="15286"/>
                  <a:pt x="3299" y="15404"/>
                </a:cubicBezTo>
                <a:cubicBezTo>
                  <a:pt x="3273" y="15496"/>
                  <a:pt x="3241" y="15591"/>
                  <a:pt x="3200" y="15677"/>
                </a:cubicBezTo>
                <a:cubicBezTo>
                  <a:pt x="3200" y="15705"/>
                  <a:pt x="3197" y="15715"/>
                  <a:pt x="3175" y="15726"/>
                </a:cubicBezTo>
                <a:cubicBezTo>
                  <a:pt x="3159" y="15663"/>
                  <a:pt x="3133" y="15577"/>
                  <a:pt x="3125" y="15503"/>
                </a:cubicBezTo>
                <a:cubicBezTo>
                  <a:pt x="3112" y="15390"/>
                  <a:pt x="3134" y="15220"/>
                  <a:pt x="3150" y="15106"/>
                </a:cubicBezTo>
                <a:cubicBezTo>
                  <a:pt x="3180" y="14886"/>
                  <a:pt x="3256" y="14647"/>
                  <a:pt x="3324" y="14436"/>
                </a:cubicBezTo>
                <a:cubicBezTo>
                  <a:pt x="3349" y="14360"/>
                  <a:pt x="3369" y="14285"/>
                  <a:pt x="3398" y="14213"/>
                </a:cubicBezTo>
                <a:cubicBezTo>
                  <a:pt x="3451" y="14273"/>
                  <a:pt x="3452" y="14294"/>
                  <a:pt x="3473" y="14387"/>
                </a:cubicBezTo>
                <a:cubicBezTo>
                  <a:pt x="3504" y="14525"/>
                  <a:pt x="3504" y="14670"/>
                  <a:pt x="3547" y="14808"/>
                </a:cubicBezTo>
                <a:cubicBezTo>
                  <a:pt x="3606" y="14997"/>
                  <a:pt x="3656" y="15191"/>
                  <a:pt x="3721" y="15379"/>
                </a:cubicBezTo>
                <a:cubicBezTo>
                  <a:pt x="3773" y="15530"/>
                  <a:pt x="3837" y="15677"/>
                  <a:pt x="3894" y="15825"/>
                </a:cubicBezTo>
                <a:cubicBezTo>
                  <a:pt x="3913" y="15876"/>
                  <a:pt x="3953" y="15978"/>
                  <a:pt x="3944" y="15925"/>
                </a:cubicBezTo>
                <a:cubicBezTo>
                  <a:pt x="3936" y="15908"/>
                  <a:pt x="3927" y="15892"/>
                  <a:pt x="3919" y="15875"/>
                </a:cubicBezTo>
              </a:path>
              <a:path w="2184" h="2903">
                <a:moveTo>
                  <a:pt x="3299" y="15156"/>
                </a:moveTo>
                <a:cubicBezTo>
                  <a:pt x="3317" y="15219"/>
                  <a:pt x="3371" y="15276"/>
                  <a:pt x="3448" y="15304"/>
                </a:cubicBezTo>
                <a:cubicBezTo>
                  <a:pt x="3535" y="15335"/>
                  <a:pt x="3632" y="15355"/>
                  <a:pt x="3721" y="15379"/>
                </a:cubicBezTo>
              </a:path>
              <a:path w="2184" h="2903">
                <a:moveTo>
                  <a:pt x="4118" y="15776"/>
                </a:moveTo>
                <a:cubicBezTo>
                  <a:pt x="4118" y="15929"/>
                  <a:pt x="4104" y="16036"/>
                  <a:pt x="4093" y="16173"/>
                </a:cubicBezTo>
                <a:cubicBezTo>
                  <a:pt x="4093" y="16197"/>
                  <a:pt x="4093" y="16206"/>
                  <a:pt x="4093" y="16222"/>
                </a:cubicBezTo>
                <a:cubicBezTo>
                  <a:pt x="4074" y="16216"/>
                  <a:pt x="4049" y="16177"/>
                  <a:pt x="4043" y="16148"/>
                </a:cubicBezTo>
                <a:cubicBezTo>
                  <a:pt x="4024" y="16060"/>
                  <a:pt x="4069" y="15875"/>
                  <a:pt x="4118" y="15801"/>
                </a:cubicBezTo>
                <a:cubicBezTo>
                  <a:pt x="4168" y="15725"/>
                  <a:pt x="4199" y="15658"/>
                  <a:pt x="4266" y="15602"/>
                </a:cubicBezTo>
                <a:cubicBezTo>
                  <a:pt x="4319" y="15557"/>
                  <a:pt x="4351" y="15535"/>
                  <a:pt x="4415" y="15577"/>
                </a:cubicBezTo>
                <a:cubicBezTo>
                  <a:pt x="4475" y="15617"/>
                  <a:pt x="4492" y="15687"/>
                  <a:pt x="4514" y="15751"/>
                </a:cubicBezTo>
                <a:cubicBezTo>
                  <a:pt x="4564" y="15897"/>
                  <a:pt x="4586" y="16052"/>
                  <a:pt x="4638" y="16197"/>
                </a:cubicBezTo>
                <a:cubicBezTo>
                  <a:pt x="4658" y="16254"/>
                  <a:pt x="4706" y="16296"/>
                  <a:pt x="4738" y="16346"/>
                </a:cubicBezTo>
              </a:path>
              <a:path w="2184" h="2903">
                <a:moveTo>
                  <a:pt x="4887" y="15156"/>
                </a:moveTo>
                <a:cubicBezTo>
                  <a:pt x="5014" y="15184"/>
                  <a:pt x="5090" y="15194"/>
                  <a:pt x="5184" y="15280"/>
                </a:cubicBezTo>
                <a:cubicBezTo>
                  <a:pt x="5192" y="15288"/>
                  <a:pt x="5201" y="15296"/>
                  <a:pt x="5209" y="15304"/>
                </a:cubicBezTo>
              </a:path>
              <a:path w="2184" h="2903">
                <a:moveTo>
                  <a:pt x="5011" y="15553"/>
                </a:moveTo>
                <a:cubicBezTo>
                  <a:pt x="5123" y="15575"/>
                  <a:pt x="5200" y="15588"/>
                  <a:pt x="5308" y="155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08160" y="5313240"/>
            <a:ext cx="2865600" cy="473040"/>
          </a:xfrm>
          <a:custGeom>
            <a:avLst/>
            <a:gdLst/>
            <a:ahLst/>
            <a:rect l="l" t="t" r="r" b="b"/>
            <a:pathLst>
              <a:path w="7963" h="1315">
                <a:moveTo>
                  <a:pt x="5904" y="14759"/>
                </a:moveTo>
                <a:cubicBezTo>
                  <a:pt x="6075" y="14827"/>
                  <a:pt x="6106" y="14839"/>
                  <a:pt x="6176" y="15007"/>
                </a:cubicBezTo>
                <a:cubicBezTo>
                  <a:pt x="6226" y="15128"/>
                  <a:pt x="6246" y="15274"/>
                  <a:pt x="6226" y="15404"/>
                </a:cubicBezTo>
                <a:cubicBezTo>
                  <a:pt x="6213" y="15487"/>
                  <a:pt x="6175" y="15629"/>
                  <a:pt x="6127" y="15701"/>
                </a:cubicBezTo>
                <a:cubicBezTo>
                  <a:pt x="6106" y="15732"/>
                  <a:pt x="5998" y="15822"/>
                  <a:pt x="5953" y="15801"/>
                </a:cubicBezTo>
                <a:cubicBezTo>
                  <a:pt x="5878" y="15767"/>
                  <a:pt x="5838" y="15687"/>
                  <a:pt x="5854" y="15602"/>
                </a:cubicBezTo>
                <a:cubicBezTo>
                  <a:pt x="5864" y="15552"/>
                  <a:pt x="5882" y="15462"/>
                  <a:pt x="5928" y="15429"/>
                </a:cubicBezTo>
                <a:cubicBezTo>
                  <a:pt x="5972" y="15407"/>
                  <a:pt x="5984" y="15404"/>
                  <a:pt x="6003" y="15379"/>
                </a:cubicBezTo>
                <a:cubicBezTo>
                  <a:pt x="6044" y="15420"/>
                  <a:pt x="6074" y="15451"/>
                  <a:pt x="6102" y="15503"/>
                </a:cubicBezTo>
                <a:cubicBezTo>
                  <a:pt x="6135" y="15565"/>
                  <a:pt x="6158" y="15646"/>
                  <a:pt x="6201" y="15701"/>
                </a:cubicBezTo>
                <a:cubicBezTo>
                  <a:pt x="6253" y="15768"/>
                  <a:pt x="6270" y="15814"/>
                  <a:pt x="6350" y="15825"/>
                </a:cubicBezTo>
              </a:path>
              <a:path w="7963" h="1315">
                <a:moveTo>
                  <a:pt x="6648" y="14957"/>
                </a:moveTo>
                <a:cubicBezTo>
                  <a:pt x="6602" y="15003"/>
                  <a:pt x="6577" y="15047"/>
                  <a:pt x="6548" y="15106"/>
                </a:cubicBezTo>
                <a:cubicBezTo>
                  <a:pt x="6503" y="15199"/>
                  <a:pt x="6485" y="15304"/>
                  <a:pt x="6474" y="15404"/>
                </a:cubicBezTo>
                <a:cubicBezTo>
                  <a:pt x="6459" y="15541"/>
                  <a:pt x="6500" y="15648"/>
                  <a:pt x="6573" y="15751"/>
                </a:cubicBezTo>
                <a:cubicBezTo>
                  <a:pt x="6620" y="15817"/>
                  <a:pt x="6661" y="15869"/>
                  <a:pt x="6747" y="15875"/>
                </a:cubicBezTo>
                <a:cubicBezTo>
                  <a:pt x="6850" y="15882"/>
                  <a:pt x="6858" y="15795"/>
                  <a:pt x="6896" y="15726"/>
                </a:cubicBezTo>
                <a:cubicBezTo>
                  <a:pt x="6952" y="15625"/>
                  <a:pt x="6966" y="15523"/>
                  <a:pt x="6970" y="15404"/>
                </a:cubicBezTo>
                <a:cubicBezTo>
                  <a:pt x="6974" y="15274"/>
                  <a:pt x="6964" y="15177"/>
                  <a:pt x="6921" y="15056"/>
                </a:cubicBezTo>
                <a:cubicBezTo>
                  <a:pt x="6883" y="14950"/>
                  <a:pt x="6866" y="14900"/>
                  <a:pt x="6747" y="14883"/>
                </a:cubicBezTo>
                <a:cubicBezTo>
                  <a:pt x="6689" y="14875"/>
                  <a:pt x="6646" y="14966"/>
                  <a:pt x="6623" y="15007"/>
                </a:cubicBezTo>
                <a:cubicBezTo>
                  <a:pt x="6563" y="15114"/>
                  <a:pt x="6557" y="15241"/>
                  <a:pt x="6598" y="15354"/>
                </a:cubicBezTo>
                <a:cubicBezTo>
                  <a:pt x="6606" y="15371"/>
                  <a:pt x="6615" y="15387"/>
                  <a:pt x="6623" y="15404"/>
                </a:cubicBezTo>
              </a:path>
              <a:path w="7963" h="1315">
                <a:moveTo>
                  <a:pt x="7243" y="14957"/>
                </a:moveTo>
                <a:cubicBezTo>
                  <a:pt x="7202" y="15008"/>
                  <a:pt x="7168" y="15069"/>
                  <a:pt x="7144" y="15131"/>
                </a:cubicBezTo>
                <a:cubicBezTo>
                  <a:pt x="7099" y="15244"/>
                  <a:pt x="7075" y="15381"/>
                  <a:pt x="7094" y="15503"/>
                </a:cubicBezTo>
                <a:cubicBezTo>
                  <a:pt x="7114" y="15633"/>
                  <a:pt x="7173" y="15742"/>
                  <a:pt x="7243" y="15850"/>
                </a:cubicBezTo>
                <a:cubicBezTo>
                  <a:pt x="7291" y="15924"/>
                  <a:pt x="7355" y="15989"/>
                  <a:pt x="7441" y="15999"/>
                </a:cubicBezTo>
                <a:cubicBezTo>
                  <a:pt x="7530" y="16009"/>
                  <a:pt x="7554" y="15887"/>
                  <a:pt x="7590" y="15825"/>
                </a:cubicBezTo>
                <a:cubicBezTo>
                  <a:pt x="7655" y="15713"/>
                  <a:pt x="7661" y="15585"/>
                  <a:pt x="7665" y="15453"/>
                </a:cubicBezTo>
                <a:cubicBezTo>
                  <a:pt x="7669" y="15323"/>
                  <a:pt x="7638" y="15189"/>
                  <a:pt x="7565" y="15081"/>
                </a:cubicBezTo>
                <a:cubicBezTo>
                  <a:pt x="7506" y="14994"/>
                  <a:pt x="7424" y="14939"/>
                  <a:pt x="7317" y="14957"/>
                </a:cubicBezTo>
                <a:cubicBezTo>
                  <a:pt x="7253" y="14968"/>
                  <a:pt x="7246" y="15022"/>
                  <a:pt x="7243" y="15081"/>
                </a:cubicBezTo>
                <a:cubicBezTo>
                  <a:pt x="7240" y="15142"/>
                  <a:pt x="7267" y="15177"/>
                  <a:pt x="7293" y="15230"/>
                </a:cubicBezTo>
              </a:path>
              <a:path w="7963" h="1315">
                <a:moveTo>
                  <a:pt x="8161" y="14883"/>
                </a:moveTo>
                <a:cubicBezTo>
                  <a:pt x="8161" y="15021"/>
                  <a:pt x="8175" y="15146"/>
                  <a:pt x="8186" y="15280"/>
                </a:cubicBezTo>
                <a:cubicBezTo>
                  <a:pt x="8195" y="15384"/>
                  <a:pt x="8219" y="15479"/>
                  <a:pt x="8235" y="15577"/>
                </a:cubicBezTo>
                <a:cubicBezTo>
                  <a:pt x="8235" y="15594"/>
                  <a:pt x="8235" y="15610"/>
                  <a:pt x="8235" y="15627"/>
                </a:cubicBezTo>
              </a:path>
              <a:path w="7963" h="1315">
                <a:moveTo>
                  <a:pt x="8012" y="15280"/>
                </a:moveTo>
                <a:cubicBezTo>
                  <a:pt x="8126" y="15289"/>
                  <a:pt x="8221" y="15339"/>
                  <a:pt x="8334" y="15354"/>
                </a:cubicBezTo>
                <a:cubicBezTo>
                  <a:pt x="8410" y="15354"/>
                  <a:pt x="8436" y="15354"/>
                  <a:pt x="8483" y="15329"/>
                </a:cubicBezTo>
              </a:path>
              <a:path w="7963" h="1315">
                <a:moveTo>
                  <a:pt x="8830" y="15032"/>
                </a:moveTo>
                <a:cubicBezTo>
                  <a:pt x="8843" y="14979"/>
                  <a:pt x="8898" y="14966"/>
                  <a:pt x="8954" y="14957"/>
                </a:cubicBezTo>
                <a:cubicBezTo>
                  <a:pt x="9055" y="14940"/>
                  <a:pt x="9174" y="14957"/>
                  <a:pt x="9277" y="14957"/>
                </a:cubicBezTo>
              </a:path>
              <a:path w="7963" h="1315">
                <a:moveTo>
                  <a:pt x="9500" y="14784"/>
                </a:moveTo>
                <a:cubicBezTo>
                  <a:pt x="9594" y="14792"/>
                  <a:pt x="9596" y="14806"/>
                  <a:pt x="9674" y="14858"/>
                </a:cubicBezTo>
                <a:cubicBezTo>
                  <a:pt x="9747" y="14907"/>
                  <a:pt x="9811" y="14986"/>
                  <a:pt x="9823" y="15081"/>
                </a:cubicBezTo>
                <a:cubicBezTo>
                  <a:pt x="9843" y="15231"/>
                  <a:pt x="9804" y="15324"/>
                  <a:pt x="9748" y="15453"/>
                </a:cubicBezTo>
                <a:cubicBezTo>
                  <a:pt x="9679" y="15614"/>
                  <a:pt x="9607" y="15670"/>
                  <a:pt x="9451" y="15751"/>
                </a:cubicBezTo>
                <a:cubicBezTo>
                  <a:pt x="9361" y="15798"/>
                  <a:pt x="9395" y="15767"/>
                  <a:pt x="9351" y="15726"/>
                </a:cubicBezTo>
                <a:cubicBezTo>
                  <a:pt x="9317" y="15694"/>
                  <a:pt x="9315" y="15621"/>
                  <a:pt x="9327" y="15577"/>
                </a:cubicBezTo>
                <a:cubicBezTo>
                  <a:pt x="9333" y="15553"/>
                  <a:pt x="9389" y="15427"/>
                  <a:pt x="9426" y="15429"/>
                </a:cubicBezTo>
                <a:cubicBezTo>
                  <a:pt x="9483" y="15433"/>
                  <a:pt x="9522" y="15481"/>
                  <a:pt x="9550" y="15528"/>
                </a:cubicBezTo>
                <a:cubicBezTo>
                  <a:pt x="9597" y="15607"/>
                  <a:pt x="9626" y="15700"/>
                  <a:pt x="9674" y="15776"/>
                </a:cubicBezTo>
                <a:cubicBezTo>
                  <a:pt x="9698" y="15814"/>
                  <a:pt x="9782" y="15897"/>
                  <a:pt x="9823" y="15900"/>
                </a:cubicBezTo>
                <a:cubicBezTo>
                  <a:pt x="9848" y="15892"/>
                  <a:pt x="9872" y="15883"/>
                  <a:pt x="9897" y="15875"/>
                </a:cubicBezTo>
              </a:path>
              <a:path w="7963" h="1315">
                <a:moveTo>
                  <a:pt x="10244" y="14932"/>
                </a:moveTo>
                <a:cubicBezTo>
                  <a:pt x="10187" y="15049"/>
                  <a:pt x="10139" y="15174"/>
                  <a:pt x="10120" y="15304"/>
                </a:cubicBezTo>
                <a:cubicBezTo>
                  <a:pt x="10104" y="15413"/>
                  <a:pt x="10158" y="15511"/>
                  <a:pt x="10195" y="15602"/>
                </a:cubicBezTo>
                <a:cubicBezTo>
                  <a:pt x="10237" y="15705"/>
                  <a:pt x="10294" y="15768"/>
                  <a:pt x="10393" y="15825"/>
                </a:cubicBezTo>
                <a:cubicBezTo>
                  <a:pt x="10493" y="15883"/>
                  <a:pt x="10561" y="15773"/>
                  <a:pt x="10616" y="15701"/>
                </a:cubicBezTo>
                <a:cubicBezTo>
                  <a:pt x="10686" y="15608"/>
                  <a:pt x="10688" y="15469"/>
                  <a:pt x="10691" y="15354"/>
                </a:cubicBezTo>
                <a:cubicBezTo>
                  <a:pt x="10695" y="15185"/>
                  <a:pt x="10648" y="15120"/>
                  <a:pt x="10567" y="14982"/>
                </a:cubicBezTo>
                <a:cubicBezTo>
                  <a:pt x="10520" y="14902"/>
                  <a:pt x="10460" y="14863"/>
                  <a:pt x="10368" y="14858"/>
                </a:cubicBezTo>
                <a:cubicBezTo>
                  <a:pt x="10290" y="14854"/>
                  <a:pt x="10217" y="14904"/>
                  <a:pt x="10195" y="14982"/>
                </a:cubicBezTo>
                <a:cubicBezTo>
                  <a:pt x="10170" y="15074"/>
                  <a:pt x="10186" y="15113"/>
                  <a:pt x="10220" y="15205"/>
                </a:cubicBezTo>
              </a:path>
              <a:path w="7963" h="1315">
                <a:moveTo>
                  <a:pt x="10889" y="15652"/>
                </a:moveTo>
                <a:cubicBezTo>
                  <a:pt x="10889" y="15710"/>
                  <a:pt x="10889" y="15767"/>
                  <a:pt x="10889" y="15825"/>
                </a:cubicBezTo>
                <a:cubicBezTo>
                  <a:pt x="10954" y="15809"/>
                  <a:pt x="10938" y="15761"/>
                  <a:pt x="10964" y="15701"/>
                </a:cubicBezTo>
                <a:cubicBezTo>
                  <a:pt x="10996" y="15628"/>
                  <a:pt x="11002" y="15553"/>
                  <a:pt x="11038" y="15478"/>
                </a:cubicBezTo>
                <a:cubicBezTo>
                  <a:pt x="11063" y="15426"/>
                  <a:pt x="11097" y="15394"/>
                  <a:pt x="11137" y="15354"/>
                </a:cubicBezTo>
                <a:cubicBezTo>
                  <a:pt x="11189" y="15375"/>
                  <a:pt x="11257" y="15447"/>
                  <a:pt x="11286" y="15503"/>
                </a:cubicBezTo>
                <a:cubicBezTo>
                  <a:pt x="11331" y="15589"/>
                  <a:pt x="11336" y="15692"/>
                  <a:pt x="11385" y="15776"/>
                </a:cubicBezTo>
                <a:cubicBezTo>
                  <a:pt x="11404" y="15808"/>
                  <a:pt x="11454" y="15898"/>
                  <a:pt x="11485" y="15900"/>
                </a:cubicBezTo>
                <a:cubicBezTo>
                  <a:pt x="11501" y="15900"/>
                  <a:pt x="11518" y="15900"/>
                  <a:pt x="11534" y="15900"/>
                </a:cubicBezTo>
              </a:path>
              <a:path w="7963" h="1315">
                <a:moveTo>
                  <a:pt x="11881" y="14908"/>
                </a:moveTo>
                <a:cubicBezTo>
                  <a:pt x="11881" y="14995"/>
                  <a:pt x="11898" y="15067"/>
                  <a:pt x="11906" y="15156"/>
                </a:cubicBezTo>
                <a:cubicBezTo>
                  <a:pt x="11916" y="15273"/>
                  <a:pt x="11909" y="15388"/>
                  <a:pt x="11931" y="15503"/>
                </a:cubicBezTo>
                <a:cubicBezTo>
                  <a:pt x="11949" y="15599"/>
                  <a:pt x="11956" y="15679"/>
                  <a:pt x="11956" y="15776"/>
                </a:cubicBezTo>
                <a:cubicBezTo>
                  <a:pt x="11956" y="15784"/>
                  <a:pt x="11956" y="15793"/>
                  <a:pt x="11956" y="15801"/>
                </a:cubicBezTo>
              </a:path>
              <a:path w="7963" h="1315">
                <a:moveTo>
                  <a:pt x="11708" y="15429"/>
                </a:moveTo>
                <a:cubicBezTo>
                  <a:pt x="11815" y="15436"/>
                  <a:pt x="11901" y="15474"/>
                  <a:pt x="12005" y="15478"/>
                </a:cubicBezTo>
                <a:cubicBezTo>
                  <a:pt x="12084" y="15481"/>
                  <a:pt x="12133" y="15460"/>
                  <a:pt x="12204" y="15429"/>
                </a:cubicBezTo>
              </a:path>
              <a:path w="7963" h="1315">
                <a:moveTo>
                  <a:pt x="12452" y="15007"/>
                </a:moveTo>
                <a:cubicBezTo>
                  <a:pt x="12566" y="14985"/>
                  <a:pt x="12692" y="14931"/>
                  <a:pt x="12799" y="15007"/>
                </a:cubicBezTo>
                <a:cubicBezTo>
                  <a:pt x="12861" y="15051"/>
                  <a:pt x="12912" y="15089"/>
                  <a:pt x="12948" y="15156"/>
                </a:cubicBezTo>
                <a:cubicBezTo>
                  <a:pt x="12979" y="15214"/>
                  <a:pt x="12951" y="15288"/>
                  <a:pt x="12923" y="15354"/>
                </a:cubicBezTo>
                <a:cubicBezTo>
                  <a:pt x="12886" y="15443"/>
                  <a:pt x="12841" y="15464"/>
                  <a:pt x="12774" y="15528"/>
                </a:cubicBezTo>
                <a:cubicBezTo>
                  <a:pt x="12714" y="15586"/>
                  <a:pt x="12599" y="15654"/>
                  <a:pt x="12551" y="15726"/>
                </a:cubicBezTo>
                <a:cubicBezTo>
                  <a:pt x="12524" y="15766"/>
                  <a:pt x="12491" y="15809"/>
                  <a:pt x="12477" y="15850"/>
                </a:cubicBezTo>
                <a:cubicBezTo>
                  <a:pt x="12477" y="15858"/>
                  <a:pt x="12477" y="15867"/>
                  <a:pt x="12477" y="15875"/>
                </a:cubicBezTo>
                <a:cubicBezTo>
                  <a:pt x="12522" y="15911"/>
                  <a:pt x="12545" y="15910"/>
                  <a:pt x="12601" y="15925"/>
                </a:cubicBezTo>
                <a:cubicBezTo>
                  <a:pt x="12656" y="15940"/>
                  <a:pt x="12720" y="15934"/>
                  <a:pt x="12774" y="15949"/>
                </a:cubicBezTo>
                <a:cubicBezTo>
                  <a:pt x="12857" y="15972"/>
                  <a:pt x="12910" y="15969"/>
                  <a:pt x="12998" y="15949"/>
                </a:cubicBezTo>
                <a:cubicBezTo>
                  <a:pt x="13070" y="15926"/>
                  <a:pt x="13093" y="15919"/>
                  <a:pt x="13122" y="15875"/>
                </a:cubicBezTo>
              </a:path>
              <a:path w="7963" h="1315">
                <a:moveTo>
                  <a:pt x="13494" y="15131"/>
                </a:moveTo>
                <a:cubicBezTo>
                  <a:pt x="13405" y="15235"/>
                  <a:pt x="13289" y="15333"/>
                  <a:pt x="13271" y="15478"/>
                </a:cubicBezTo>
                <a:cubicBezTo>
                  <a:pt x="13256" y="15600"/>
                  <a:pt x="13283" y="15710"/>
                  <a:pt x="13320" y="15825"/>
                </a:cubicBezTo>
                <a:cubicBezTo>
                  <a:pt x="13343" y="15897"/>
                  <a:pt x="13375" y="15986"/>
                  <a:pt x="13419" y="16049"/>
                </a:cubicBezTo>
                <a:cubicBezTo>
                  <a:pt x="13449" y="16092"/>
                  <a:pt x="13558" y="16085"/>
                  <a:pt x="13593" y="16049"/>
                </a:cubicBezTo>
                <a:cubicBezTo>
                  <a:pt x="13703" y="15938"/>
                  <a:pt x="13743" y="15823"/>
                  <a:pt x="13791" y="15677"/>
                </a:cubicBezTo>
                <a:cubicBezTo>
                  <a:pt x="13828" y="15564"/>
                  <a:pt x="13828" y="15443"/>
                  <a:pt x="13791" y="15329"/>
                </a:cubicBezTo>
                <a:cubicBezTo>
                  <a:pt x="13752" y="15209"/>
                  <a:pt x="13714" y="15040"/>
                  <a:pt x="13568" y="15007"/>
                </a:cubicBezTo>
                <a:cubicBezTo>
                  <a:pt x="13479" y="14987"/>
                  <a:pt x="13404" y="15054"/>
                  <a:pt x="13345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08080" y="5867280"/>
            <a:ext cx="2579760" cy="606600"/>
          </a:xfrm>
          <a:custGeom>
            <a:avLst/>
            <a:gdLst/>
            <a:ahLst/>
            <a:rect l="l" t="t" r="r" b="b"/>
            <a:pathLst>
              <a:path w="7169" h="1687">
                <a:moveTo>
                  <a:pt x="3324" y="17066"/>
                </a:moveTo>
                <a:cubicBezTo>
                  <a:pt x="3275" y="17181"/>
                  <a:pt x="3254" y="17267"/>
                  <a:pt x="3225" y="17388"/>
                </a:cubicBezTo>
                <a:cubicBezTo>
                  <a:pt x="3197" y="17505"/>
                  <a:pt x="3163" y="17624"/>
                  <a:pt x="3125" y="17735"/>
                </a:cubicBezTo>
                <a:cubicBezTo>
                  <a:pt x="3113" y="17717"/>
                  <a:pt x="3084" y="17684"/>
                  <a:pt x="3076" y="17636"/>
                </a:cubicBezTo>
                <a:cubicBezTo>
                  <a:pt x="3061" y="17549"/>
                  <a:pt x="3085" y="17421"/>
                  <a:pt x="3101" y="17338"/>
                </a:cubicBezTo>
                <a:cubicBezTo>
                  <a:pt x="3124" y="17221"/>
                  <a:pt x="3157" y="17077"/>
                  <a:pt x="3200" y="16966"/>
                </a:cubicBezTo>
                <a:cubicBezTo>
                  <a:pt x="3244" y="16851"/>
                  <a:pt x="3284" y="16737"/>
                  <a:pt x="3324" y="16619"/>
                </a:cubicBezTo>
                <a:cubicBezTo>
                  <a:pt x="3352" y="16537"/>
                  <a:pt x="3373" y="16444"/>
                  <a:pt x="3423" y="16371"/>
                </a:cubicBezTo>
                <a:cubicBezTo>
                  <a:pt x="3444" y="16340"/>
                  <a:pt x="3481" y="16313"/>
                  <a:pt x="3497" y="16297"/>
                </a:cubicBezTo>
                <a:cubicBezTo>
                  <a:pt x="3522" y="16370"/>
                  <a:pt x="3530" y="16445"/>
                  <a:pt x="3547" y="16520"/>
                </a:cubicBezTo>
                <a:cubicBezTo>
                  <a:pt x="3586" y="16694"/>
                  <a:pt x="3635" y="16866"/>
                  <a:pt x="3671" y="17041"/>
                </a:cubicBezTo>
                <a:cubicBezTo>
                  <a:pt x="3713" y="17243"/>
                  <a:pt x="3803" y="17439"/>
                  <a:pt x="3845" y="17636"/>
                </a:cubicBezTo>
                <a:cubicBezTo>
                  <a:pt x="3845" y="17678"/>
                  <a:pt x="3837" y="17694"/>
                  <a:pt x="3870" y="17686"/>
                </a:cubicBezTo>
              </a:path>
              <a:path w="7169" h="1687">
                <a:moveTo>
                  <a:pt x="3324" y="16942"/>
                </a:moveTo>
                <a:cubicBezTo>
                  <a:pt x="3377" y="17058"/>
                  <a:pt x="3439" y="17093"/>
                  <a:pt x="3547" y="17165"/>
                </a:cubicBezTo>
              </a:path>
              <a:path w="7169" h="1687">
                <a:moveTo>
                  <a:pt x="4043" y="17338"/>
                </a:moveTo>
                <a:cubicBezTo>
                  <a:pt x="4043" y="17442"/>
                  <a:pt x="4044" y="17517"/>
                  <a:pt x="4068" y="17611"/>
                </a:cubicBezTo>
                <a:cubicBezTo>
                  <a:pt x="4070" y="17618"/>
                  <a:pt x="4068" y="17704"/>
                  <a:pt x="4068" y="17636"/>
                </a:cubicBezTo>
                <a:cubicBezTo>
                  <a:pt x="4092" y="17574"/>
                  <a:pt x="4090" y="17522"/>
                  <a:pt x="4118" y="17462"/>
                </a:cubicBezTo>
                <a:cubicBezTo>
                  <a:pt x="4159" y="17373"/>
                  <a:pt x="4201" y="17263"/>
                  <a:pt x="4266" y="17190"/>
                </a:cubicBezTo>
                <a:cubicBezTo>
                  <a:pt x="4294" y="17159"/>
                  <a:pt x="4303" y="17165"/>
                  <a:pt x="4341" y="17165"/>
                </a:cubicBezTo>
                <a:cubicBezTo>
                  <a:pt x="4403" y="17247"/>
                  <a:pt x="4396" y="17362"/>
                  <a:pt x="4415" y="17462"/>
                </a:cubicBezTo>
                <a:cubicBezTo>
                  <a:pt x="4438" y="17578"/>
                  <a:pt x="4457" y="17698"/>
                  <a:pt x="4490" y="17810"/>
                </a:cubicBezTo>
                <a:cubicBezTo>
                  <a:pt x="4510" y="17871"/>
                  <a:pt x="4508" y="17885"/>
                  <a:pt x="4539" y="17909"/>
                </a:cubicBezTo>
              </a:path>
              <a:path w="7169" h="1687">
                <a:moveTo>
                  <a:pt x="4614" y="17190"/>
                </a:moveTo>
                <a:cubicBezTo>
                  <a:pt x="4692" y="17218"/>
                  <a:pt x="4763" y="17252"/>
                  <a:pt x="4837" y="17289"/>
                </a:cubicBezTo>
                <a:cubicBezTo>
                  <a:pt x="4887" y="17314"/>
                  <a:pt x="4903" y="17322"/>
                  <a:pt x="4936" y="17338"/>
                </a:cubicBezTo>
              </a:path>
              <a:path w="7169" h="1687">
                <a:moveTo>
                  <a:pt x="4713" y="17562"/>
                </a:moveTo>
                <a:cubicBezTo>
                  <a:pt x="4819" y="17600"/>
                  <a:pt x="4872" y="17611"/>
                  <a:pt x="4986" y="17611"/>
                </a:cubicBezTo>
              </a:path>
              <a:path w="7169" h="1687">
                <a:moveTo>
                  <a:pt x="5358" y="17264"/>
                </a:moveTo>
                <a:cubicBezTo>
                  <a:pt x="5416" y="17252"/>
                  <a:pt x="5474" y="17224"/>
                  <a:pt x="5531" y="17214"/>
                </a:cubicBezTo>
                <a:cubicBezTo>
                  <a:pt x="5615" y="17200"/>
                  <a:pt x="5677" y="17179"/>
                  <a:pt x="5755" y="17140"/>
                </a:cubicBezTo>
              </a:path>
              <a:path w="7169" h="1687">
                <a:moveTo>
                  <a:pt x="6052" y="16991"/>
                </a:moveTo>
                <a:cubicBezTo>
                  <a:pt x="6168" y="17089"/>
                  <a:pt x="6183" y="17111"/>
                  <a:pt x="6226" y="17239"/>
                </a:cubicBezTo>
                <a:cubicBezTo>
                  <a:pt x="6259" y="17336"/>
                  <a:pt x="6250" y="17416"/>
                  <a:pt x="6201" y="17512"/>
                </a:cubicBezTo>
                <a:cubicBezTo>
                  <a:pt x="6147" y="17616"/>
                  <a:pt x="6102" y="17693"/>
                  <a:pt x="6003" y="17760"/>
                </a:cubicBezTo>
                <a:cubicBezTo>
                  <a:pt x="5959" y="17790"/>
                  <a:pt x="5860" y="17852"/>
                  <a:pt x="5804" y="17835"/>
                </a:cubicBezTo>
                <a:cubicBezTo>
                  <a:pt x="5748" y="17818"/>
                  <a:pt x="5755" y="17728"/>
                  <a:pt x="5755" y="17686"/>
                </a:cubicBezTo>
                <a:cubicBezTo>
                  <a:pt x="5755" y="17617"/>
                  <a:pt x="5751" y="17595"/>
                  <a:pt x="5829" y="17587"/>
                </a:cubicBezTo>
                <a:cubicBezTo>
                  <a:pt x="5880" y="17582"/>
                  <a:pt x="5920" y="17653"/>
                  <a:pt x="5953" y="17686"/>
                </a:cubicBezTo>
                <a:cubicBezTo>
                  <a:pt x="6029" y="17761"/>
                  <a:pt x="6067" y="17872"/>
                  <a:pt x="6176" y="17884"/>
                </a:cubicBezTo>
                <a:cubicBezTo>
                  <a:pt x="6193" y="17884"/>
                  <a:pt x="6209" y="17884"/>
                  <a:pt x="6226" y="17884"/>
                </a:cubicBezTo>
              </a:path>
              <a:path w="7169" h="1687">
                <a:moveTo>
                  <a:pt x="6573" y="17239"/>
                </a:moveTo>
                <a:cubicBezTo>
                  <a:pt x="6536" y="17258"/>
                  <a:pt x="6483" y="17334"/>
                  <a:pt x="6474" y="17388"/>
                </a:cubicBezTo>
                <a:cubicBezTo>
                  <a:pt x="6453" y="17506"/>
                  <a:pt x="6461" y="17595"/>
                  <a:pt x="6474" y="17711"/>
                </a:cubicBezTo>
                <a:cubicBezTo>
                  <a:pt x="6482" y="17786"/>
                  <a:pt x="6475" y="17862"/>
                  <a:pt x="6548" y="17909"/>
                </a:cubicBezTo>
                <a:cubicBezTo>
                  <a:pt x="6565" y="17917"/>
                  <a:pt x="6581" y="17926"/>
                  <a:pt x="6598" y="17934"/>
                </a:cubicBezTo>
                <a:cubicBezTo>
                  <a:pt x="6646" y="17886"/>
                  <a:pt x="6685" y="17842"/>
                  <a:pt x="6722" y="17785"/>
                </a:cubicBezTo>
                <a:cubicBezTo>
                  <a:pt x="6788" y="17685"/>
                  <a:pt x="6810" y="17579"/>
                  <a:pt x="6821" y="17462"/>
                </a:cubicBezTo>
                <a:cubicBezTo>
                  <a:pt x="6833" y="17326"/>
                  <a:pt x="6786" y="17211"/>
                  <a:pt x="6697" y="17115"/>
                </a:cubicBezTo>
                <a:cubicBezTo>
                  <a:pt x="6665" y="17080"/>
                  <a:pt x="6603" y="17072"/>
                  <a:pt x="6573" y="17115"/>
                </a:cubicBezTo>
                <a:cubicBezTo>
                  <a:pt x="6524" y="17186"/>
                  <a:pt x="6549" y="17266"/>
                  <a:pt x="6573" y="17338"/>
                </a:cubicBezTo>
              </a:path>
              <a:path w="7169" h="1687">
                <a:moveTo>
                  <a:pt x="6970" y="17711"/>
                </a:moveTo>
                <a:cubicBezTo>
                  <a:pt x="6960" y="17808"/>
                  <a:pt x="6953" y="17783"/>
                  <a:pt x="6970" y="17835"/>
                </a:cubicBezTo>
                <a:cubicBezTo>
                  <a:pt x="6994" y="17740"/>
                  <a:pt x="7055" y="17637"/>
                  <a:pt x="7069" y="17537"/>
                </a:cubicBezTo>
                <a:cubicBezTo>
                  <a:pt x="7081" y="17450"/>
                  <a:pt x="7093" y="17367"/>
                  <a:pt x="7144" y="17289"/>
                </a:cubicBezTo>
                <a:cubicBezTo>
                  <a:pt x="7172" y="17246"/>
                  <a:pt x="7197" y="17239"/>
                  <a:pt x="7243" y="17239"/>
                </a:cubicBezTo>
                <a:cubicBezTo>
                  <a:pt x="7257" y="17308"/>
                  <a:pt x="7306" y="17366"/>
                  <a:pt x="7317" y="17438"/>
                </a:cubicBezTo>
                <a:cubicBezTo>
                  <a:pt x="7334" y="17554"/>
                  <a:pt x="7376" y="17669"/>
                  <a:pt x="7392" y="17785"/>
                </a:cubicBezTo>
                <a:cubicBezTo>
                  <a:pt x="7402" y="17860"/>
                  <a:pt x="7399" y="17895"/>
                  <a:pt x="7441" y="17959"/>
                </a:cubicBezTo>
              </a:path>
              <a:path w="7169" h="1687">
                <a:moveTo>
                  <a:pt x="7913" y="16966"/>
                </a:moveTo>
                <a:cubicBezTo>
                  <a:pt x="7977" y="17063"/>
                  <a:pt x="7966" y="17123"/>
                  <a:pt x="7987" y="17239"/>
                </a:cubicBezTo>
                <a:cubicBezTo>
                  <a:pt x="8011" y="17371"/>
                  <a:pt x="8033" y="17501"/>
                  <a:pt x="8037" y="17636"/>
                </a:cubicBezTo>
                <a:cubicBezTo>
                  <a:pt x="8037" y="17719"/>
                  <a:pt x="8037" y="17752"/>
                  <a:pt x="8037" y="17810"/>
                </a:cubicBezTo>
              </a:path>
              <a:path w="7169" h="1687">
                <a:moveTo>
                  <a:pt x="8161" y="17264"/>
                </a:moveTo>
                <a:cubicBezTo>
                  <a:pt x="8062" y="17244"/>
                  <a:pt x="7961" y="17228"/>
                  <a:pt x="7863" y="17214"/>
                </a:cubicBezTo>
                <a:cubicBezTo>
                  <a:pt x="7803" y="17205"/>
                  <a:pt x="7752" y="17239"/>
                  <a:pt x="7689" y="17239"/>
                </a:cubicBezTo>
                <a:cubicBezTo>
                  <a:pt x="7665" y="17239"/>
                  <a:pt x="7657" y="17239"/>
                  <a:pt x="7665" y="17264"/>
                </a:cubicBezTo>
              </a:path>
              <a:path w="7169" h="1687">
                <a:moveTo>
                  <a:pt x="8434" y="17090"/>
                </a:moveTo>
                <a:cubicBezTo>
                  <a:pt x="8580" y="17097"/>
                  <a:pt x="8611" y="17104"/>
                  <a:pt x="8731" y="17165"/>
                </a:cubicBezTo>
                <a:cubicBezTo>
                  <a:pt x="8795" y="17197"/>
                  <a:pt x="8798" y="17216"/>
                  <a:pt x="8830" y="17264"/>
                </a:cubicBezTo>
                <a:cubicBezTo>
                  <a:pt x="8866" y="17318"/>
                  <a:pt x="8826" y="17326"/>
                  <a:pt x="8781" y="17363"/>
                </a:cubicBezTo>
                <a:cubicBezTo>
                  <a:pt x="8728" y="17407"/>
                  <a:pt x="8663" y="17423"/>
                  <a:pt x="8607" y="17462"/>
                </a:cubicBezTo>
                <a:cubicBezTo>
                  <a:pt x="8555" y="17498"/>
                  <a:pt x="8516" y="17533"/>
                  <a:pt x="8483" y="17587"/>
                </a:cubicBezTo>
                <a:cubicBezTo>
                  <a:pt x="8447" y="17646"/>
                  <a:pt x="8444" y="17770"/>
                  <a:pt x="8458" y="17835"/>
                </a:cubicBezTo>
                <a:cubicBezTo>
                  <a:pt x="8474" y="17910"/>
                  <a:pt x="8513" y="17953"/>
                  <a:pt x="8582" y="17959"/>
                </a:cubicBezTo>
                <a:cubicBezTo>
                  <a:pt x="8635" y="17963"/>
                  <a:pt x="8657" y="17953"/>
                  <a:pt x="8706" y="17934"/>
                </a:cubicBezTo>
              </a:path>
              <a:path w="7169" h="1687">
                <a:moveTo>
                  <a:pt x="9178" y="17115"/>
                </a:moveTo>
                <a:cubicBezTo>
                  <a:pt x="9331" y="17077"/>
                  <a:pt x="9338" y="17054"/>
                  <a:pt x="9451" y="17140"/>
                </a:cubicBezTo>
                <a:cubicBezTo>
                  <a:pt x="9490" y="17170"/>
                  <a:pt x="9475" y="17219"/>
                  <a:pt x="9475" y="17264"/>
                </a:cubicBezTo>
                <a:cubicBezTo>
                  <a:pt x="9475" y="17323"/>
                  <a:pt x="9416" y="17333"/>
                  <a:pt x="9376" y="17363"/>
                </a:cubicBezTo>
                <a:cubicBezTo>
                  <a:pt x="9323" y="17403"/>
                  <a:pt x="9274" y="17465"/>
                  <a:pt x="9227" y="17512"/>
                </a:cubicBezTo>
                <a:cubicBezTo>
                  <a:pt x="9179" y="17561"/>
                  <a:pt x="9156" y="17620"/>
                  <a:pt x="9153" y="17686"/>
                </a:cubicBezTo>
                <a:cubicBezTo>
                  <a:pt x="9149" y="17781"/>
                  <a:pt x="9162" y="17825"/>
                  <a:pt x="9203" y="17909"/>
                </a:cubicBezTo>
                <a:cubicBezTo>
                  <a:pt x="9235" y="17973"/>
                  <a:pt x="9351" y="18018"/>
                  <a:pt x="9426" y="17983"/>
                </a:cubicBezTo>
                <a:cubicBezTo>
                  <a:pt x="9442" y="17967"/>
                  <a:pt x="9459" y="17950"/>
                  <a:pt x="9475" y="17934"/>
                </a:cubicBezTo>
              </a:path>
              <a:path w="7169" h="1687">
                <a:moveTo>
                  <a:pt x="10021" y="17289"/>
                </a:moveTo>
                <a:cubicBezTo>
                  <a:pt x="9948" y="17289"/>
                  <a:pt x="9931" y="17326"/>
                  <a:pt x="9897" y="17388"/>
                </a:cubicBezTo>
                <a:cubicBezTo>
                  <a:pt x="9856" y="17462"/>
                  <a:pt x="9830" y="17550"/>
                  <a:pt x="9847" y="17636"/>
                </a:cubicBezTo>
                <a:cubicBezTo>
                  <a:pt x="9861" y="17706"/>
                  <a:pt x="9906" y="17800"/>
                  <a:pt x="9947" y="17859"/>
                </a:cubicBezTo>
                <a:cubicBezTo>
                  <a:pt x="9980" y="17908"/>
                  <a:pt x="10064" y="17870"/>
                  <a:pt x="10096" y="17835"/>
                </a:cubicBezTo>
                <a:cubicBezTo>
                  <a:pt x="10147" y="17780"/>
                  <a:pt x="10232" y="17688"/>
                  <a:pt x="10244" y="17611"/>
                </a:cubicBezTo>
                <a:cubicBezTo>
                  <a:pt x="10264" y="17486"/>
                  <a:pt x="10266" y="17329"/>
                  <a:pt x="10220" y="17214"/>
                </a:cubicBezTo>
                <a:cubicBezTo>
                  <a:pt x="10212" y="17198"/>
                  <a:pt x="10203" y="17181"/>
                  <a:pt x="10195" y="171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1800" y="5884920"/>
            <a:ext cx="3046320" cy="857160"/>
          </a:xfrm>
          <a:custGeom>
            <a:avLst/>
            <a:gdLst/>
            <a:ahLst/>
            <a:rect l="l" t="t" r="r" b="b"/>
            <a:pathLst>
              <a:path w="8460" h="2383">
                <a:moveTo>
                  <a:pt x="10492" y="16966"/>
                </a:moveTo>
                <a:cubicBezTo>
                  <a:pt x="10375" y="16896"/>
                  <a:pt x="10303" y="16832"/>
                  <a:pt x="10170" y="16793"/>
                </a:cubicBezTo>
                <a:cubicBezTo>
                  <a:pt x="10051" y="16759"/>
                  <a:pt x="9922" y="16743"/>
                  <a:pt x="9798" y="16718"/>
                </a:cubicBezTo>
                <a:cubicBezTo>
                  <a:pt x="9475" y="16654"/>
                  <a:pt x="9156" y="16599"/>
                  <a:pt x="8830" y="16570"/>
                </a:cubicBezTo>
                <a:cubicBezTo>
                  <a:pt x="8525" y="16543"/>
                  <a:pt x="8194" y="16506"/>
                  <a:pt x="7888" y="16520"/>
                </a:cubicBezTo>
                <a:cubicBezTo>
                  <a:pt x="7688" y="16529"/>
                  <a:pt x="7494" y="16543"/>
                  <a:pt x="7293" y="16545"/>
                </a:cubicBezTo>
                <a:cubicBezTo>
                  <a:pt x="7092" y="16547"/>
                  <a:pt x="6897" y="16563"/>
                  <a:pt x="6697" y="16570"/>
                </a:cubicBezTo>
                <a:cubicBezTo>
                  <a:pt x="6486" y="16578"/>
                  <a:pt x="6263" y="16556"/>
                  <a:pt x="6052" y="16545"/>
                </a:cubicBezTo>
                <a:cubicBezTo>
                  <a:pt x="5846" y="16534"/>
                  <a:pt x="5639" y="16533"/>
                  <a:pt x="5432" y="16520"/>
                </a:cubicBezTo>
                <a:cubicBezTo>
                  <a:pt x="5233" y="16507"/>
                  <a:pt x="5036" y="16475"/>
                  <a:pt x="4837" y="16446"/>
                </a:cubicBezTo>
                <a:cubicBezTo>
                  <a:pt x="4638" y="16417"/>
                  <a:pt x="4441" y="16414"/>
                  <a:pt x="4242" y="16396"/>
                </a:cubicBezTo>
                <a:cubicBezTo>
                  <a:pt x="4069" y="16380"/>
                  <a:pt x="3920" y="16381"/>
                  <a:pt x="3746" y="16396"/>
                </a:cubicBezTo>
                <a:cubicBezTo>
                  <a:pt x="3557" y="16413"/>
                  <a:pt x="3411" y="16463"/>
                  <a:pt x="3225" y="16520"/>
                </a:cubicBezTo>
                <a:cubicBezTo>
                  <a:pt x="3125" y="16551"/>
                  <a:pt x="3023" y="16575"/>
                  <a:pt x="2927" y="16619"/>
                </a:cubicBezTo>
                <a:cubicBezTo>
                  <a:pt x="2837" y="16660"/>
                  <a:pt x="2756" y="16727"/>
                  <a:pt x="2679" y="16793"/>
                </a:cubicBezTo>
                <a:cubicBezTo>
                  <a:pt x="2622" y="16842"/>
                  <a:pt x="2597" y="16875"/>
                  <a:pt x="2555" y="16942"/>
                </a:cubicBezTo>
                <a:cubicBezTo>
                  <a:pt x="2508" y="17018"/>
                  <a:pt x="2513" y="17051"/>
                  <a:pt x="2505" y="17140"/>
                </a:cubicBezTo>
                <a:cubicBezTo>
                  <a:pt x="2496" y="17233"/>
                  <a:pt x="2518" y="17304"/>
                  <a:pt x="2555" y="17388"/>
                </a:cubicBezTo>
                <a:cubicBezTo>
                  <a:pt x="2598" y="17486"/>
                  <a:pt x="2663" y="17573"/>
                  <a:pt x="2729" y="17661"/>
                </a:cubicBezTo>
                <a:cubicBezTo>
                  <a:pt x="2802" y="17759"/>
                  <a:pt x="2885" y="17875"/>
                  <a:pt x="2977" y="17959"/>
                </a:cubicBezTo>
                <a:cubicBezTo>
                  <a:pt x="3076" y="18050"/>
                  <a:pt x="3204" y="18131"/>
                  <a:pt x="3324" y="18182"/>
                </a:cubicBezTo>
                <a:cubicBezTo>
                  <a:pt x="3418" y="18222"/>
                  <a:pt x="3544" y="18233"/>
                  <a:pt x="3646" y="18256"/>
                </a:cubicBezTo>
                <a:cubicBezTo>
                  <a:pt x="3781" y="18287"/>
                  <a:pt x="3931" y="18311"/>
                  <a:pt x="4068" y="18331"/>
                </a:cubicBezTo>
                <a:cubicBezTo>
                  <a:pt x="4199" y="18350"/>
                  <a:pt x="4331" y="18353"/>
                  <a:pt x="4465" y="18355"/>
                </a:cubicBezTo>
                <a:cubicBezTo>
                  <a:pt x="4682" y="18358"/>
                  <a:pt x="4896" y="18352"/>
                  <a:pt x="5110" y="18331"/>
                </a:cubicBezTo>
                <a:cubicBezTo>
                  <a:pt x="5267" y="18316"/>
                  <a:pt x="5422" y="18299"/>
                  <a:pt x="5581" y="18306"/>
                </a:cubicBezTo>
                <a:cubicBezTo>
                  <a:pt x="5762" y="18314"/>
                  <a:pt x="5947" y="18349"/>
                  <a:pt x="6127" y="18380"/>
                </a:cubicBezTo>
                <a:cubicBezTo>
                  <a:pt x="6311" y="18412"/>
                  <a:pt x="6489" y="18434"/>
                  <a:pt x="6672" y="18455"/>
                </a:cubicBezTo>
                <a:cubicBezTo>
                  <a:pt x="6913" y="18483"/>
                  <a:pt x="7152" y="18516"/>
                  <a:pt x="7392" y="18554"/>
                </a:cubicBezTo>
                <a:cubicBezTo>
                  <a:pt x="7591" y="18586"/>
                  <a:pt x="7787" y="18610"/>
                  <a:pt x="7987" y="18628"/>
                </a:cubicBezTo>
                <a:cubicBezTo>
                  <a:pt x="8186" y="18646"/>
                  <a:pt x="8383" y="18656"/>
                  <a:pt x="8582" y="18678"/>
                </a:cubicBezTo>
                <a:cubicBezTo>
                  <a:pt x="8773" y="18699"/>
                  <a:pt x="8961" y="18720"/>
                  <a:pt x="9153" y="18728"/>
                </a:cubicBezTo>
                <a:cubicBezTo>
                  <a:pt x="9501" y="18742"/>
                  <a:pt x="9834" y="18726"/>
                  <a:pt x="10170" y="18628"/>
                </a:cubicBezTo>
                <a:cubicBezTo>
                  <a:pt x="10309" y="18588"/>
                  <a:pt x="10451" y="18552"/>
                  <a:pt x="10567" y="18455"/>
                </a:cubicBezTo>
                <a:cubicBezTo>
                  <a:pt x="10763" y="18292"/>
                  <a:pt x="10931" y="17962"/>
                  <a:pt x="10964" y="17711"/>
                </a:cubicBezTo>
                <a:cubicBezTo>
                  <a:pt x="10998" y="17452"/>
                  <a:pt x="10951" y="17152"/>
                  <a:pt x="10840" y="16917"/>
                </a:cubicBezTo>
                <a:cubicBezTo>
                  <a:pt x="10769" y="16768"/>
                  <a:pt x="10652" y="16639"/>
                  <a:pt x="10517" y="16545"/>
                </a:cubicBezTo>
                <a:cubicBezTo>
                  <a:pt x="10317" y="16404"/>
                  <a:pt x="10165" y="16362"/>
                  <a:pt x="9922" y="16346"/>
                </a:cubicBezTo>
                <a:cubicBezTo>
                  <a:pt x="9872" y="16346"/>
                  <a:pt x="9823" y="16346"/>
                  <a:pt x="9773" y="163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an expression for 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erm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7 and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27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44800" y="2660760"/>
            <a:ext cx="366480" cy="287280"/>
          </a:xfrm>
          <a:custGeom>
            <a:avLst/>
            <a:gdLst/>
            <a:ahLst/>
            <a:rect l="l" t="t" r="r" b="b"/>
            <a:pathLst>
              <a:path w="1018" h="795">
                <a:moveTo>
                  <a:pt x="5680" y="7813"/>
                </a:moveTo>
                <a:cubicBezTo>
                  <a:pt x="5751" y="7813"/>
                  <a:pt x="5814" y="7797"/>
                  <a:pt x="5879" y="7789"/>
                </a:cubicBezTo>
                <a:cubicBezTo>
                  <a:pt x="5978" y="7777"/>
                  <a:pt x="6081" y="7774"/>
                  <a:pt x="6176" y="7739"/>
                </a:cubicBezTo>
                <a:cubicBezTo>
                  <a:pt x="6193" y="7731"/>
                  <a:pt x="6209" y="7722"/>
                  <a:pt x="6226" y="7714"/>
                </a:cubicBezTo>
              </a:path>
              <a:path w="1018" h="795">
                <a:moveTo>
                  <a:pt x="6648" y="7392"/>
                </a:moveTo>
                <a:cubicBezTo>
                  <a:pt x="6669" y="7520"/>
                  <a:pt x="6672" y="7634"/>
                  <a:pt x="6672" y="7764"/>
                </a:cubicBezTo>
                <a:cubicBezTo>
                  <a:pt x="6672" y="7908"/>
                  <a:pt x="6662" y="8048"/>
                  <a:pt x="6697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33760" y="2633760"/>
            <a:ext cx="295200" cy="430200"/>
          </a:xfrm>
          <a:custGeom>
            <a:avLst/>
            <a:gdLst/>
            <a:ahLst/>
            <a:rect l="l" t="t" r="r" b="b"/>
            <a:pathLst>
              <a:path w="820" h="1192">
                <a:moveTo>
                  <a:pt x="7590" y="7317"/>
                </a:moveTo>
                <a:cubicBezTo>
                  <a:pt x="7734" y="7317"/>
                  <a:pt x="7901" y="7292"/>
                  <a:pt x="8037" y="7342"/>
                </a:cubicBezTo>
                <a:cubicBezTo>
                  <a:pt x="8086" y="7367"/>
                  <a:pt x="8103" y="7376"/>
                  <a:pt x="8136" y="7392"/>
                </a:cubicBezTo>
                <a:cubicBezTo>
                  <a:pt x="8107" y="7507"/>
                  <a:pt x="8088" y="7548"/>
                  <a:pt x="8012" y="7615"/>
                </a:cubicBezTo>
                <a:cubicBezTo>
                  <a:pt x="7953" y="7667"/>
                  <a:pt x="7898" y="7678"/>
                  <a:pt x="7838" y="7714"/>
                </a:cubicBezTo>
                <a:cubicBezTo>
                  <a:pt x="7830" y="7722"/>
                  <a:pt x="7821" y="7731"/>
                  <a:pt x="7813" y="7739"/>
                </a:cubicBezTo>
                <a:cubicBezTo>
                  <a:pt x="7860" y="7727"/>
                  <a:pt x="7903" y="7698"/>
                  <a:pt x="7962" y="7714"/>
                </a:cubicBezTo>
                <a:cubicBezTo>
                  <a:pt x="8040" y="7736"/>
                  <a:pt x="8040" y="7752"/>
                  <a:pt x="8086" y="7813"/>
                </a:cubicBezTo>
                <a:cubicBezTo>
                  <a:pt x="8109" y="7844"/>
                  <a:pt x="8132" y="7920"/>
                  <a:pt x="8111" y="7962"/>
                </a:cubicBezTo>
                <a:cubicBezTo>
                  <a:pt x="8091" y="8002"/>
                  <a:pt x="8045" y="8023"/>
                  <a:pt x="8012" y="8037"/>
                </a:cubicBezTo>
                <a:cubicBezTo>
                  <a:pt x="7950" y="8064"/>
                  <a:pt x="7870" y="8076"/>
                  <a:pt x="7813" y="8086"/>
                </a:cubicBezTo>
                <a:cubicBezTo>
                  <a:pt x="7797" y="8086"/>
                  <a:pt x="7780" y="8086"/>
                  <a:pt x="7764" y="8086"/>
                </a:cubicBezTo>
              </a:path>
              <a:path w="820" h="1192">
                <a:moveTo>
                  <a:pt x="7342" y="8161"/>
                </a:moveTo>
                <a:cubicBezTo>
                  <a:pt x="7327" y="8262"/>
                  <a:pt x="7317" y="8336"/>
                  <a:pt x="7317" y="8434"/>
                </a:cubicBezTo>
                <a:cubicBezTo>
                  <a:pt x="7317" y="8459"/>
                  <a:pt x="7317" y="8483"/>
                  <a:pt x="7317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89160" y="2608200"/>
            <a:ext cx="366840" cy="401760"/>
          </a:xfrm>
          <a:custGeom>
            <a:avLst/>
            <a:gdLst/>
            <a:ahLst/>
            <a:rect l="l" t="t" r="r" b="b"/>
            <a:pathLst>
              <a:path w="1018" h="1117">
                <a:moveTo>
                  <a:pt x="8582" y="7243"/>
                </a:moveTo>
                <a:cubicBezTo>
                  <a:pt x="8638" y="7277"/>
                  <a:pt x="8669" y="7254"/>
                  <a:pt x="8731" y="7268"/>
                </a:cubicBezTo>
                <a:cubicBezTo>
                  <a:pt x="8820" y="7288"/>
                  <a:pt x="8883" y="7268"/>
                  <a:pt x="8979" y="7268"/>
                </a:cubicBezTo>
                <a:cubicBezTo>
                  <a:pt x="9054" y="7268"/>
                  <a:pt x="9103" y="7243"/>
                  <a:pt x="9178" y="7243"/>
                </a:cubicBezTo>
                <a:cubicBezTo>
                  <a:pt x="9233" y="7243"/>
                  <a:pt x="9283" y="7228"/>
                  <a:pt x="9302" y="7268"/>
                </a:cubicBezTo>
                <a:cubicBezTo>
                  <a:pt x="9329" y="7326"/>
                  <a:pt x="9302" y="7389"/>
                  <a:pt x="9302" y="7466"/>
                </a:cubicBezTo>
                <a:cubicBezTo>
                  <a:pt x="9302" y="7555"/>
                  <a:pt x="9285" y="7629"/>
                  <a:pt x="9277" y="7714"/>
                </a:cubicBezTo>
                <a:cubicBezTo>
                  <a:pt x="9264" y="7842"/>
                  <a:pt x="9290" y="7972"/>
                  <a:pt x="9252" y="8086"/>
                </a:cubicBezTo>
                <a:cubicBezTo>
                  <a:pt x="9252" y="8111"/>
                  <a:pt x="9252" y="8119"/>
                  <a:pt x="9252" y="8136"/>
                </a:cubicBezTo>
              </a:path>
              <a:path w="1018" h="1117">
                <a:moveTo>
                  <a:pt x="9599" y="8037"/>
                </a:moveTo>
                <a:cubicBezTo>
                  <a:pt x="9583" y="8115"/>
                  <a:pt x="9570" y="8194"/>
                  <a:pt x="9550" y="8260"/>
                </a:cubicBezTo>
                <a:cubicBezTo>
                  <a:pt x="9550" y="8285"/>
                  <a:pt x="9550" y="8293"/>
                  <a:pt x="9550" y="8310"/>
                </a:cubicBezTo>
              </a:path>
              <a:path w="1018" h="1117">
                <a:moveTo>
                  <a:pt x="8781" y="8012"/>
                </a:moveTo>
                <a:cubicBezTo>
                  <a:pt x="8781" y="8094"/>
                  <a:pt x="8780" y="8183"/>
                  <a:pt x="8756" y="8260"/>
                </a:cubicBezTo>
                <a:cubicBezTo>
                  <a:pt x="8741" y="8309"/>
                  <a:pt x="8718" y="8341"/>
                  <a:pt x="8682" y="83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43200" y="2536920"/>
            <a:ext cx="2295720" cy="473040"/>
          </a:xfrm>
          <a:custGeom>
            <a:avLst/>
            <a:gdLst/>
            <a:ahLst/>
            <a:rect l="l" t="t" r="r" b="b"/>
            <a:pathLst>
              <a:path w="6376" h="1315">
                <a:moveTo>
                  <a:pt x="10120" y="7243"/>
                </a:moveTo>
                <a:cubicBezTo>
                  <a:pt x="10151" y="7365"/>
                  <a:pt x="10133" y="7419"/>
                  <a:pt x="10120" y="7541"/>
                </a:cubicBezTo>
                <a:cubicBezTo>
                  <a:pt x="10111" y="7631"/>
                  <a:pt x="10117" y="8080"/>
                  <a:pt x="10145" y="8062"/>
                </a:cubicBezTo>
              </a:path>
              <a:path w="6376" h="1315">
                <a:moveTo>
                  <a:pt x="10492" y="7268"/>
                </a:moveTo>
                <a:cubicBezTo>
                  <a:pt x="10492" y="7471"/>
                  <a:pt x="10490" y="7626"/>
                  <a:pt x="10517" y="7813"/>
                </a:cubicBezTo>
                <a:cubicBezTo>
                  <a:pt x="10526" y="7879"/>
                  <a:pt x="10525" y="7931"/>
                  <a:pt x="10542" y="7987"/>
                </a:cubicBezTo>
                <a:cubicBezTo>
                  <a:pt x="10558" y="8042"/>
                  <a:pt x="10491" y="8012"/>
                  <a:pt x="10542" y="8037"/>
                </a:cubicBezTo>
              </a:path>
              <a:path w="6376" h="1315">
                <a:moveTo>
                  <a:pt x="10815" y="7888"/>
                </a:moveTo>
                <a:cubicBezTo>
                  <a:pt x="10800" y="8018"/>
                  <a:pt x="10790" y="8132"/>
                  <a:pt x="10790" y="8260"/>
                </a:cubicBezTo>
                <a:cubicBezTo>
                  <a:pt x="10790" y="8310"/>
                  <a:pt x="10790" y="8326"/>
                  <a:pt x="10790" y="8359"/>
                </a:cubicBezTo>
              </a:path>
              <a:path w="6376" h="1315">
                <a:moveTo>
                  <a:pt x="11261" y="7317"/>
                </a:moveTo>
                <a:cubicBezTo>
                  <a:pt x="11241" y="7468"/>
                  <a:pt x="11256" y="7570"/>
                  <a:pt x="11261" y="7714"/>
                </a:cubicBezTo>
                <a:cubicBezTo>
                  <a:pt x="11264" y="7793"/>
                  <a:pt x="11281" y="7862"/>
                  <a:pt x="11286" y="7938"/>
                </a:cubicBezTo>
                <a:cubicBezTo>
                  <a:pt x="11287" y="7952"/>
                  <a:pt x="11269" y="8121"/>
                  <a:pt x="11311" y="8037"/>
                </a:cubicBezTo>
                <a:cubicBezTo>
                  <a:pt x="11311" y="8029"/>
                  <a:pt x="11311" y="8020"/>
                  <a:pt x="11311" y="8012"/>
                </a:cubicBezTo>
              </a:path>
              <a:path w="6376" h="1315">
                <a:moveTo>
                  <a:pt x="11733" y="7268"/>
                </a:moveTo>
                <a:cubicBezTo>
                  <a:pt x="11840" y="7268"/>
                  <a:pt x="11948" y="7268"/>
                  <a:pt x="12055" y="7268"/>
                </a:cubicBezTo>
              </a:path>
              <a:path w="6376" h="1315">
                <a:moveTo>
                  <a:pt x="11708" y="7293"/>
                </a:moveTo>
                <a:cubicBezTo>
                  <a:pt x="11654" y="7383"/>
                  <a:pt x="11592" y="7461"/>
                  <a:pt x="11584" y="7565"/>
                </a:cubicBezTo>
                <a:cubicBezTo>
                  <a:pt x="11581" y="7600"/>
                  <a:pt x="11608" y="7637"/>
                  <a:pt x="11633" y="7640"/>
                </a:cubicBezTo>
                <a:cubicBezTo>
                  <a:pt x="11685" y="7647"/>
                  <a:pt x="11717" y="7627"/>
                  <a:pt x="11757" y="7615"/>
                </a:cubicBezTo>
                <a:cubicBezTo>
                  <a:pt x="11795" y="7603"/>
                  <a:pt x="11813" y="7590"/>
                  <a:pt x="11857" y="7590"/>
                </a:cubicBezTo>
                <a:cubicBezTo>
                  <a:pt x="11909" y="7590"/>
                  <a:pt x="11935" y="7649"/>
                  <a:pt x="11956" y="7689"/>
                </a:cubicBezTo>
                <a:cubicBezTo>
                  <a:pt x="11983" y="7740"/>
                  <a:pt x="12021" y="7856"/>
                  <a:pt x="12005" y="7913"/>
                </a:cubicBezTo>
                <a:cubicBezTo>
                  <a:pt x="11997" y="7941"/>
                  <a:pt x="11973" y="8025"/>
                  <a:pt x="11931" y="8037"/>
                </a:cubicBezTo>
                <a:cubicBezTo>
                  <a:pt x="11871" y="8054"/>
                  <a:pt x="11825" y="8062"/>
                  <a:pt x="11757" y="8062"/>
                </a:cubicBezTo>
                <a:cubicBezTo>
                  <a:pt x="11716" y="8062"/>
                  <a:pt x="11674" y="8062"/>
                  <a:pt x="11633" y="8062"/>
                </a:cubicBezTo>
              </a:path>
              <a:path w="6376" h="1315">
                <a:moveTo>
                  <a:pt x="12278" y="8062"/>
                </a:moveTo>
                <a:cubicBezTo>
                  <a:pt x="12278" y="8170"/>
                  <a:pt x="12274" y="8247"/>
                  <a:pt x="12303" y="8334"/>
                </a:cubicBezTo>
                <a:cubicBezTo>
                  <a:pt x="12315" y="8370"/>
                  <a:pt x="12316" y="8370"/>
                  <a:pt x="12328" y="8334"/>
                </a:cubicBezTo>
              </a:path>
              <a:path w="6376" h="1315">
                <a:moveTo>
                  <a:pt x="12551" y="7193"/>
                </a:moveTo>
                <a:cubicBezTo>
                  <a:pt x="12575" y="7342"/>
                  <a:pt x="12540" y="7475"/>
                  <a:pt x="12551" y="7615"/>
                </a:cubicBezTo>
                <a:cubicBezTo>
                  <a:pt x="12556" y="7685"/>
                  <a:pt x="12576" y="7760"/>
                  <a:pt x="12576" y="7838"/>
                </a:cubicBezTo>
                <a:cubicBezTo>
                  <a:pt x="12576" y="7878"/>
                  <a:pt x="12537" y="7948"/>
                  <a:pt x="12576" y="7938"/>
                </a:cubicBezTo>
                <a:cubicBezTo>
                  <a:pt x="12584" y="7930"/>
                  <a:pt x="12593" y="7921"/>
                  <a:pt x="12601" y="7913"/>
                </a:cubicBezTo>
              </a:path>
              <a:path w="6376" h="1315">
                <a:moveTo>
                  <a:pt x="13122" y="7193"/>
                </a:moveTo>
                <a:cubicBezTo>
                  <a:pt x="13081" y="7166"/>
                  <a:pt x="13020" y="7258"/>
                  <a:pt x="12973" y="7317"/>
                </a:cubicBezTo>
                <a:cubicBezTo>
                  <a:pt x="12941" y="7358"/>
                  <a:pt x="12867" y="7454"/>
                  <a:pt x="12898" y="7516"/>
                </a:cubicBezTo>
                <a:cubicBezTo>
                  <a:pt x="12927" y="7575"/>
                  <a:pt x="12963" y="7573"/>
                  <a:pt x="12998" y="7565"/>
                </a:cubicBezTo>
                <a:cubicBezTo>
                  <a:pt x="13035" y="7557"/>
                  <a:pt x="13074" y="7527"/>
                  <a:pt x="13097" y="7491"/>
                </a:cubicBezTo>
                <a:cubicBezTo>
                  <a:pt x="13136" y="7431"/>
                  <a:pt x="13118" y="7353"/>
                  <a:pt x="13146" y="7293"/>
                </a:cubicBezTo>
                <a:cubicBezTo>
                  <a:pt x="13169" y="7270"/>
                  <a:pt x="13177" y="7266"/>
                  <a:pt x="13171" y="7243"/>
                </a:cubicBezTo>
                <a:cubicBezTo>
                  <a:pt x="13160" y="7300"/>
                  <a:pt x="13129" y="7360"/>
                  <a:pt x="13122" y="7417"/>
                </a:cubicBezTo>
                <a:cubicBezTo>
                  <a:pt x="13109" y="7518"/>
                  <a:pt x="13097" y="7611"/>
                  <a:pt x="13097" y="7714"/>
                </a:cubicBezTo>
                <a:cubicBezTo>
                  <a:pt x="13097" y="7816"/>
                  <a:pt x="13134" y="7909"/>
                  <a:pt x="13146" y="8012"/>
                </a:cubicBezTo>
                <a:cubicBezTo>
                  <a:pt x="13146" y="8054"/>
                  <a:pt x="13138" y="8070"/>
                  <a:pt x="13171" y="8062"/>
                </a:cubicBezTo>
              </a:path>
              <a:path w="6376" h="1315">
                <a:moveTo>
                  <a:pt x="13419" y="7913"/>
                </a:moveTo>
                <a:cubicBezTo>
                  <a:pt x="13396" y="7998"/>
                  <a:pt x="13283" y="8099"/>
                  <a:pt x="13345" y="8161"/>
                </a:cubicBezTo>
                <a:cubicBezTo>
                  <a:pt x="13353" y="8161"/>
                  <a:pt x="13362" y="8161"/>
                  <a:pt x="13370" y="8161"/>
                </a:cubicBezTo>
              </a:path>
              <a:path w="6376" h="1315">
                <a:moveTo>
                  <a:pt x="13643" y="7268"/>
                </a:moveTo>
                <a:cubicBezTo>
                  <a:pt x="13747" y="7164"/>
                  <a:pt x="13738" y="7144"/>
                  <a:pt x="13866" y="7144"/>
                </a:cubicBezTo>
                <a:cubicBezTo>
                  <a:pt x="13940" y="7144"/>
                  <a:pt x="13961" y="7180"/>
                  <a:pt x="13965" y="7243"/>
                </a:cubicBezTo>
                <a:cubicBezTo>
                  <a:pt x="13971" y="7338"/>
                  <a:pt x="13947" y="7382"/>
                  <a:pt x="13915" y="7466"/>
                </a:cubicBezTo>
                <a:cubicBezTo>
                  <a:pt x="13879" y="7559"/>
                  <a:pt x="13832" y="7626"/>
                  <a:pt x="13791" y="7714"/>
                </a:cubicBezTo>
                <a:cubicBezTo>
                  <a:pt x="13763" y="7773"/>
                  <a:pt x="13712" y="7828"/>
                  <a:pt x="13692" y="7888"/>
                </a:cubicBezTo>
                <a:cubicBezTo>
                  <a:pt x="13677" y="7934"/>
                  <a:pt x="13697" y="7947"/>
                  <a:pt x="13717" y="7962"/>
                </a:cubicBezTo>
                <a:cubicBezTo>
                  <a:pt x="13781" y="8010"/>
                  <a:pt x="13812" y="7973"/>
                  <a:pt x="13891" y="7962"/>
                </a:cubicBezTo>
                <a:cubicBezTo>
                  <a:pt x="13986" y="7948"/>
                  <a:pt x="14039" y="7917"/>
                  <a:pt x="14114" y="7863"/>
                </a:cubicBezTo>
              </a:path>
              <a:path w="6376" h="1315">
                <a:moveTo>
                  <a:pt x="14188" y="7243"/>
                </a:moveTo>
                <a:cubicBezTo>
                  <a:pt x="14235" y="7197"/>
                  <a:pt x="14278" y="7156"/>
                  <a:pt x="14337" y="7144"/>
                </a:cubicBezTo>
                <a:cubicBezTo>
                  <a:pt x="14378" y="7136"/>
                  <a:pt x="14485" y="7162"/>
                  <a:pt x="14511" y="7193"/>
                </a:cubicBezTo>
                <a:cubicBezTo>
                  <a:pt x="14589" y="7288"/>
                  <a:pt x="14533" y="7340"/>
                  <a:pt x="14461" y="7417"/>
                </a:cubicBezTo>
                <a:cubicBezTo>
                  <a:pt x="14421" y="7459"/>
                  <a:pt x="14339" y="7540"/>
                  <a:pt x="14288" y="7565"/>
                </a:cubicBezTo>
                <a:cubicBezTo>
                  <a:pt x="14260" y="7565"/>
                  <a:pt x="14249" y="7567"/>
                  <a:pt x="14238" y="7590"/>
                </a:cubicBezTo>
                <a:cubicBezTo>
                  <a:pt x="14291" y="7590"/>
                  <a:pt x="14318" y="7568"/>
                  <a:pt x="14362" y="7565"/>
                </a:cubicBezTo>
                <a:cubicBezTo>
                  <a:pt x="14404" y="7562"/>
                  <a:pt x="14476" y="7526"/>
                  <a:pt x="14511" y="7565"/>
                </a:cubicBezTo>
                <a:cubicBezTo>
                  <a:pt x="14567" y="7626"/>
                  <a:pt x="14560" y="7685"/>
                  <a:pt x="14560" y="7764"/>
                </a:cubicBezTo>
                <a:cubicBezTo>
                  <a:pt x="14560" y="7824"/>
                  <a:pt x="14540" y="7879"/>
                  <a:pt x="14486" y="7913"/>
                </a:cubicBezTo>
                <a:cubicBezTo>
                  <a:pt x="14414" y="7959"/>
                  <a:pt x="14399" y="7981"/>
                  <a:pt x="14312" y="7987"/>
                </a:cubicBezTo>
                <a:cubicBezTo>
                  <a:pt x="14264" y="7990"/>
                  <a:pt x="14250" y="7984"/>
                  <a:pt x="14213" y="7962"/>
                </a:cubicBezTo>
              </a:path>
              <a:path w="6376" h="1315">
                <a:moveTo>
                  <a:pt x="14759" y="8086"/>
                </a:moveTo>
                <a:cubicBezTo>
                  <a:pt x="14744" y="8167"/>
                  <a:pt x="14698" y="8251"/>
                  <a:pt x="14759" y="8210"/>
                </a:cubicBezTo>
              </a:path>
              <a:path w="6376" h="1315">
                <a:moveTo>
                  <a:pt x="15156" y="7317"/>
                </a:moveTo>
                <a:cubicBezTo>
                  <a:pt x="15220" y="7227"/>
                  <a:pt x="15254" y="7186"/>
                  <a:pt x="15329" y="7119"/>
                </a:cubicBezTo>
                <a:cubicBezTo>
                  <a:pt x="15428" y="7029"/>
                  <a:pt x="15516" y="7277"/>
                  <a:pt x="15528" y="7317"/>
                </a:cubicBezTo>
                <a:cubicBezTo>
                  <a:pt x="15556" y="7410"/>
                  <a:pt x="15478" y="7544"/>
                  <a:pt x="15429" y="7615"/>
                </a:cubicBezTo>
                <a:cubicBezTo>
                  <a:pt x="15369" y="7702"/>
                  <a:pt x="15305" y="7776"/>
                  <a:pt x="15230" y="7838"/>
                </a:cubicBezTo>
                <a:cubicBezTo>
                  <a:pt x="15193" y="7868"/>
                  <a:pt x="15192" y="7852"/>
                  <a:pt x="15180" y="7888"/>
                </a:cubicBezTo>
                <a:cubicBezTo>
                  <a:pt x="15270" y="7888"/>
                  <a:pt x="15319" y="7909"/>
                  <a:pt x="15404" y="7938"/>
                </a:cubicBezTo>
                <a:cubicBezTo>
                  <a:pt x="15496" y="7970"/>
                  <a:pt x="15585" y="7991"/>
                  <a:pt x="15677" y="7962"/>
                </a:cubicBezTo>
                <a:cubicBezTo>
                  <a:pt x="15693" y="7954"/>
                  <a:pt x="15710" y="7946"/>
                  <a:pt x="15726" y="7938"/>
                </a:cubicBezTo>
              </a:path>
              <a:path w="6376" h="1315">
                <a:moveTo>
                  <a:pt x="15925" y="7069"/>
                </a:moveTo>
                <a:cubicBezTo>
                  <a:pt x="16018" y="7060"/>
                  <a:pt x="16128" y="7043"/>
                  <a:pt x="16222" y="7069"/>
                </a:cubicBezTo>
                <a:cubicBezTo>
                  <a:pt x="16273" y="7083"/>
                  <a:pt x="16359" y="7101"/>
                  <a:pt x="16396" y="7144"/>
                </a:cubicBezTo>
                <a:cubicBezTo>
                  <a:pt x="16433" y="7187"/>
                  <a:pt x="16431" y="7292"/>
                  <a:pt x="16421" y="7342"/>
                </a:cubicBezTo>
                <a:cubicBezTo>
                  <a:pt x="16398" y="7463"/>
                  <a:pt x="16326" y="7533"/>
                  <a:pt x="16321" y="7665"/>
                </a:cubicBezTo>
                <a:cubicBezTo>
                  <a:pt x="16317" y="7765"/>
                  <a:pt x="16325" y="7843"/>
                  <a:pt x="16346" y="7938"/>
                </a:cubicBezTo>
                <a:cubicBezTo>
                  <a:pt x="16368" y="8035"/>
                  <a:pt x="16389" y="8126"/>
                  <a:pt x="16446" y="8210"/>
                </a:cubicBezTo>
                <a:cubicBezTo>
                  <a:pt x="16470" y="8245"/>
                  <a:pt x="16477" y="8242"/>
                  <a:pt x="16495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54080" y="3054240"/>
            <a:ext cx="4500720" cy="1054080"/>
          </a:xfrm>
          <a:custGeom>
            <a:avLst/>
            <a:gdLst/>
            <a:ahLst/>
            <a:rect l="l" t="t" r="r" b="b"/>
            <a:pathLst>
              <a:path w="12503" h="2928">
                <a:moveTo>
                  <a:pt x="3001" y="10691"/>
                </a:moveTo>
                <a:cubicBezTo>
                  <a:pt x="2985" y="10741"/>
                  <a:pt x="2972" y="10819"/>
                  <a:pt x="2952" y="10864"/>
                </a:cubicBezTo>
                <a:cubicBezTo>
                  <a:pt x="2944" y="10872"/>
                  <a:pt x="2935" y="10881"/>
                  <a:pt x="2927" y="10889"/>
                </a:cubicBezTo>
                <a:cubicBezTo>
                  <a:pt x="2938" y="10833"/>
                  <a:pt x="2938" y="10771"/>
                  <a:pt x="2952" y="10716"/>
                </a:cubicBezTo>
                <a:cubicBezTo>
                  <a:pt x="2984" y="10590"/>
                  <a:pt x="2998" y="10470"/>
                  <a:pt x="3026" y="10344"/>
                </a:cubicBezTo>
                <a:cubicBezTo>
                  <a:pt x="3059" y="10195"/>
                  <a:pt x="3095" y="10047"/>
                  <a:pt x="3125" y="9897"/>
                </a:cubicBezTo>
                <a:cubicBezTo>
                  <a:pt x="3166" y="9694"/>
                  <a:pt x="3224" y="9501"/>
                  <a:pt x="3274" y="9302"/>
                </a:cubicBezTo>
                <a:cubicBezTo>
                  <a:pt x="3316" y="9136"/>
                  <a:pt x="3363" y="8990"/>
                  <a:pt x="3423" y="8830"/>
                </a:cubicBezTo>
                <a:cubicBezTo>
                  <a:pt x="3451" y="8754"/>
                  <a:pt x="3465" y="8650"/>
                  <a:pt x="3497" y="8582"/>
                </a:cubicBezTo>
                <a:cubicBezTo>
                  <a:pt x="3527" y="8518"/>
                  <a:pt x="3549" y="8519"/>
                  <a:pt x="3597" y="8483"/>
                </a:cubicBezTo>
                <a:cubicBezTo>
                  <a:pt x="3637" y="8540"/>
                  <a:pt x="3647" y="8569"/>
                  <a:pt x="3671" y="8632"/>
                </a:cubicBezTo>
                <a:cubicBezTo>
                  <a:pt x="3706" y="8722"/>
                  <a:pt x="3739" y="8812"/>
                  <a:pt x="3770" y="8905"/>
                </a:cubicBezTo>
                <a:cubicBezTo>
                  <a:pt x="3826" y="9074"/>
                  <a:pt x="3858" y="9251"/>
                  <a:pt x="3894" y="9426"/>
                </a:cubicBezTo>
                <a:cubicBezTo>
                  <a:pt x="3925" y="9580"/>
                  <a:pt x="3971" y="9746"/>
                  <a:pt x="4018" y="9897"/>
                </a:cubicBezTo>
                <a:cubicBezTo>
                  <a:pt x="4087" y="10118"/>
                  <a:pt x="4127" y="10344"/>
                  <a:pt x="4192" y="10567"/>
                </a:cubicBezTo>
                <a:cubicBezTo>
                  <a:pt x="4218" y="10655"/>
                  <a:pt x="4258" y="10731"/>
                  <a:pt x="4291" y="10815"/>
                </a:cubicBezTo>
                <a:cubicBezTo>
                  <a:pt x="4291" y="10859"/>
                  <a:pt x="4288" y="10873"/>
                  <a:pt x="4316" y="10889"/>
                </a:cubicBezTo>
              </a:path>
              <a:path w="12503" h="2928">
                <a:moveTo>
                  <a:pt x="3249" y="10492"/>
                </a:moveTo>
                <a:cubicBezTo>
                  <a:pt x="3339" y="10492"/>
                  <a:pt x="3406" y="10514"/>
                  <a:pt x="3497" y="10517"/>
                </a:cubicBezTo>
                <a:cubicBezTo>
                  <a:pt x="3645" y="10522"/>
                  <a:pt x="3795" y="10549"/>
                  <a:pt x="3944" y="10567"/>
                </a:cubicBezTo>
              </a:path>
              <a:path w="12503" h="2928">
                <a:moveTo>
                  <a:pt x="4688" y="10840"/>
                </a:moveTo>
                <a:cubicBezTo>
                  <a:pt x="4688" y="10904"/>
                  <a:pt x="4656" y="11292"/>
                  <a:pt x="4713" y="11311"/>
                </a:cubicBezTo>
                <a:cubicBezTo>
                  <a:pt x="4713" y="11251"/>
                  <a:pt x="4728" y="11218"/>
                  <a:pt x="4738" y="11162"/>
                </a:cubicBezTo>
                <a:cubicBezTo>
                  <a:pt x="4751" y="11090"/>
                  <a:pt x="4759" y="11012"/>
                  <a:pt x="4762" y="10939"/>
                </a:cubicBezTo>
                <a:cubicBezTo>
                  <a:pt x="4766" y="10855"/>
                  <a:pt x="4807" y="10781"/>
                  <a:pt x="4862" y="10716"/>
                </a:cubicBezTo>
                <a:cubicBezTo>
                  <a:pt x="4896" y="10676"/>
                  <a:pt x="4910" y="10666"/>
                  <a:pt x="4961" y="10666"/>
                </a:cubicBezTo>
                <a:cubicBezTo>
                  <a:pt x="5005" y="10666"/>
                  <a:pt x="5079" y="10705"/>
                  <a:pt x="5110" y="10740"/>
                </a:cubicBezTo>
                <a:cubicBezTo>
                  <a:pt x="5157" y="10795"/>
                  <a:pt x="5186" y="10898"/>
                  <a:pt x="5209" y="10964"/>
                </a:cubicBezTo>
                <a:cubicBezTo>
                  <a:pt x="5252" y="11086"/>
                  <a:pt x="5280" y="11214"/>
                  <a:pt x="5308" y="11336"/>
                </a:cubicBezTo>
                <a:cubicBezTo>
                  <a:pt x="5320" y="11388"/>
                  <a:pt x="5297" y="11415"/>
                  <a:pt x="5358" y="11385"/>
                </a:cubicBezTo>
              </a:path>
              <a:path w="12503" h="2928">
                <a:moveTo>
                  <a:pt x="5432" y="10096"/>
                </a:moveTo>
                <a:cubicBezTo>
                  <a:pt x="5540" y="10096"/>
                  <a:pt x="5647" y="10096"/>
                  <a:pt x="5755" y="10096"/>
                </a:cubicBezTo>
              </a:path>
              <a:path w="12503" h="2928">
                <a:moveTo>
                  <a:pt x="5581" y="10319"/>
                </a:moveTo>
                <a:cubicBezTo>
                  <a:pt x="5679" y="10332"/>
                  <a:pt x="5740" y="10344"/>
                  <a:pt x="5829" y="10344"/>
                </a:cubicBezTo>
              </a:path>
              <a:path w="12503" h="2928">
                <a:moveTo>
                  <a:pt x="6449" y="10988"/>
                </a:moveTo>
                <a:cubicBezTo>
                  <a:pt x="6482" y="10950"/>
                  <a:pt x="6463" y="10946"/>
                  <a:pt x="6524" y="10939"/>
                </a:cubicBezTo>
                <a:cubicBezTo>
                  <a:pt x="6591" y="10931"/>
                  <a:pt x="6659" y="10922"/>
                  <a:pt x="6722" y="10914"/>
                </a:cubicBezTo>
                <a:cubicBezTo>
                  <a:pt x="6935" y="10886"/>
                  <a:pt x="7178" y="10900"/>
                  <a:pt x="7392" y="10889"/>
                </a:cubicBezTo>
                <a:cubicBezTo>
                  <a:pt x="7666" y="10874"/>
                  <a:pt x="7940" y="10896"/>
                  <a:pt x="8210" y="10914"/>
                </a:cubicBezTo>
                <a:cubicBezTo>
                  <a:pt x="8392" y="10926"/>
                  <a:pt x="8576" y="10923"/>
                  <a:pt x="8756" y="10939"/>
                </a:cubicBezTo>
                <a:cubicBezTo>
                  <a:pt x="8863" y="10948"/>
                  <a:pt x="8952" y="10998"/>
                  <a:pt x="9054" y="10964"/>
                </a:cubicBezTo>
                <a:cubicBezTo>
                  <a:pt x="9054" y="10956"/>
                  <a:pt x="9054" y="10947"/>
                  <a:pt x="9054" y="10939"/>
                </a:cubicBezTo>
              </a:path>
              <a:path w="12503" h="2928">
                <a:moveTo>
                  <a:pt x="9624" y="9723"/>
                </a:moveTo>
                <a:cubicBezTo>
                  <a:pt x="9624" y="9892"/>
                  <a:pt x="9628" y="10059"/>
                  <a:pt x="9649" y="10220"/>
                </a:cubicBezTo>
                <a:cubicBezTo>
                  <a:pt x="9655" y="10264"/>
                  <a:pt x="9652" y="10353"/>
                  <a:pt x="9674" y="10393"/>
                </a:cubicBezTo>
                <a:cubicBezTo>
                  <a:pt x="9721" y="10477"/>
                  <a:pt x="9677" y="10417"/>
                  <a:pt x="9649" y="10368"/>
                </a:cubicBezTo>
              </a:path>
              <a:path w="12503" h="2928">
                <a:moveTo>
                  <a:pt x="9401" y="10021"/>
                </a:moveTo>
                <a:cubicBezTo>
                  <a:pt x="9473" y="10048"/>
                  <a:pt x="9527" y="10030"/>
                  <a:pt x="9599" y="10046"/>
                </a:cubicBezTo>
                <a:cubicBezTo>
                  <a:pt x="9681" y="10064"/>
                  <a:pt x="9738" y="10071"/>
                  <a:pt x="9823" y="10071"/>
                </a:cubicBezTo>
              </a:path>
              <a:path w="12503" h="2928">
                <a:moveTo>
                  <a:pt x="10790" y="9079"/>
                </a:moveTo>
                <a:cubicBezTo>
                  <a:pt x="10766" y="9150"/>
                  <a:pt x="10717" y="9213"/>
                  <a:pt x="10691" y="9277"/>
                </a:cubicBezTo>
                <a:cubicBezTo>
                  <a:pt x="10637" y="9408"/>
                  <a:pt x="10613" y="9538"/>
                  <a:pt x="10567" y="9674"/>
                </a:cubicBezTo>
                <a:cubicBezTo>
                  <a:pt x="10503" y="9864"/>
                  <a:pt x="10448" y="10042"/>
                  <a:pt x="10443" y="10244"/>
                </a:cubicBezTo>
                <a:cubicBezTo>
                  <a:pt x="10440" y="10359"/>
                  <a:pt x="10460" y="10483"/>
                  <a:pt x="10492" y="10592"/>
                </a:cubicBezTo>
                <a:cubicBezTo>
                  <a:pt x="10502" y="10625"/>
                  <a:pt x="10563" y="10793"/>
                  <a:pt x="10616" y="10790"/>
                </a:cubicBezTo>
                <a:cubicBezTo>
                  <a:pt x="10651" y="10790"/>
                  <a:pt x="10669" y="10785"/>
                  <a:pt x="10691" y="10765"/>
                </a:cubicBezTo>
              </a:path>
              <a:path w="12503" h="2928">
                <a:moveTo>
                  <a:pt x="10840" y="10096"/>
                </a:moveTo>
                <a:cubicBezTo>
                  <a:pt x="10822" y="10218"/>
                  <a:pt x="10815" y="10322"/>
                  <a:pt x="10815" y="10443"/>
                </a:cubicBezTo>
                <a:cubicBezTo>
                  <a:pt x="10815" y="10512"/>
                  <a:pt x="10823" y="10560"/>
                  <a:pt x="10840" y="10616"/>
                </a:cubicBezTo>
                <a:cubicBezTo>
                  <a:pt x="10840" y="10624"/>
                  <a:pt x="10840" y="10633"/>
                  <a:pt x="10840" y="10641"/>
                </a:cubicBezTo>
                <a:cubicBezTo>
                  <a:pt x="10864" y="10633"/>
                  <a:pt x="10882" y="10581"/>
                  <a:pt x="10889" y="10542"/>
                </a:cubicBezTo>
                <a:cubicBezTo>
                  <a:pt x="10904" y="10460"/>
                  <a:pt x="10927" y="10378"/>
                  <a:pt x="10939" y="10294"/>
                </a:cubicBezTo>
                <a:cubicBezTo>
                  <a:pt x="10950" y="10212"/>
                  <a:pt x="10958" y="10125"/>
                  <a:pt x="10988" y="10046"/>
                </a:cubicBezTo>
                <a:cubicBezTo>
                  <a:pt x="11019" y="9965"/>
                  <a:pt x="11049" y="9945"/>
                  <a:pt x="11112" y="9897"/>
                </a:cubicBezTo>
                <a:cubicBezTo>
                  <a:pt x="11169" y="9854"/>
                  <a:pt x="11206" y="9880"/>
                  <a:pt x="11261" y="9922"/>
                </a:cubicBezTo>
                <a:cubicBezTo>
                  <a:pt x="11336" y="9979"/>
                  <a:pt x="11350" y="10038"/>
                  <a:pt x="11385" y="10120"/>
                </a:cubicBezTo>
                <a:cubicBezTo>
                  <a:pt x="11424" y="10212"/>
                  <a:pt x="11445" y="10323"/>
                  <a:pt x="11460" y="10418"/>
                </a:cubicBezTo>
                <a:cubicBezTo>
                  <a:pt x="11469" y="10478"/>
                  <a:pt x="11493" y="10517"/>
                  <a:pt x="11509" y="10567"/>
                </a:cubicBezTo>
                <a:cubicBezTo>
                  <a:pt x="11509" y="10592"/>
                  <a:pt x="11509" y="10600"/>
                  <a:pt x="11534" y="10592"/>
                </a:cubicBezTo>
              </a:path>
              <a:path w="12503" h="2928">
                <a:moveTo>
                  <a:pt x="11757" y="10220"/>
                </a:moveTo>
                <a:cubicBezTo>
                  <a:pt x="11867" y="10220"/>
                  <a:pt x="11999" y="10229"/>
                  <a:pt x="12105" y="10195"/>
                </a:cubicBezTo>
                <a:cubicBezTo>
                  <a:pt x="12121" y="10187"/>
                  <a:pt x="12138" y="10178"/>
                  <a:pt x="12154" y="10170"/>
                </a:cubicBezTo>
              </a:path>
              <a:path w="12503" h="2928">
                <a:moveTo>
                  <a:pt x="12353" y="9773"/>
                </a:moveTo>
                <a:cubicBezTo>
                  <a:pt x="12361" y="9877"/>
                  <a:pt x="12378" y="9964"/>
                  <a:pt x="12378" y="10071"/>
                </a:cubicBezTo>
                <a:cubicBezTo>
                  <a:pt x="12378" y="10159"/>
                  <a:pt x="12379" y="10261"/>
                  <a:pt x="12402" y="10344"/>
                </a:cubicBezTo>
                <a:cubicBezTo>
                  <a:pt x="12421" y="10412"/>
                  <a:pt x="12446" y="10470"/>
                  <a:pt x="12452" y="10542"/>
                </a:cubicBezTo>
                <a:cubicBezTo>
                  <a:pt x="12453" y="10550"/>
                  <a:pt x="12452" y="10634"/>
                  <a:pt x="12452" y="10567"/>
                </a:cubicBezTo>
              </a:path>
              <a:path w="12503" h="2928">
                <a:moveTo>
                  <a:pt x="12551" y="8855"/>
                </a:moveTo>
                <a:cubicBezTo>
                  <a:pt x="12725" y="9007"/>
                  <a:pt x="12816" y="9102"/>
                  <a:pt x="12923" y="9302"/>
                </a:cubicBezTo>
                <a:cubicBezTo>
                  <a:pt x="13056" y="9553"/>
                  <a:pt x="13126" y="9786"/>
                  <a:pt x="13171" y="10071"/>
                </a:cubicBezTo>
                <a:cubicBezTo>
                  <a:pt x="13191" y="10199"/>
                  <a:pt x="13136" y="10338"/>
                  <a:pt x="13072" y="10443"/>
                </a:cubicBezTo>
                <a:cubicBezTo>
                  <a:pt x="13022" y="10525"/>
                  <a:pt x="12954" y="10590"/>
                  <a:pt x="12898" y="10666"/>
                </a:cubicBezTo>
                <a:cubicBezTo>
                  <a:pt x="12874" y="10699"/>
                  <a:pt x="12865" y="10733"/>
                  <a:pt x="12849" y="10765"/>
                </a:cubicBezTo>
              </a:path>
              <a:path w="12503" h="2928">
                <a:moveTo>
                  <a:pt x="13841" y="10740"/>
                </a:moveTo>
                <a:cubicBezTo>
                  <a:pt x="13938" y="10705"/>
                  <a:pt x="13989" y="10729"/>
                  <a:pt x="14089" y="10740"/>
                </a:cubicBezTo>
                <a:cubicBezTo>
                  <a:pt x="14228" y="10755"/>
                  <a:pt x="14373" y="10744"/>
                  <a:pt x="14511" y="10765"/>
                </a:cubicBezTo>
                <a:cubicBezTo>
                  <a:pt x="14666" y="10788"/>
                  <a:pt x="14826" y="10803"/>
                  <a:pt x="14982" y="10815"/>
                </a:cubicBezTo>
                <a:cubicBezTo>
                  <a:pt x="15096" y="10824"/>
                  <a:pt x="15223" y="10827"/>
                  <a:pt x="15329" y="10790"/>
                </a:cubicBezTo>
                <a:cubicBezTo>
                  <a:pt x="15386" y="10770"/>
                  <a:pt x="15428" y="10772"/>
                  <a:pt x="15404" y="10740"/>
                </a:cubicBezTo>
                <a:cubicBezTo>
                  <a:pt x="15396" y="10740"/>
                  <a:pt x="15387" y="10740"/>
                  <a:pt x="15379" y="10740"/>
                </a:cubicBezTo>
              </a:path>
              <a:path w="12503" h="2928">
                <a:moveTo>
                  <a:pt x="14362" y="9252"/>
                </a:moveTo>
                <a:cubicBezTo>
                  <a:pt x="14382" y="9212"/>
                  <a:pt x="14381" y="9196"/>
                  <a:pt x="14412" y="9203"/>
                </a:cubicBezTo>
                <a:cubicBezTo>
                  <a:pt x="14412" y="9279"/>
                  <a:pt x="14398" y="9358"/>
                  <a:pt x="14362" y="9426"/>
                </a:cubicBezTo>
                <a:cubicBezTo>
                  <a:pt x="14332" y="9483"/>
                  <a:pt x="14262" y="9539"/>
                  <a:pt x="14238" y="9599"/>
                </a:cubicBezTo>
                <a:cubicBezTo>
                  <a:pt x="14228" y="9623"/>
                  <a:pt x="14207" y="9646"/>
                  <a:pt x="14188" y="9674"/>
                </a:cubicBezTo>
                <a:cubicBezTo>
                  <a:pt x="14166" y="9696"/>
                  <a:pt x="14157" y="9701"/>
                  <a:pt x="14163" y="9723"/>
                </a:cubicBezTo>
                <a:cubicBezTo>
                  <a:pt x="14228" y="9775"/>
                  <a:pt x="14253" y="9773"/>
                  <a:pt x="14337" y="9773"/>
                </a:cubicBezTo>
                <a:cubicBezTo>
                  <a:pt x="14509" y="9773"/>
                  <a:pt x="14725" y="9812"/>
                  <a:pt x="14883" y="9748"/>
                </a:cubicBezTo>
                <a:cubicBezTo>
                  <a:pt x="14899" y="9740"/>
                  <a:pt x="14916" y="9731"/>
                  <a:pt x="14932" y="9723"/>
                </a:cubicBezTo>
              </a:path>
              <a:path w="12503" h="2928">
                <a:moveTo>
                  <a:pt x="14833" y="8930"/>
                </a:moveTo>
                <a:cubicBezTo>
                  <a:pt x="14833" y="9063"/>
                  <a:pt x="14829" y="9197"/>
                  <a:pt x="14808" y="9327"/>
                </a:cubicBezTo>
                <a:cubicBezTo>
                  <a:pt x="14787" y="9459"/>
                  <a:pt x="14763" y="9588"/>
                  <a:pt x="14759" y="9723"/>
                </a:cubicBezTo>
                <a:cubicBezTo>
                  <a:pt x="14755" y="9857"/>
                  <a:pt x="14734" y="9984"/>
                  <a:pt x="14734" y="10120"/>
                </a:cubicBezTo>
                <a:cubicBezTo>
                  <a:pt x="14734" y="10249"/>
                  <a:pt x="14746" y="10368"/>
                  <a:pt x="14759" y="10492"/>
                </a:cubicBezTo>
                <a:cubicBezTo>
                  <a:pt x="14768" y="10571"/>
                  <a:pt x="14777" y="10601"/>
                  <a:pt x="14808" y="10641"/>
                </a:cubicBezTo>
              </a:path>
              <a:path w="12503" h="2928">
                <a:moveTo>
                  <a:pt x="6251" y="9798"/>
                </a:moveTo>
                <a:cubicBezTo>
                  <a:pt x="6298" y="9810"/>
                  <a:pt x="6341" y="9840"/>
                  <a:pt x="6400" y="9823"/>
                </a:cubicBezTo>
                <a:cubicBezTo>
                  <a:pt x="6485" y="9799"/>
                  <a:pt x="6557" y="9798"/>
                  <a:pt x="6648" y="9798"/>
                </a:cubicBezTo>
                <a:cubicBezTo>
                  <a:pt x="6673" y="9798"/>
                  <a:pt x="6697" y="9798"/>
                  <a:pt x="6722" y="9798"/>
                </a:cubicBezTo>
              </a:path>
              <a:path w="12503" h="2928">
                <a:moveTo>
                  <a:pt x="7615" y="8979"/>
                </a:moveTo>
                <a:cubicBezTo>
                  <a:pt x="7615" y="9196"/>
                  <a:pt x="7621" y="9410"/>
                  <a:pt x="7640" y="9624"/>
                </a:cubicBezTo>
                <a:cubicBezTo>
                  <a:pt x="7651" y="9756"/>
                  <a:pt x="7654" y="9891"/>
                  <a:pt x="7665" y="10021"/>
                </a:cubicBezTo>
                <a:cubicBezTo>
                  <a:pt x="7675" y="10136"/>
                  <a:pt x="7679" y="10255"/>
                  <a:pt x="7689" y="10368"/>
                </a:cubicBezTo>
                <a:cubicBezTo>
                  <a:pt x="7695" y="10431"/>
                  <a:pt x="7653" y="10746"/>
                  <a:pt x="7714" y="10765"/>
                </a:cubicBezTo>
                <a:cubicBezTo>
                  <a:pt x="7714" y="10757"/>
                  <a:pt x="7714" y="10748"/>
                  <a:pt x="7714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97000" y="4303800"/>
            <a:ext cx="749160" cy="590400"/>
          </a:xfrm>
          <a:custGeom>
            <a:avLst/>
            <a:gdLst/>
            <a:ahLst/>
            <a:rect l="l" t="t" r="r" b="b"/>
            <a:pathLst>
              <a:path w="2084" h="1638">
                <a:moveTo>
                  <a:pt x="3497" y="12402"/>
                </a:moveTo>
                <a:cubicBezTo>
                  <a:pt x="3465" y="12513"/>
                  <a:pt x="3452" y="12633"/>
                  <a:pt x="3423" y="12750"/>
                </a:cubicBezTo>
                <a:cubicBezTo>
                  <a:pt x="3397" y="12854"/>
                  <a:pt x="3368" y="12966"/>
                  <a:pt x="3349" y="13072"/>
                </a:cubicBezTo>
                <a:cubicBezTo>
                  <a:pt x="3341" y="13116"/>
                  <a:pt x="3336" y="13154"/>
                  <a:pt x="3324" y="13196"/>
                </a:cubicBezTo>
                <a:cubicBezTo>
                  <a:pt x="3343" y="13122"/>
                  <a:pt x="3351" y="13049"/>
                  <a:pt x="3373" y="12973"/>
                </a:cubicBezTo>
                <a:cubicBezTo>
                  <a:pt x="3409" y="12850"/>
                  <a:pt x="3438" y="12725"/>
                  <a:pt x="3473" y="12601"/>
                </a:cubicBezTo>
                <a:cubicBezTo>
                  <a:pt x="3508" y="12478"/>
                  <a:pt x="3548" y="12369"/>
                  <a:pt x="3597" y="12254"/>
                </a:cubicBezTo>
                <a:cubicBezTo>
                  <a:pt x="3631" y="12173"/>
                  <a:pt x="3678" y="12064"/>
                  <a:pt x="3746" y="12005"/>
                </a:cubicBezTo>
                <a:cubicBezTo>
                  <a:pt x="3776" y="11979"/>
                  <a:pt x="3788" y="11981"/>
                  <a:pt x="3820" y="11956"/>
                </a:cubicBezTo>
                <a:cubicBezTo>
                  <a:pt x="3866" y="12013"/>
                  <a:pt x="3894" y="12060"/>
                  <a:pt x="3919" y="12129"/>
                </a:cubicBezTo>
                <a:cubicBezTo>
                  <a:pt x="3959" y="12239"/>
                  <a:pt x="3968" y="12341"/>
                  <a:pt x="3994" y="12452"/>
                </a:cubicBezTo>
                <a:cubicBezTo>
                  <a:pt x="4034" y="12618"/>
                  <a:pt x="4077" y="12770"/>
                  <a:pt x="4142" y="12923"/>
                </a:cubicBezTo>
                <a:cubicBezTo>
                  <a:pt x="4182" y="13018"/>
                  <a:pt x="4267" y="13129"/>
                  <a:pt x="4291" y="13221"/>
                </a:cubicBezTo>
                <a:cubicBezTo>
                  <a:pt x="4291" y="13246"/>
                  <a:pt x="4291" y="13254"/>
                  <a:pt x="4291" y="13271"/>
                </a:cubicBezTo>
              </a:path>
              <a:path w="2084" h="1638">
                <a:moveTo>
                  <a:pt x="3572" y="12898"/>
                </a:moveTo>
                <a:cubicBezTo>
                  <a:pt x="3653" y="12929"/>
                  <a:pt x="3738" y="12925"/>
                  <a:pt x="3820" y="12948"/>
                </a:cubicBezTo>
                <a:cubicBezTo>
                  <a:pt x="3837" y="12956"/>
                  <a:pt x="3853" y="12965"/>
                  <a:pt x="3870" y="12973"/>
                </a:cubicBezTo>
              </a:path>
              <a:path w="2084" h="1638">
                <a:moveTo>
                  <a:pt x="4490" y="13246"/>
                </a:moveTo>
                <a:cubicBezTo>
                  <a:pt x="4496" y="13335"/>
                  <a:pt x="4514" y="13405"/>
                  <a:pt x="4514" y="13494"/>
                </a:cubicBezTo>
                <a:cubicBezTo>
                  <a:pt x="4514" y="13519"/>
                  <a:pt x="4514" y="13527"/>
                  <a:pt x="4514" y="13543"/>
                </a:cubicBezTo>
                <a:cubicBezTo>
                  <a:pt x="4514" y="13423"/>
                  <a:pt x="4490" y="13279"/>
                  <a:pt x="4539" y="13171"/>
                </a:cubicBezTo>
                <a:cubicBezTo>
                  <a:pt x="4571" y="13101"/>
                  <a:pt x="4606" y="13090"/>
                  <a:pt x="4663" y="13047"/>
                </a:cubicBezTo>
                <a:cubicBezTo>
                  <a:pt x="4715" y="13008"/>
                  <a:pt x="4718" y="13027"/>
                  <a:pt x="4762" y="13072"/>
                </a:cubicBezTo>
                <a:cubicBezTo>
                  <a:pt x="4813" y="13124"/>
                  <a:pt x="4847" y="13170"/>
                  <a:pt x="4862" y="13246"/>
                </a:cubicBezTo>
                <a:cubicBezTo>
                  <a:pt x="4876" y="13320"/>
                  <a:pt x="4900" y="13396"/>
                  <a:pt x="4911" y="13469"/>
                </a:cubicBezTo>
                <a:cubicBezTo>
                  <a:pt x="4919" y="13520"/>
                  <a:pt x="4929" y="13580"/>
                  <a:pt x="4986" y="13593"/>
                </a:cubicBezTo>
                <a:cubicBezTo>
                  <a:pt x="4994" y="13593"/>
                  <a:pt x="5003" y="13593"/>
                  <a:pt x="5011" y="13593"/>
                </a:cubicBezTo>
              </a:path>
              <a:path w="2084" h="1638">
                <a:moveTo>
                  <a:pt x="5234" y="12874"/>
                </a:moveTo>
                <a:cubicBezTo>
                  <a:pt x="5305" y="12859"/>
                  <a:pt x="5340" y="12849"/>
                  <a:pt x="5407" y="12849"/>
                </a:cubicBezTo>
              </a:path>
              <a:path w="2084" h="1638">
                <a:moveTo>
                  <a:pt x="5184" y="13072"/>
                </a:moveTo>
                <a:cubicBezTo>
                  <a:pt x="5297" y="13098"/>
                  <a:pt x="5271" y="13109"/>
                  <a:pt x="5358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71800" y="4429080"/>
            <a:ext cx="241200" cy="411120"/>
          </a:xfrm>
          <a:custGeom>
            <a:avLst/>
            <a:gdLst/>
            <a:ahLst/>
            <a:rect l="l" t="t" r="r" b="b"/>
            <a:pathLst>
              <a:path w="670" h="1142">
                <a:moveTo>
                  <a:pt x="5755" y="12774"/>
                </a:moveTo>
                <a:cubicBezTo>
                  <a:pt x="5837" y="12774"/>
                  <a:pt x="5929" y="12790"/>
                  <a:pt x="6003" y="12750"/>
                </a:cubicBezTo>
                <a:cubicBezTo>
                  <a:pt x="6044" y="12725"/>
                  <a:pt x="6086" y="12700"/>
                  <a:pt x="6127" y="12675"/>
                </a:cubicBezTo>
              </a:path>
              <a:path w="670" h="1142">
                <a:moveTo>
                  <a:pt x="6375" y="12303"/>
                </a:moveTo>
                <a:cubicBezTo>
                  <a:pt x="6417" y="12386"/>
                  <a:pt x="6379" y="12456"/>
                  <a:pt x="6375" y="12551"/>
                </a:cubicBezTo>
                <a:cubicBezTo>
                  <a:pt x="6366" y="12791"/>
                  <a:pt x="6369" y="13037"/>
                  <a:pt x="6400" y="13271"/>
                </a:cubicBezTo>
                <a:cubicBezTo>
                  <a:pt x="6407" y="13326"/>
                  <a:pt x="6366" y="13459"/>
                  <a:pt x="6424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17840" y="4491000"/>
            <a:ext cx="162000" cy="304920"/>
          </a:xfrm>
          <a:custGeom>
            <a:avLst/>
            <a:gdLst/>
            <a:ahLst/>
            <a:rect l="l" t="t" r="r" b="b"/>
            <a:pathLst>
              <a:path w="447" h="844">
                <a:moveTo>
                  <a:pt x="7094" y="12477"/>
                </a:moveTo>
                <a:cubicBezTo>
                  <a:pt x="7110" y="12640"/>
                  <a:pt x="7119" y="12786"/>
                  <a:pt x="7119" y="12948"/>
                </a:cubicBezTo>
                <a:cubicBezTo>
                  <a:pt x="7119" y="13046"/>
                  <a:pt x="7155" y="13127"/>
                  <a:pt x="7169" y="13221"/>
                </a:cubicBezTo>
                <a:cubicBezTo>
                  <a:pt x="7176" y="13269"/>
                  <a:pt x="7183" y="13279"/>
                  <a:pt x="7193" y="13320"/>
                </a:cubicBezTo>
              </a:path>
              <a:path w="447" h="844">
                <a:moveTo>
                  <a:pt x="6995" y="12874"/>
                </a:moveTo>
                <a:cubicBezTo>
                  <a:pt x="7144" y="12874"/>
                  <a:pt x="7292" y="12874"/>
                  <a:pt x="7441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03680" y="4330800"/>
            <a:ext cx="928440" cy="465120"/>
          </a:xfrm>
          <a:custGeom>
            <a:avLst/>
            <a:gdLst/>
            <a:ahLst/>
            <a:rect l="l" t="t" r="r" b="b"/>
            <a:pathLst>
              <a:path w="2580" h="1291">
                <a:moveTo>
                  <a:pt x="7913" y="12576"/>
                </a:moveTo>
                <a:cubicBezTo>
                  <a:pt x="7876" y="12636"/>
                  <a:pt x="7856" y="12691"/>
                  <a:pt x="7813" y="12725"/>
                </a:cubicBezTo>
                <a:cubicBezTo>
                  <a:pt x="7773" y="12757"/>
                  <a:pt x="7784" y="12791"/>
                  <a:pt x="7813" y="12824"/>
                </a:cubicBezTo>
                <a:cubicBezTo>
                  <a:pt x="7844" y="12859"/>
                  <a:pt x="7917" y="12871"/>
                  <a:pt x="7962" y="12874"/>
                </a:cubicBezTo>
                <a:cubicBezTo>
                  <a:pt x="8049" y="12879"/>
                  <a:pt x="8101" y="12884"/>
                  <a:pt x="8186" y="12874"/>
                </a:cubicBezTo>
              </a:path>
              <a:path w="2580" h="1291">
                <a:moveTo>
                  <a:pt x="8310" y="12229"/>
                </a:moveTo>
                <a:cubicBezTo>
                  <a:pt x="8270" y="12424"/>
                  <a:pt x="8235" y="12579"/>
                  <a:pt x="8235" y="12774"/>
                </a:cubicBezTo>
                <a:cubicBezTo>
                  <a:pt x="8235" y="12941"/>
                  <a:pt x="8267" y="13078"/>
                  <a:pt x="8285" y="13246"/>
                </a:cubicBezTo>
                <a:cubicBezTo>
                  <a:pt x="8291" y="13303"/>
                  <a:pt x="8261" y="13328"/>
                  <a:pt x="8310" y="13295"/>
                </a:cubicBezTo>
              </a:path>
              <a:path w="2580" h="1291">
                <a:moveTo>
                  <a:pt x="8508" y="12874"/>
                </a:moveTo>
                <a:cubicBezTo>
                  <a:pt x="8508" y="13017"/>
                  <a:pt x="8523" y="13096"/>
                  <a:pt x="8533" y="13221"/>
                </a:cubicBezTo>
                <a:cubicBezTo>
                  <a:pt x="8535" y="13253"/>
                  <a:pt x="8550" y="13265"/>
                  <a:pt x="8558" y="13295"/>
                </a:cubicBezTo>
                <a:cubicBezTo>
                  <a:pt x="8600" y="13281"/>
                  <a:pt x="8604" y="13224"/>
                  <a:pt x="8607" y="13171"/>
                </a:cubicBezTo>
                <a:cubicBezTo>
                  <a:pt x="8611" y="13092"/>
                  <a:pt x="8647" y="13022"/>
                  <a:pt x="8657" y="12948"/>
                </a:cubicBezTo>
                <a:cubicBezTo>
                  <a:pt x="8667" y="12869"/>
                  <a:pt x="8674" y="12836"/>
                  <a:pt x="8731" y="12774"/>
                </a:cubicBezTo>
                <a:cubicBezTo>
                  <a:pt x="8758" y="12744"/>
                  <a:pt x="8771" y="12734"/>
                  <a:pt x="8806" y="12725"/>
                </a:cubicBezTo>
                <a:cubicBezTo>
                  <a:pt x="8837" y="12768"/>
                  <a:pt x="8854" y="12822"/>
                  <a:pt x="8880" y="12874"/>
                </a:cubicBezTo>
                <a:cubicBezTo>
                  <a:pt x="8920" y="12954"/>
                  <a:pt x="8944" y="13040"/>
                  <a:pt x="8979" y="13122"/>
                </a:cubicBezTo>
                <a:cubicBezTo>
                  <a:pt x="8999" y="13169"/>
                  <a:pt x="9032" y="13269"/>
                  <a:pt x="9079" y="13295"/>
                </a:cubicBezTo>
                <a:cubicBezTo>
                  <a:pt x="9087" y="13295"/>
                  <a:pt x="9095" y="13295"/>
                  <a:pt x="9103" y="13295"/>
                </a:cubicBezTo>
              </a:path>
              <a:path w="2580" h="1291">
                <a:moveTo>
                  <a:pt x="9252" y="12725"/>
                </a:moveTo>
                <a:cubicBezTo>
                  <a:pt x="9342" y="12699"/>
                  <a:pt x="9414" y="12694"/>
                  <a:pt x="9500" y="12675"/>
                </a:cubicBezTo>
                <a:cubicBezTo>
                  <a:pt x="9525" y="12667"/>
                  <a:pt x="9550" y="12658"/>
                  <a:pt x="9575" y="12650"/>
                </a:cubicBezTo>
              </a:path>
              <a:path w="2580" h="1291">
                <a:moveTo>
                  <a:pt x="9996" y="12427"/>
                </a:moveTo>
                <a:cubicBezTo>
                  <a:pt x="9972" y="12461"/>
                  <a:pt x="9890" y="12535"/>
                  <a:pt x="9872" y="12576"/>
                </a:cubicBezTo>
                <a:cubicBezTo>
                  <a:pt x="9867" y="12587"/>
                  <a:pt x="9827" y="12659"/>
                  <a:pt x="9847" y="12675"/>
                </a:cubicBezTo>
                <a:cubicBezTo>
                  <a:pt x="9858" y="12684"/>
                  <a:pt x="9895" y="12742"/>
                  <a:pt x="9922" y="12750"/>
                </a:cubicBezTo>
                <a:cubicBezTo>
                  <a:pt x="9990" y="12770"/>
                  <a:pt x="10055" y="12779"/>
                  <a:pt x="10120" y="12799"/>
                </a:cubicBezTo>
                <a:cubicBezTo>
                  <a:pt x="10186" y="12832"/>
                  <a:pt x="10219" y="12832"/>
                  <a:pt x="10269" y="12774"/>
                </a:cubicBezTo>
              </a:path>
              <a:path w="2580" h="1291">
                <a:moveTo>
                  <a:pt x="10344" y="12030"/>
                </a:moveTo>
                <a:cubicBezTo>
                  <a:pt x="10311" y="12177"/>
                  <a:pt x="10272" y="12324"/>
                  <a:pt x="10294" y="12477"/>
                </a:cubicBezTo>
                <a:cubicBezTo>
                  <a:pt x="10316" y="12630"/>
                  <a:pt x="10359" y="12793"/>
                  <a:pt x="10368" y="12948"/>
                </a:cubicBezTo>
                <a:cubicBezTo>
                  <a:pt x="10368" y="13130"/>
                  <a:pt x="10368" y="13163"/>
                  <a:pt x="10368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4840" y="4973760"/>
            <a:ext cx="1670040" cy="608040"/>
          </a:xfrm>
          <a:custGeom>
            <a:avLst/>
            <a:gdLst/>
            <a:ahLst/>
            <a:rect l="l" t="t" r="r" b="b"/>
            <a:pathLst>
              <a:path w="4639" h="1688">
                <a:moveTo>
                  <a:pt x="4043" y="14089"/>
                </a:moveTo>
                <a:cubicBezTo>
                  <a:pt x="4006" y="14199"/>
                  <a:pt x="3996" y="14301"/>
                  <a:pt x="3969" y="14412"/>
                </a:cubicBezTo>
                <a:cubicBezTo>
                  <a:pt x="3941" y="14527"/>
                  <a:pt x="3890" y="14643"/>
                  <a:pt x="3870" y="14759"/>
                </a:cubicBezTo>
                <a:cubicBezTo>
                  <a:pt x="3861" y="14811"/>
                  <a:pt x="3849" y="14888"/>
                  <a:pt x="3820" y="14932"/>
                </a:cubicBezTo>
                <a:cubicBezTo>
                  <a:pt x="3820" y="14924"/>
                  <a:pt x="3820" y="14916"/>
                  <a:pt x="3820" y="14908"/>
                </a:cubicBezTo>
                <a:cubicBezTo>
                  <a:pt x="3826" y="14841"/>
                  <a:pt x="3830" y="14774"/>
                  <a:pt x="3845" y="14709"/>
                </a:cubicBezTo>
                <a:cubicBezTo>
                  <a:pt x="3876" y="14578"/>
                  <a:pt x="3929" y="14440"/>
                  <a:pt x="3969" y="14312"/>
                </a:cubicBezTo>
                <a:cubicBezTo>
                  <a:pt x="4002" y="14206"/>
                  <a:pt x="4048" y="14114"/>
                  <a:pt x="4093" y="14015"/>
                </a:cubicBezTo>
                <a:cubicBezTo>
                  <a:pt x="4128" y="13938"/>
                  <a:pt x="4183" y="13891"/>
                  <a:pt x="4242" y="13841"/>
                </a:cubicBezTo>
                <a:cubicBezTo>
                  <a:pt x="4291" y="13799"/>
                  <a:pt x="4298" y="13823"/>
                  <a:pt x="4341" y="13866"/>
                </a:cubicBezTo>
                <a:cubicBezTo>
                  <a:pt x="4394" y="13919"/>
                  <a:pt x="4375" y="14020"/>
                  <a:pt x="4390" y="14089"/>
                </a:cubicBezTo>
                <a:cubicBezTo>
                  <a:pt x="4415" y="14201"/>
                  <a:pt x="4450" y="14320"/>
                  <a:pt x="4465" y="14436"/>
                </a:cubicBezTo>
                <a:cubicBezTo>
                  <a:pt x="4481" y="14556"/>
                  <a:pt x="4501" y="14667"/>
                  <a:pt x="4539" y="14784"/>
                </a:cubicBezTo>
                <a:cubicBezTo>
                  <a:pt x="4544" y="14799"/>
                  <a:pt x="4622" y="14947"/>
                  <a:pt x="4614" y="14957"/>
                </a:cubicBezTo>
                <a:cubicBezTo>
                  <a:pt x="4589" y="14957"/>
                  <a:pt x="4581" y="14957"/>
                  <a:pt x="4564" y="14957"/>
                </a:cubicBezTo>
              </a:path>
              <a:path w="4639" h="1688">
                <a:moveTo>
                  <a:pt x="3919" y="14610"/>
                </a:moveTo>
                <a:cubicBezTo>
                  <a:pt x="4030" y="14636"/>
                  <a:pt x="4129" y="14680"/>
                  <a:pt x="4242" y="14684"/>
                </a:cubicBezTo>
                <a:cubicBezTo>
                  <a:pt x="4267" y="14684"/>
                  <a:pt x="4291" y="14684"/>
                  <a:pt x="4316" y="14684"/>
                </a:cubicBezTo>
              </a:path>
              <a:path w="4639" h="1688">
                <a:moveTo>
                  <a:pt x="4688" y="14833"/>
                </a:moveTo>
                <a:cubicBezTo>
                  <a:pt x="4688" y="14990"/>
                  <a:pt x="4688" y="15147"/>
                  <a:pt x="4688" y="15304"/>
                </a:cubicBezTo>
                <a:cubicBezTo>
                  <a:pt x="4688" y="15371"/>
                  <a:pt x="4705" y="15222"/>
                  <a:pt x="4713" y="15156"/>
                </a:cubicBezTo>
                <a:cubicBezTo>
                  <a:pt x="4721" y="15086"/>
                  <a:pt x="4751" y="15025"/>
                  <a:pt x="4762" y="14957"/>
                </a:cubicBezTo>
                <a:cubicBezTo>
                  <a:pt x="4773" y="14886"/>
                  <a:pt x="4785" y="14859"/>
                  <a:pt x="4837" y="14808"/>
                </a:cubicBezTo>
                <a:cubicBezTo>
                  <a:pt x="4850" y="14796"/>
                  <a:pt x="4915" y="14761"/>
                  <a:pt x="4936" y="14784"/>
                </a:cubicBezTo>
                <a:cubicBezTo>
                  <a:pt x="4995" y="14848"/>
                  <a:pt x="4990" y="14906"/>
                  <a:pt x="5011" y="14982"/>
                </a:cubicBezTo>
                <a:cubicBezTo>
                  <a:pt x="5031" y="15054"/>
                  <a:pt x="5042" y="15139"/>
                  <a:pt x="5085" y="15205"/>
                </a:cubicBezTo>
                <a:cubicBezTo>
                  <a:pt x="5131" y="15277"/>
                  <a:pt x="5133" y="15307"/>
                  <a:pt x="5184" y="15230"/>
                </a:cubicBezTo>
              </a:path>
              <a:path w="4639" h="1688">
                <a:moveTo>
                  <a:pt x="5358" y="14486"/>
                </a:moveTo>
                <a:cubicBezTo>
                  <a:pt x="5456" y="14492"/>
                  <a:pt x="5528" y="14489"/>
                  <a:pt x="5606" y="14536"/>
                </a:cubicBezTo>
              </a:path>
              <a:path w="4639" h="1688">
                <a:moveTo>
                  <a:pt x="5407" y="14808"/>
                </a:moveTo>
                <a:cubicBezTo>
                  <a:pt x="5516" y="14808"/>
                  <a:pt x="5560" y="14807"/>
                  <a:pt x="5655" y="14759"/>
                </a:cubicBezTo>
                <a:cubicBezTo>
                  <a:pt x="5672" y="14751"/>
                  <a:pt x="5688" y="14742"/>
                  <a:pt x="5705" y="14734"/>
                </a:cubicBezTo>
              </a:path>
              <a:path w="4639" h="1688">
                <a:moveTo>
                  <a:pt x="6127" y="14263"/>
                </a:moveTo>
                <a:cubicBezTo>
                  <a:pt x="6103" y="14326"/>
                  <a:pt x="6073" y="14373"/>
                  <a:pt x="6052" y="14436"/>
                </a:cubicBezTo>
                <a:cubicBezTo>
                  <a:pt x="6041" y="14468"/>
                  <a:pt x="6043" y="14533"/>
                  <a:pt x="6028" y="14560"/>
                </a:cubicBezTo>
                <a:cubicBezTo>
                  <a:pt x="6007" y="14598"/>
                  <a:pt x="5979" y="14619"/>
                  <a:pt x="6028" y="14635"/>
                </a:cubicBezTo>
                <a:cubicBezTo>
                  <a:pt x="6093" y="14657"/>
                  <a:pt x="6158" y="14681"/>
                  <a:pt x="6226" y="14684"/>
                </a:cubicBezTo>
                <a:cubicBezTo>
                  <a:pt x="6300" y="14687"/>
                  <a:pt x="6334" y="14684"/>
                  <a:pt x="6400" y="14660"/>
                </a:cubicBezTo>
              </a:path>
              <a:path w="4639" h="1688">
                <a:moveTo>
                  <a:pt x="6499" y="14015"/>
                </a:moveTo>
                <a:cubicBezTo>
                  <a:pt x="6442" y="14178"/>
                  <a:pt x="6446" y="14296"/>
                  <a:pt x="6424" y="14461"/>
                </a:cubicBezTo>
                <a:cubicBezTo>
                  <a:pt x="6408" y="14582"/>
                  <a:pt x="6381" y="14709"/>
                  <a:pt x="6400" y="14833"/>
                </a:cubicBezTo>
                <a:cubicBezTo>
                  <a:pt x="6413" y="14917"/>
                  <a:pt x="6427" y="15008"/>
                  <a:pt x="6449" y="15081"/>
                </a:cubicBezTo>
                <a:cubicBezTo>
                  <a:pt x="6449" y="15106"/>
                  <a:pt x="6449" y="15114"/>
                  <a:pt x="6449" y="15081"/>
                </a:cubicBezTo>
              </a:path>
              <a:path w="4639" h="1688">
                <a:moveTo>
                  <a:pt x="6697" y="14635"/>
                </a:moveTo>
                <a:cubicBezTo>
                  <a:pt x="6697" y="14717"/>
                  <a:pt x="6708" y="14864"/>
                  <a:pt x="6697" y="14932"/>
                </a:cubicBezTo>
                <a:cubicBezTo>
                  <a:pt x="6675" y="14976"/>
                  <a:pt x="6662" y="14988"/>
                  <a:pt x="6697" y="15007"/>
                </a:cubicBezTo>
                <a:cubicBezTo>
                  <a:pt x="6755" y="15118"/>
                  <a:pt x="6707" y="14912"/>
                  <a:pt x="6722" y="14858"/>
                </a:cubicBezTo>
                <a:cubicBezTo>
                  <a:pt x="6742" y="14785"/>
                  <a:pt x="6749" y="14706"/>
                  <a:pt x="6772" y="14635"/>
                </a:cubicBezTo>
                <a:cubicBezTo>
                  <a:pt x="6786" y="14591"/>
                  <a:pt x="6824" y="14507"/>
                  <a:pt x="6871" y="14486"/>
                </a:cubicBezTo>
                <a:cubicBezTo>
                  <a:pt x="6879" y="14486"/>
                  <a:pt x="6888" y="14486"/>
                  <a:pt x="6896" y="14486"/>
                </a:cubicBezTo>
                <a:cubicBezTo>
                  <a:pt x="6942" y="14548"/>
                  <a:pt x="6979" y="14625"/>
                  <a:pt x="6995" y="14709"/>
                </a:cubicBezTo>
                <a:cubicBezTo>
                  <a:pt x="7014" y="14806"/>
                  <a:pt x="7055" y="14909"/>
                  <a:pt x="7069" y="15007"/>
                </a:cubicBezTo>
                <a:cubicBezTo>
                  <a:pt x="7076" y="15059"/>
                  <a:pt x="7088" y="15188"/>
                  <a:pt x="7119" y="15230"/>
                </a:cubicBezTo>
                <a:cubicBezTo>
                  <a:pt x="7144" y="15230"/>
                  <a:pt x="7152" y="15230"/>
                  <a:pt x="7169" y="15230"/>
                </a:cubicBezTo>
              </a:path>
              <a:path w="4639" h="1688">
                <a:moveTo>
                  <a:pt x="7293" y="14635"/>
                </a:moveTo>
                <a:cubicBezTo>
                  <a:pt x="7367" y="14635"/>
                  <a:pt x="7442" y="14635"/>
                  <a:pt x="7516" y="14635"/>
                </a:cubicBezTo>
              </a:path>
              <a:path w="4639" h="1688">
                <a:moveTo>
                  <a:pt x="7987" y="14163"/>
                </a:moveTo>
                <a:cubicBezTo>
                  <a:pt x="8071" y="14152"/>
                  <a:pt x="8245" y="14163"/>
                  <a:pt x="8334" y="14139"/>
                </a:cubicBezTo>
                <a:cubicBezTo>
                  <a:pt x="8375" y="14119"/>
                  <a:pt x="8381" y="14110"/>
                  <a:pt x="8409" y="14114"/>
                </a:cubicBezTo>
              </a:path>
              <a:path w="4639" h="1688">
                <a:moveTo>
                  <a:pt x="8062" y="14139"/>
                </a:moveTo>
                <a:cubicBezTo>
                  <a:pt x="7984" y="14236"/>
                  <a:pt x="7890" y="14334"/>
                  <a:pt x="7863" y="14461"/>
                </a:cubicBezTo>
                <a:cubicBezTo>
                  <a:pt x="7854" y="14504"/>
                  <a:pt x="7863" y="14530"/>
                  <a:pt x="7888" y="14560"/>
                </a:cubicBezTo>
                <a:cubicBezTo>
                  <a:pt x="7933" y="14616"/>
                  <a:pt x="7959" y="14567"/>
                  <a:pt x="8012" y="14560"/>
                </a:cubicBezTo>
                <a:cubicBezTo>
                  <a:pt x="8078" y="14551"/>
                  <a:pt x="8214" y="14543"/>
                  <a:pt x="8260" y="14585"/>
                </a:cubicBezTo>
                <a:cubicBezTo>
                  <a:pt x="8332" y="14650"/>
                  <a:pt x="8418" y="14783"/>
                  <a:pt x="8434" y="14883"/>
                </a:cubicBezTo>
                <a:cubicBezTo>
                  <a:pt x="8452" y="14996"/>
                  <a:pt x="8457" y="15117"/>
                  <a:pt x="8434" y="15230"/>
                </a:cubicBezTo>
                <a:cubicBezTo>
                  <a:pt x="8418" y="15311"/>
                  <a:pt x="8352" y="15427"/>
                  <a:pt x="8285" y="15478"/>
                </a:cubicBezTo>
                <a:cubicBezTo>
                  <a:pt x="8211" y="15535"/>
                  <a:pt x="8091" y="15502"/>
                  <a:pt x="8012" y="15478"/>
                </a:cubicBezTo>
                <a:cubicBezTo>
                  <a:pt x="7927" y="15449"/>
                  <a:pt x="7893" y="15436"/>
                  <a:pt x="7838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90960" y="3027240"/>
            <a:ext cx="1135080" cy="411120"/>
          </a:xfrm>
          <a:custGeom>
            <a:avLst/>
            <a:gdLst/>
            <a:ahLst/>
            <a:rect l="l" t="t" r="r" b="b"/>
            <a:pathLst>
              <a:path w="3151" h="1142">
                <a:moveTo>
                  <a:pt x="14089" y="8657"/>
                </a:moveTo>
                <a:cubicBezTo>
                  <a:pt x="13923" y="8581"/>
                  <a:pt x="13794" y="8526"/>
                  <a:pt x="13618" y="8483"/>
                </a:cubicBezTo>
                <a:cubicBezTo>
                  <a:pt x="13423" y="8435"/>
                  <a:pt x="13198" y="8403"/>
                  <a:pt x="12998" y="8409"/>
                </a:cubicBezTo>
                <a:cubicBezTo>
                  <a:pt x="12834" y="8414"/>
                  <a:pt x="12663" y="8449"/>
                  <a:pt x="12502" y="8483"/>
                </a:cubicBezTo>
                <a:cubicBezTo>
                  <a:pt x="12345" y="8516"/>
                  <a:pt x="12179" y="8568"/>
                  <a:pt x="12030" y="8632"/>
                </a:cubicBezTo>
                <a:cubicBezTo>
                  <a:pt x="11911" y="8683"/>
                  <a:pt x="11817" y="8783"/>
                  <a:pt x="11708" y="8855"/>
                </a:cubicBezTo>
                <a:cubicBezTo>
                  <a:pt x="11627" y="8909"/>
                  <a:pt x="11546" y="8977"/>
                  <a:pt x="11485" y="9054"/>
                </a:cubicBezTo>
                <a:cubicBezTo>
                  <a:pt x="11445" y="9105"/>
                  <a:pt x="11415" y="9169"/>
                  <a:pt x="11385" y="9227"/>
                </a:cubicBezTo>
                <a:cubicBezTo>
                  <a:pt x="11368" y="9259"/>
                  <a:pt x="11372" y="9306"/>
                  <a:pt x="11336" y="9302"/>
                </a:cubicBezTo>
                <a:cubicBezTo>
                  <a:pt x="11336" y="9274"/>
                  <a:pt x="11334" y="9263"/>
                  <a:pt x="11311" y="9252"/>
                </a:cubicBezTo>
              </a:path>
              <a:path w="3151" h="1142">
                <a:moveTo>
                  <a:pt x="11187" y="8954"/>
                </a:moveTo>
                <a:cubicBezTo>
                  <a:pt x="11176" y="8998"/>
                  <a:pt x="11155" y="9031"/>
                  <a:pt x="11137" y="9079"/>
                </a:cubicBezTo>
                <a:cubicBezTo>
                  <a:pt x="11111" y="9150"/>
                  <a:pt x="11093" y="9229"/>
                  <a:pt x="11088" y="9302"/>
                </a:cubicBezTo>
                <a:cubicBezTo>
                  <a:pt x="11085" y="9348"/>
                  <a:pt x="11108" y="9360"/>
                  <a:pt x="11112" y="9401"/>
                </a:cubicBezTo>
                <a:cubicBezTo>
                  <a:pt x="11112" y="9409"/>
                  <a:pt x="11112" y="9418"/>
                  <a:pt x="11112" y="9426"/>
                </a:cubicBezTo>
                <a:cubicBezTo>
                  <a:pt x="11168" y="9426"/>
                  <a:pt x="11146" y="9404"/>
                  <a:pt x="11187" y="9401"/>
                </a:cubicBezTo>
                <a:cubicBezTo>
                  <a:pt x="11254" y="9396"/>
                  <a:pt x="11314" y="9426"/>
                  <a:pt x="11385" y="9426"/>
                </a:cubicBezTo>
                <a:cubicBezTo>
                  <a:pt x="11480" y="9426"/>
                  <a:pt x="11562" y="9451"/>
                  <a:pt x="11658" y="9451"/>
                </a:cubicBezTo>
                <a:cubicBezTo>
                  <a:pt x="11724" y="9451"/>
                  <a:pt x="11791" y="9451"/>
                  <a:pt x="11857" y="9451"/>
                </a:cubicBezTo>
              </a:path>
              <a:path w="3151" h="1142">
                <a:moveTo>
                  <a:pt x="14238" y="9004"/>
                </a:moveTo>
                <a:cubicBezTo>
                  <a:pt x="14174" y="8963"/>
                  <a:pt x="14106" y="8941"/>
                  <a:pt x="14039" y="8905"/>
                </a:cubicBezTo>
                <a:cubicBezTo>
                  <a:pt x="13926" y="8844"/>
                  <a:pt x="13821" y="8819"/>
                  <a:pt x="13692" y="8806"/>
                </a:cubicBezTo>
                <a:cubicBezTo>
                  <a:pt x="13569" y="8794"/>
                  <a:pt x="13441" y="8843"/>
                  <a:pt x="13320" y="8855"/>
                </a:cubicBezTo>
                <a:cubicBezTo>
                  <a:pt x="13156" y="8871"/>
                  <a:pt x="13028" y="8911"/>
                  <a:pt x="12874" y="8979"/>
                </a:cubicBezTo>
                <a:cubicBezTo>
                  <a:pt x="12774" y="9023"/>
                  <a:pt x="12604" y="9075"/>
                  <a:pt x="12526" y="9153"/>
                </a:cubicBezTo>
                <a:cubicBezTo>
                  <a:pt x="12457" y="9222"/>
                  <a:pt x="12411" y="9317"/>
                  <a:pt x="12328" y="9376"/>
                </a:cubicBezTo>
                <a:cubicBezTo>
                  <a:pt x="12277" y="9412"/>
                  <a:pt x="12247" y="9437"/>
                  <a:pt x="12204" y="9475"/>
                </a:cubicBezTo>
                <a:cubicBezTo>
                  <a:pt x="12169" y="9475"/>
                  <a:pt x="12156" y="9484"/>
                  <a:pt x="12154" y="9525"/>
                </a:cubicBezTo>
                <a:cubicBezTo>
                  <a:pt x="12154" y="9492"/>
                  <a:pt x="12154" y="9459"/>
                  <a:pt x="12154" y="9426"/>
                </a:cubicBezTo>
              </a:path>
              <a:path w="3151" h="1142">
                <a:moveTo>
                  <a:pt x="12105" y="9153"/>
                </a:moveTo>
                <a:cubicBezTo>
                  <a:pt x="12105" y="9218"/>
                  <a:pt x="12118" y="9272"/>
                  <a:pt x="12129" y="9327"/>
                </a:cubicBezTo>
                <a:cubicBezTo>
                  <a:pt x="12143" y="9401"/>
                  <a:pt x="12135" y="9480"/>
                  <a:pt x="12154" y="9525"/>
                </a:cubicBezTo>
                <a:cubicBezTo>
                  <a:pt x="12154" y="9550"/>
                  <a:pt x="12154" y="9558"/>
                  <a:pt x="12179" y="9550"/>
                </a:cubicBezTo>
                <a:cubicBezTo>
                  <a:pt x="12218" y="9521"/>
                  <a:pt x="12261" y="9494"/>
                  <a:pt x="12303" y="9475"/>
                </a:cubicBezTo>
                <a:cubicBezTo>
                  <a:pt x="12395" y="9433"/>
                  <a:pt x="12525" y="9430"/>
                  <a:pt x="12626" y="9426"/>
                </a:cubicBezTo>
                <a:cubicBezTo>
                  <a:pt x="12679" y="9424"/>
                  <a:pt x="12809" y="9405"/>
                  <a:pt x="12824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73080" y="4929120"/>
            <a:ext cx="2367000" cy="812880"/>
          </a:xfrm>
          <a:custGeom>
            <a:avLst/>
            <a:gdLst/>
            <a:ahLst/>
            <a:rect l="l" t="t" r="r" b="b"/>
            <a:pathLst>
              <a:path w="6574" h="2258">
                <a:moveTo>
                  <a:pt x="3473" y="13841"/>
                </a:moveTo>
                <a:cubicBezTo>
                  <a:pt x="3473" y="14058"/>
                  <a:pt x="3458" y="14272"/>
                  <a:pt x="3448" y="14486"/>
                </a:cubicBezTo>
                <a:cubicBezTo>
                  <a:pt x="3441" y="14654"/>
                  <a:pt x="3440" y="14816"/>
                  <a:pt x="3423" y="14982"/>
                </a:cubicBezTo>
                <a:cubicBezTo>
                  <a:pt x="3410" y="15112"/>
                  <a:pt x="3377" y="15236"/>
                  <a:pt x="3349" y="15354"/>
                </a:cubicBezTo>
                <a:cubicBezTo>
                  <a:pt x="3313" y="15233"/>
                  <a:pt x="3253" y="15024"/>
                  <a:pt x="3225" y="14858"/>
                </a:cubicBezTo>
                <a:cubicBezTo>
                  <a:pt x="3198" y="14695"/>
                  <a:pt x="3212" y="14549"/>
                  <a:pt x="3225" y="14387"/>
                </a:cubicBezTo>
                <a:cubicBezTo>
                  <a:pt x="3239" y="14220"/>
                  <a:pt x="3249" y="13987"/>
                  <a:pt x="3349" y="13841"/>
                </a:cubicBezTo>
                <a:cubicBezTo>
                  <a:pt x="3394" y="13775"/>
                  <a:pt x="3443" y="13717"/>
                  <a:pt x="3522" y="13692"/>
                </a:cubicBezTo>
                <a:cubicBezTo>
                  <a:pt x="3626" y="13658"/>
                  <a:pt x="3790" y="13706"/>
                  <a:pt x="3894" y="13717"/>
                </a:cubicBezTo>
                <a:cubicBezTo>
                  <a:pt x="4068" y="13735"/>
                  <a:pt x="4241" y="13751"/>
                  <a:pt x="4415" y="13767"/>
                </a:cubicBezTo>
                <a:cubicBezTo>
                  <a:pt x="4648" y="13789"/>
                  <a:pt x="4875" y="13791"/>
                  <a:pt x="5110" y="13791"/>
                </a:cubicBezTo>
                <a:cubicBezTo>
                  <a:pt x="5516" y="13791"/>
                  <a:pt x="5920" y="13772"/>
                  <a:pt x="6325" y="13767"/>
                </a:cubicBezTo>
                <a:cubicBezTo>
                  <a:pt x="6600" y="13764"/>
                  <a:pt x="6870" y="13746"/>
                  <a:pt x="7144" y="13742"/>
                </a:cubicBezTo>
                <a:cubicBezTo>
                  <a:pt x="7387" y="13738"/>
                  <a:pt x="7623" y="13754"/>
                  <a:pt x="7863" y="13767"/>
                </a:cubicBezTo>
                <a:cubicBezTo>
                  <a:pt x="8061" y="13777"/>
                  <a:pt x="8238" y="13779"/>
                  <a:pt x="8434" y="13816"/>
                </a:cubicBezTo>
                <a:cubicBezTo>
                  <a:pt x="8609" y="13849"/>
                  <a:pt x="8809" y="13879"/>
                  <a:pt x="8954" y="13990"/>
                </a:cubicBezTo>
                <a:cubicBezTo>
                  <a:pt x="9031" y="14049"/>
                  <a:pt x="9067" y="14114"/>
                  <a:pt x="9103" y="14188"/>
                </a:cubicBezTo>
                <a:cubicBezTo>
                  <a:pt x="9147" y="14277"/>
                  <a:pt x="9144" y="14315"/>
                  <a:pt x="9153" y="14412"/>
                </a:cubicBezTo>
                <a:cubicBezTo>
                  <a:pt x="9171" y="14611"/>
                  <a:pt x="9154" y="14810"/>
                  <a:pt x="9178" y="15007"/>
                </a:cubicBezTo>
                <a:cubicBezTo>
                  <a:pt x="9194" y="15140"/>
                  <a:pt x="9202" y="15272"/>
                  <a:pt x="9227" y="15404"/>
                </a:cubicBezTo>
                <a:cubicBezTo>
                  <a:pt x="9253" y="15544"/>
                  <a:pt x="9271" y="15660"/>
                  <a:pt x="9277" y="15801"/>
                </a:cubicBezTo>
                <a:cubicBezTo>
                  <a:pt x="8885" y="15801"/>
                  <a:pt x="8497" y="15824"/>
                  <a:pt x="8111" y="15875"/>
                </a:cubicBezTo>
                <a:cubicBezTo>
                  <a:pt x="7905" y="15903"/>
                  <a:pt x="7699" y="15922"/>
                  <a:pt x="7491" y="15925"/>
                </a:cubicBezTo>
                <a:cubicBezTo>
                  <a:pt x="7244" y="15929"/>
                  <a:pt x="6992" y="15961"/>
                  <a:pt x="6747" y="15949"/>
                </a:cubicBezTo>
                <a:cubicBezTo>
                  <a:pt x="6448" y="15934"/>
                  <a:pt x="6152" y="15908"/>
                  <a:pt x="5854" y="15875"/>
                </a:cubicBezTo>
                <a:cubicBezTo>
                  <a:pt x="5282" y="15811"/>
                  <a:pt x="4710" y="15760"/>
                  <a:pt x="4142" y="15677"/>
                </a:cubicBezTo>
                <a:cubicBezTo>
                  <a:pt x="3891" y="15640"/>
                  <a:pt x="3626" y="15630"/>
                  <a:pt x="3373" y="15627"/>
                </a:cubicBezTo>
                <a:cubicBezTo>
                  <a:pt x="3210" y="15625"/>
                  <a:pt x="3036" y="15616"/>
                  <a:pt x="2877" y="15652"/>
                </a:cubicBezTo>
                <a:cubicBezTo>
                  <a:pt x="2823" y="15664"/>
                  <a:pt x="2778" y="15689"/>
                  <a:pt x="2729" y="15701"/>
                </a:cubicBezTo>
                <a:cubicBezTo>
                  <a:pt x="2667" y="15716"/>
                  <a:pt x="2709" y="15700"/>
                  <a:pt x="2704" y="157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d the missing arithmetic term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3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13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67240" y="2340000"/>
            <a:ext cx="1089000" cy="749160"/>
          </a:xfrm>
          <a:custGeom>
            <a:avLst/>
            <a:gdLst/>
            <a:ahLst/>
            <a:rect l="l" t="t" r="r" b="b"/>
            <a:pathLst>
              <a:path w="3027" h="2084">
                <a:moveTo>
                  <a:pt x="16222" y="7243"/>
                </a:moveTo>
                <a:cubicBezTo>
                  <a:pt x="16213" y="7178"/>
                  <a:pt x="16197" y="7157"/>
                  <a:pt x="16123" y="7144"/>
                </a:cubicBezTo>
                <a:cubicBezTo>
                  <a:pt x="16014" y="7125"/>
                  <a:pt x="15905" y="7158"/>
                  <a:pt x="15801" y="7169"/>
                </a:cubicBezTo>
                <a:cubicBezTo>
                  <a:pt x="15713" y="7178"/>
                  <a:pt x="15605" y="7191"/>
                  <a:pt x="15528" y="7243"/>
                </a:cubicBezTo>
                <a:cubicBezTo>
                  <a:pt x="15473" y="7280"/>
                  <a:pt x="15417" y="7347"/>
                  <a:pt x="15429" y="7417"/>
                </a:cubicBezTo>
                <a:cubicBezTo>
                  <a:pt x="15447" y="7525"/>
                  <a:pt x="15546" y="7623"/>
                  <a:pt x="15627" y="7689"/>
                </a:cubicBezTo>
                <a:cubicBezTo>
                  <a:pt x="15733" y="7775"/>
                  <a:pt x="15799" y="7848"/>
                  <a:pt x="15875" y="7962"/>
                </a:cubicBezTo>
                <a:cubicBezTo>
                  <a:pt x="15934" y="8050"/>
                  <a:pt x="16009" y="8154"/>
                  <a:pt x="15949" y="8260"/>
                </a:cubicBezTo>
                <a:cubicBezTo>
                  <a:pt x="15912" y="8326"/>
                  <a:pt x="15845" y="8355"/>
                  <a:pt x="15776" y="8359"/>
                </a:cubicBezTo>
                <a:cubicBezTo>
                  <a:pt x="15702" y="8363"/>
                  <a:pt x="15678" y="8360"/>
                  <a:pt x="15627" y="8310"/>
                </a:cubicBezTo>
                <a:cubicBezTo>
                  <a:pt x="15576" y="8260"/>
                  <a:pt x="15558" y="8214"/>
                  <a:pt x="15577" y="8136"/>
                </a:cubicBezTo>
                <a:cubicBezTo>
                  <a:pt x="15601" y="8038"/>
                  <a:pt x="15670" y="7969"/>
                  <a:pt x="15726" y="7888"/>
                </a:cubicBezTo>
                <a:cubicBezTo>
                  <a:pt x="15783" y="7805"/>
                  <a:pt x="15845" y="7722"/>
                  <a:pt x="15900" y="7640"/>
                </a:cubicBezTo>
                <a:cubicBezTo>
                  <a:pt x="15943" y="7577"/>
                  <a:pt x="15952" y="7502"/>
                  <a:pt x="15999" y="7441"/>
                </a:cubicBezTo>
                <a:cubicBezTo>
                  <a:pt x="16035" y="7407"/>
                  <a:pt x="16048" y="7385"/>
                  <a:pt x="16049" y="7342"/>
                </a:cubicBezTo>
              </a:path>
              <a:path w="3027" h="2084">
                <a:moveTo>
                  <a:pt x="16346" y="7094"/>
                </a:moveTo>
                <a:cubicBezTo>
                  <a:pt x="16490" y="7034"/>
                  <a:pt x="16555" y="6983"/>
                  <a:pt x="16694" y="7020"/>
                </a:cubicBezTo>
                <a:cubicBezTo>
                  <a:pt x="16763" y="7038"/>
                  <a:pt x="16823" y="7053"/>
                  <a:pt x="16842" y="7119"/>
                </a:cubicBezTo>
                <a:cubicBezTo>
                  <a:pt x="16869" y="7211"/>
                  <a:pt x="16799" y="7278"/>
                  <a:pt x="16743" y="7342"/>
                </a:cubicBezTo>
                <a:cubicBezTo>
                  <a:pt x="16686" y="7408"/>
                  <a:pt x="16621" y="7454"/>
                  <a:pt x="16570" y="7516"/>
                </a:cubicBezTo>
                <a:cubicBezTo>
                  <a:pt x="16555" y="7534"/>
                  <a:pt x="16497" y="7589"/>
                  <a:pt x="16495" y="7590"/>
                </a:cubicBezTo>
                <a:cubicBezTo>
                  <a:pt x="16487" y="7590"/>
                  <a:pt x="16478" y="7590"/>
                  <a:pt x="16470" y="7590"/>
                </a:cubicBezTo>
                <a:cubicBezTo>
                  <a:pt x="16515" y="7612"/>
                  <a:pt x="16459" y="7599"/>
                  <a:pt x="16520" y="7590"/>
                </a:cubicBezTo>
                <a:cubicBezTo>
                  <a:pt x="16584" y="7581"/>
                  <a:pt x="16596" y="7605"/>
                  <a:pt x="16644" y="7615"/>
                </a:cubicBezTo>
                <a:cubicBezTo>
                  <a:pt x="16716" y="7630"/>
                  <a:pt x="16752" y="7644"/>
                  <a:pt x="16793" y="7714"/>
                </a:cubicBezTo>
                <a:cubicBezTo>
                  <a:pt x="16846" y="7803"/>
                  <a:pt x="16887" y="7859"/>
                  <a:pt x="16892" y="7962"/>
                </a:cubicBezTo>
                <a:cubicBezTo>
                  <a:pt x="16897" y="8057"/>
                  <a:pt x="16883" y="8090"/>
                  <a:pt x="16818" y="8161"/>
                </a:cubicBezTo>
                <a:cubicBezTo>
                  <a:pt x="16754" y="8231"/>
                  <a:pt x="16634" y="8250"/>
                  <a:pt x="16545" y="8260"/>
                </a:cubicBezTo>
                <a:cubicBezTo>
                  <a:pt x="16466" y="8269"/>
                  <a:pt x="16321" y="8303"/>
                  <a:pt x="16247" y="8285"/>
                </a:cubicBezTo>
                <a:cubicBezTo>
                  <a:pt x="16213" y="8277"/>
                  <a:pt x="16162" y="8250"/>
                  <a:pt x="16123" y="8235"/>
                </a:cubicBezTo>
              </a:path>
              <a:path w="3027" h="2084">
                <a:moveTo>
                  <a:pt x="15131" y="6896"/>
                </a:moveTo>
                <a:cubicBezTo>
                  <a:pt x="15059" y="7070"/>
                  <a:pt x="15036" y="7200"/>
                  <a:pt x="15032" y="7392"/>
                </a:cubicBezTo>
                <a:cubicBezTo>
                  <a:pt x="15028" y="7568"/>
                  <a:pt x="15052" y="7738"/>
                  <a:pt x="15056" y="7913"/>
                </a:cubicBezTo>
                <a:cubicBezTo>
                  <a:pt x="15059" y="8039"/>
                  <a:pt x="15103" y="8299"/>
                  <a:pt x="15032" y="8409"/>
                </a:cubicBezTo>
                <a:cubicBezTo>
                  <a:pt x="15009" y="8445"/>
                  <a:pt x="14961" y="8475"/>
                  <a:pt x="14932" y="8508"/>
                </a:cubicBezTo>
                <a:cubicBezTo>
                  <a:pt x="14918" y="8415"/>
                  <a:pt x="14910" y="8334"/>
                  <a:pt x="14908" y="8235"/>
                </a:cubicBezTo>
                <a:cubicBezTo>
                  <a:pt x="14904" y="8074"/>
                  <a:pt x="14923" y="7922"/>
                  <a:pt x="14932" y="7764"/>
                </a:cubicBezTo>
                <a:cubicBezTo>
                  <a:pt x="14942" y="7598"/>
                  <a:pt x="14932" y="7432"/>
                  <a:pt x="14957" y="7268"/>
                </a:cubicBezTo>
                <a:cubicBezTo>
                  <a:pt x="14977" y="7142"/>
                  <a:pt x="14984" y="6992"/>
                  <a:pt x="15056" y="6896"/>
                </a:cubicBezTo>
                <a:cubicBezTo>
                  <a:pt x="15105" y="6830"/>
                  <a:pt x="15253" y="6767"/>
                  <a:pt x="15329" y="6747"/>
                </a:cubicBezTo>
                <a:cubicBezTo>
                  <a:pt x="15576" y="6681"/>
                  <a:pt x="15845" y="6661"/>
                  <a:pt x="16098" y="6648"/>
                </a:cubicBezTo>
                <a:cubicBezTo>
                  <a:pt x="16330" y="6636"/>
                  <a:pt x="16562" y="6647"/>
                  <a:pt x="16793" y="6623"/>
                </a:cubicBezTo>
                <a:cubicBezTo>
                  <a:pt x="16964" y="6605"/>
                  <a:pt x="17145" y="6600"/>
                  <a:pt x="17314" y="6573"/>
                </a:cubicBezTo>
                <a:cubicBezTo>
                  <a:pt x="17414" y="6557"/>
                  <a:pt x="17515" y="6511"/>
                  <a:pt x="17611" y="6499"/>
                </a:cubicBezTo>
                <a:cubicBezTo>
                  <a:pt x="17653" y="6499"/>
                  <a:pt x="17661" y="6499"/>
                  <a:pt x="17686" y="6499"/>
                </a:cubicBezTo>
                <a:cubicBezTo>
                  <a:pt x="17699" y="6575"/>
                  <a:pt x="17689" y="6617"/>
                  <a:pt x="17686" y="6697"/>
                </a:cubicBezTo>
                <a:cubicBezTo>
                  <a:pt x="17680" y="6850"/>
                  <a:pt x="17700" y="6995"/>
                  <a:pt x="17711" y="7144"/>
                </a:cubicBezTo>
                <a:cubicBezTo>
                  <a:pt x="17722" y="7299"/>
                  <a:pt x="17748" y="7438"/>
                  <a:pt x="17785" y="7590"/>
                </a:cubicBezTo>
                <a:cubicBezTo>
                  <a:pt x="17816" y="7718"/>
                  <a:pt x="17878" y="7833"/>
                  <a:pt x="17909" y="7962"/>
                </a:cubicBezTo>
                <a:cubicBezTo>
                  <a:pt x="17926" y="8034"/>
                  <a:pt x="17932" y="8111"/>
                  <a:pt x="17934" y="8186"/>
                </a:cubicBezTo>
                <a:cubicBezTo>
                  <a:pt x="17935" y="8219"/>
                  <a:pt x="17934" y="8252"/>
                  <a:pt x="17934" y="8285"/>
                </a:cubicBezTo>
                <a:cubicBezTo>
                  <a:pt x="17874" y="8281"/>
                  <a:pt x="17815" y="8265"/>
                  <a:pt x="17760" y="8260"/>
                </a:cubicBezTo>
                <a:cubicBezTo>
                  <a:pt x="17323" y="8220"/>
                  <a:pt x="16878" y="8287"/>
                  <a:pt x="16446" y="8310"/>
                </a:cubicBezTo>
                <a:cubicBezTo>
                  <a:pt x="16241" y="8321"/>
                  <a:pt x="16027" y="8331"/>
                  <a:pt x="15825" y="8359"/>
                </a:cubicBezTo>
                <a:cubicBezTo>
                  <a:pt x="15616" y="8388"/>
                  <a:pt x="15305" y="8425"/>
                  <a:pt x="15106" y="8508"/>
                </a:cubicBezTo>
                <a:cubicBezTo>
                  <a:pt x="15069" y="8523"/>
                  <a:pt x="15071" y="8578"/>
                  <a:pt x="15032" y="8582"/>
                </a:cubicBezTo>
                <a:cubicBezTo>
                  <a:pt x="15004" y="8582"/>
                  <a:pt x="14993" y="8580"/>
                  <a:pt x="14982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17720" y="2768760"/>
            <a:ext cx="866520" cy="857160"/>
          </a:xfrm>
          <a:custGeom>
            <a:avLst/>
            <a:gdLst/>
            <a:ahLst/>
            <a:rect l="l" t="t" r="r" b="b"/>
            <a:pathLst>
              <a:path w="2407" h="2383">
                <a:moveTo>
                  <a:pt x="2927" y="9426"/>
                </a:moveTo>
                <a:cubicBezTo>
                  <a:pt x="2905" y="9499"/>
                  <a:pt x="2892" y="9611"/>
                  <a:pt x="2853" y="9674"/>
                </a:cubicBezTo>
                <a:cubicBezTo>
                  <a:pt x="2845" y="9682"/>
                  <a:pt x="2836" y="9691"/>
                  <a:pt x="2828" y="9699"/>
                </a:cubicBezTo>
                <a:cubicBezTo>
                  <a:pt x="2828" y="9572"/>
                  <a:pt x="2844" y="9452"/>
                  <a:pt x="2853" y="9327"/>
                </a:cubicBezTo>
                <a:cubicBezTo>
                  <a:pt x="2870" y="9077"/>
                  <a:pt x="2912" y="8830"/>
                  <a:pt x="2952" y="8582"/>
                </a:cubicBezTo>
                <a:cubicBezTo>
                  <a:pt x="2980" y="8408"/>
                  <a:pt x="3015" y="8235"/>
                  <a:pt x="3051" y="8062"/>
                </a:cubicBezTo>
                <a:cubicBezTo>
                  <a:pt x="3071" y="7965"/>
                  <a:pt x="3088" y="7823"/>
                  <a:pt x="3150" y="7739"/>
                </a:cubicBezTo>
                <a:cubicBezTo>
                  <a:pt x="3175" y="7714"/>
                  <a:pt x="3183" y="7706"/>
                  <a:pt x="3200" y="7689"/>
                </a:cubicBezTo>
                <a:cubicBezTo>
                  <a:pt x="3251" y="7729"/>
                  <a:pt x="3284" y="7734"/>
                  <a:pt x="3324" y="7813"/>
                </a:cubicBezTo>
                <a:cubicBezTo>
                  <a:pt x="3386" y="7937"/>
                  <a:pt x="3422" y="8101"/>
                  <a:pt x="3448" y="8235"/>
                </a:cubicBezTo>
                <a:cubicBezTo>
                  <a:pt x="3488" y="8443"/>
                  <a:pt x="3534" y="8646"/>
                  <a:pt x="3572" y="8855"/>
                </a:cubicBezTo>
                <a:cubicBezTo>
                  <a:pt x="3608" y="9052"/>
                  <a:pt x="3664" y="9251"/>
                  <a:pt x="3671" y="9451"/>
                </a:cubicBezTo>
                <a:cubicBezTo>
                  <a:pt x="3673" y="9505"/>
                  <a:pt x="3678" y="9573"/>
                  <a:pt x="3696" y="9624"/>
                </a:cubicBezTo>
                <a:cubicBezTo>
                  <a:pt x="3707" y="9655"/>
                  <a:pt x="3703" y="9592"/>
                  <a:pt x="3696" y="9575"/>
                </a:cubicBezTo>
              </a:path>
              <a:path w="2407" h="2383">
                <a:moveTo>
                  <a:pt x="2902" y="9252"/>
                </a:moveTo>
                <a:cubicBezTo>
                  <a:pt x="3081" y="9238"/>
                  <a:pt x="3271" y="9225"/>
                  <a:pt x="3448" y="9277"/>
                </a:cubicBezTo>
                <a:cubicBezTo>
                  <a:pt x="3489" y="9294"/>
                  <a:pt x="3531" y="9310"/>
                  <a:pt x="3572" y="9327"/>
                </a:cubicBezTo>
              </a:path>
              <a:path w="2407" h="2383">
                <a:moveTo>
                  <a:pt x="4018" y="9699"/>
                </a:moveTo>
                <a:cubicBezTo>
                  <a:pt x="4001" y="9798"/>
                  <a:pt x="3976" y="9898"/>
                  <a:pt x="3969" y="9996"/>
                </a:cubicBezTo>
                <a:cubicBezTo>
                  <a:pt x="3967" y="10021"/>
                  <a:pt x="3969" y="10046"/>
                  <a:pt x="3969" y="10071"/>
                </a:cubicBezTo>
                <a:cubicBezTo>
                  <a:pt x="3955" y="10003"/>
                  <a:pt x="3944" y="9971"/>
                  <a:pt x="3944" y="9897"/>
                </a:cubicBezTo>
                <a:cubicBezTo>
                  <a:pt x="3944" y="9794"/>
                  <a:pt x="3962" y="9722"/>
                  <a:pt x="3994" y="9624"/>
                </a:cubicBezTo>
                <a:cubicBezTo>
                  <a:pt x="4017" y="9555"/>
                  <a:pt x="4038" y="9420"/>
                  <a:pt x="4142" y="9426"/>
                </a:cubicBezTo>
                <a:cubicBezTo>
                  <a:pt x="4226" y="9431"/>
                  <a:pt x="4301" y="9502"/>
                  <a:pt x="4341" y="9575"/>
                </a:cubicBezTo>
                <a:cubicBezTo>
                  <a:pt x="4399" y="9681"/>
                  <a:pt x="4412" y="9812"/>
                  <a:pt x="4465" y="9922"/>
                </a:cubicBezTo>
                <a:cubicBezTo>
                  <a:pt x="4474" y="9940"/>
                  <a:pt x="4528" y="10039"/>
                  <a:pt x="4539" y="10046"/>
                </a:cubicBezTo>
                <a:cubicBezTo>
                  <a:pt x="4567" y="10064"/>
                  <a:pt x="4581" y="9967"/>
                  <a:pt x="4589" y="9947"/>
                </a:cubicBezTo>
              </a:path>
              <a:path w="2407" h="2383">
                <a:moveTo>
                  <a:pt x="4862" y="9252"/>
                </a:moveTo>
                <a:cubicBezTo>
                  <a:pt x="4897" y="9252"/>
                  <a:pt x="5171" y="9265"/>
                  <a:pt x="5184" y="9252"/>
                </a:cubicBezTo>
              </a:path>
              <a:path w="2407" h="2383">
                <a:moveTo>
                  <a:pt x="4837" y="9550"/>
                </a:moveTo>
                <a:cubicBezTo>
                  <a:pt x="4989" y="9583"/>
                  <a:pt x="5074" y="9552"/>
                  <a:pt x="5234" y="95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08160" y="2884320"/>
            <a:ext cx="2241720" cy="696960"/>
          </a:xfrm>
          <a:custGeom>
            <a:avLst/>
            <a:gdLst/>
            <a:ahLst/>
            <a:rect l="l" t="t" r="r" b="b"/>
            <a:pathLst>
              <a:path w="6227" h="1936">
                <a:moveTo>
                  <a:pt x="5978" y="9103"/>
                </a:moveTo>
                <a:cubicBezTo>
                  <a:pt x="5943" y="9239"/>
                  <a:pt x="5915" y="9392"/>
                  <a:pt x="5879" y="9525"/>
                </a:cubicBezTo>
                <a:cubicBezTo>
                  <a:pt x="5871" y="9542"/>
                  <a:pt x="5862" y="9558"/>
                  <a:pt x="5854" y="9575"/>
                </a:cubicBezTo>
                <a:cubicBezTo>
                  <a:pt x="5854" y="9516"/>
                  <a:pt x="5871" y="9509"/>
                  <a:pt x="5879" y="9451"/>
                </a:cubicBezTo>
                <a:cubicBezTo>
                  <a:pt x="5912" y="9224"/>
                  <a:pt x="5943" y="9077"/>
                  <a:pt x="6003" y="8830"/>
                </a:cubicBezTo>
                <a:cubicBezTo>
                  <a:pt x="6040" y="8677"/>
                  <a:pt x="6106" y="8512"/>
                  <a:pt x="6127" y="8359"/>
                </a:cubicBezTo>
                <a:cubicBezTo>
                  <a:pt x="6139" y="8272"/>
                  <a:pt x="6155" y="8137"/>
                  <a:pt x="6201" y="8062"/>
                </a:cubicBezTo>
                <a:cubicBezTo>
                  <a:pt x="6226" y="8037"/>
                  <a:pt x="6234" y="8029"/>
                  <a:pt x="6251" y="8012"/>
                </a:cubicBezTo>
                <a:cubicBezTo>
                  <a:pt x="6261" y="8095"/>
                  <a:pt x="6292" y="8176"/>
                  <a:pt x="6300" y="8260"/>
                </a:cubicBezTo>
                <a:cubicBezTo>
                  <a:pt x="6312" y="8392"/>
                  <a:pt x="6356" y="8527"/>
                  <a:pt x="6400" y="8657"/>
                </a:cubicBezTo>
                <a:cubicBezTo>
                  <a:pt x="6450" y="8803"/>
                  <a:pt x="6491" y="8961"/>
                  <a:pt x="6548" y="9103"/>
                </a:cubicBezTo>
                <a:cubicBezTo>
                  <a:pt x="6595" y="9218"/>
                  <a:pt x="6633" y="9332"/>
                  <a:pt x="6672" y="9451"/>
                </a:cubicBezTo>
                <a:cubicBezTo>
                  <a:pt x="6675" y="9459"/>
                  <a:pt x="6732" y="9571"/>
                  <a:pt x="6722" y="9575"/>
                </a:cubicBezTo>
                <a:cubicBezTo>
                  <a:pt x="6705" y="9567"/>
                  <a:pt x="6689" y="9558"/>
                  <a:pt x="6672" y="9550"/>
                </a:cubicBezTo>
              </a:path>
              <a:path w="6227" h="1936">
                <a:moveTo>
                  <a:pt x="5928" y="9252"/>
                </a:moveTo>
                <a:cubicBezTo>
                  <a:pt x="6045" y="9252"/>
                  <a:pt x="6162" y="9260"/>
                  <a:pt x="6276" y="9277"/>
                </a:cubicBezTo>
                <a:cubicBezTo>
                  <a:pt x="6420" y="9298"/>
                  <a:pt x="6478" y="9317"/>
                  <a:pt x="6623" y="9302"/>
                </a:cubicBezTo>
              </a:path>
              <a:path w="6227" h="1936">
                <a:moveTo>
                  <a:pt x="7144" y="9575"/>
                </a:moveTo>
                <a:cubicBezTo>
                  <a:pt x="7131" y="9700"/>
                  <a:pt x="7037" y="9880"/>
                  <a:pt x="7144" y="9947"/>
                </a:cubicBezTo>
                <a:cubicBezTo>
                  <a:pt x="7152" y="9939"/>
                  <a:pt x="7161" y="9930"/>
                  <a:pt x="7169" y="9922"/>
                </a:cubicBezTo>
              </a:path>
              <a:path w="6227" h="1936">
                <a:moveTo>
                  <a:pt x="7640" y="8756"/>
                </a:moveTo>
                <a:cubicBezTo>
                  <a:pt x="7640" y="8859"/>
                  <a:pt x="7633" y="8954"/>
                  <a:pt x="7665" y="9054"/>
                </a:cubicBezTo>
                <a:cubicBezTo>
                  <a:pt x="7688" y="9126"/>
                  <a:pt x="7710" y="9201"/>
                  <a:pt x="7714" y="9277"/>
                </a:cubicBezTo>
                <a:cubicBezTo>
                  <a:pt x="7716" y="9309"/>
                  <a:pt x="7713" y="9396"/>
                  <a:pt x="7689" y="9327"/>
                </a:cubicBezTo>
              </a:path>
              <a:path w="6227" h="1936">
                <a:moveTo>
                  <a:pt x="7466" y="9054"/>
                </a:moveTo>
                <a:cubicBezTo>
                  <a:pt x="7614" y="9024"/>
                  <a:pt x="7763" y="8997"/>
                  <a:pt x="7913" y="8979"/>
                </a:cubicBezTo>
              </a:path>
              <a:path w="6227" h="1936">
                <a:moveTo>
                  <a:pt x="8607" y="8285"/>
                </a:moveTo>
                <a:cubicBezTo>
                  <a:pt x="8566" y="8418"/>
                  <a:pt x="8517" y="8531"/>
                  <a:pt x="8458" y="8657"/>
                </a:cubicBezTo>
                <a:cubicBezTo>
                  <a:pt x="8390" y="8802"/>
                  <a:pt x="8329" y="8942"/>
                  <a:pt x="8310" y="9103"/>
                </a:cubicBezTo>
                <a:cubicBezTo>
                  <a:pt x="8295" y="9238"/>
                  <a:pt x="8368" y="9363"/>
                  <a:pt x="8434" y="9475"/>
                </a:cubicBezTo>
                <a:cubicBezTo>
                  <a:pt x="8450" y="9500"/>
                  <a:pt x="8467" y="9525"/>
                  <a:pt x="8483" y="9550"/>
                </a:cubicBezTo>
              </a:path>
              <a:path w="6227" h="1936">
                <a:moveTo>
                  <a:pt x="8706" y="9128"/>
                </a:moveTo>
                <a:cubicBezTo>
                  <a:pt x="8707" y="9138"/>
                  <a:pt x="8714" y="9367"/>
                  <a:pt x="8731" y="9401"/>
                </a:cubicBezTo>
                <a:cubicBezTo>
                  <a:pt x="8739" y="9409"/>
                  <a:pt x="8748" y="9418"/>
                  <a:pt x="8756" y="9426"/>
                </a:cubicBezTo>
                <a:cubicBezTo>
                  <a:pt x="8756" y="9305"/>
                  <a:pt x="8764" y="9196"/>
                  <a:pt x="8781" y="9079"/>
                </a:cubicBezTo>
                <a:cubicBezTo>
                  <a:pt x="8790" y="9016"/>
                  <a:pt x="8833" y="8910"/>
                  <a:pt x="8905" y="8880"/>
                </a:cubicBezTo>
                <a:cubicBezTo>
                  <a:pt x="9008" y="8837"/>
                  <a:pt x="9084" y="8966"/>
                  <a:pt x="9128" y="9029"/>
                </a:cubicBezTo>
                <a:cubicBezTo>
                  <a:pt x="9197" y="9129"/>
                  <a:pt x="9207" y="9240"/>
                  <a:pt x="9252" y="9351"/>
                </a:cubicBezTo>
                <a:cubicBezTo>
                  <a:pt x="9273" y="9401"/>
                  <a:pt x="9287" y="9431"/>
                  <a:pt x="9327" y="9451"/>
                </a:cubicBezTo>
              </a:path>
              <a:path w="6227" h="1936">
                <a:moveTo>
                  <a:pt x="9525" y="9079"/>
                </a:moveTo>
                <a:cubicBezTo>
                  <a:pt x="9638" y="9079"/>
                  <a:pt x="9742" y="9089"/>
                  <a:pt x="9847" y="9054"/>
                </a:cubicBezTo>
              </a:path>
              <a:path w="6227" h="1936">
                <a:moveTo>
                  <a:pt x="10096" y="8731"/>
                </a:moveTo>
                <a:cubicBezTo>
                  <a:pt x="10096" y="8908"/>
                  <a:pt x="10052" y="9164"/>
                  <a:pt x="10120" y="9327"/>
                </a:cubicBezTo>
                <a:cubicBezTo>
                  <a:pt x="10128" y="9343"/>
                  <a:pt x="10137" y="9360"/>
                  <a:pt x="10145" y="9376"/>
                </a:cubicBezTo>
              </a:path>
              <a:path w="6227" h="1936">
                <a:moveTo>
                  <a:pt x="10120" y="8012"/>
                </a:moveTo>
                <a:cubicBezTo>
                  <a:pt x="10272" y="8037"/>
                  <a:pt x="10320" y="8113"/>
                  <a:pt x="10418" y="8235"/>
                </a:cubicBezTo>
                <a:cubicBezTo>
                  <a:pt x="10561" y="8414"/>
                  <a:pt x="10664" y="8600"/>
                  <a:pt x="10691" y="8830"/>
                </a:cubicBezTo>
                <a:cubicBezTo>
                  <a:pt x="10714" y="9030"/>
                  <a:pt x="10665" y="9148"/>
                  <a:pt x="10592" y="9327"/>
                </a:cubicBezTo>
                <a:cubicBezTo>
                  <a:pt x="10546" y="9440"/>
                  <a:pt x="10516" y="9413"/>
                  <a:pt x="10443" y="9475"/>
                </a:cubicBezTo>
                <a:cubicBezTo>
                  <a:pt x="10408" y="9475"/>
                  <a:pt x="10395" y="9484"/>
                  <a:pt x="10393" y="9525"/>
                </a:cubicBezTo>
              </a:path>
              <a:path w="6227" h="1936">
                <a:moveTo>
                  <a:pt x="11385" y="8905"/>
                </a:moveTo>
                <a:cubicBezTo>
                  <a:pt x="11258" y="8916"/>
                  <a:pt x="11144" y="8950"/>
                  <a:pt x="11038" y="9029"/>
                </a:cubicBezTo>
                <a:cubicBezTo>
                  <a:pt x="10919" y="9119"/>
                  <a:pt x="10952" y="9235"/>
                  <a:pt x="11063" y="9327"/>
                </a:cubicBezTo>
                <a:cubicBezTo>
                  <a:pt x="11110" y="9366"/>
                  <a:pt x="11245" y="9309"/>
                  <a:pt x="11286" y="9277"/>
                </a:cubicBezTo>
                <a:cubicBezTo>
                  <a:pt x="11378" y="9205"/>
                  <a:pt x="11433" y="9088"/>
                  <a:pt x="11460" y="8979"/>
                </a:cubicBezTo>
                <a:cubicBezTo>
                  <a:pt x="11498" y="8826"/>
                  <a:pt x="11509" y="8690"/>
                  <a:pt x="11509" y="8533"/>
                </a:cubicBezTo>
                <a:cubicBezTo>
                  <a:pt x="11509" y="8470"/>
                  <a:pt x="11511" y="8311"/>
                  <a:pt x="11460" y="8260"/>
                </a:cubicBezTo>
                <a:cubicBezTo>
                  <a:pt x="11452" y="8260"/>
                  <a:pt x="11443" y="8260"/>
                  <a:pt x="11435" y="8260"/>
                </a:cubicBezTo>
                <a:cubicBezTo>
                  <a:pt x="11424" y="8340"/>
                  <a:pt x="11403" y="8452"/>
                  <a:pt x="11435" y="8533"/>
                </a:cubicBezTo>
                <a:cubicBezTo>
                  <a:pt x="11542" y="8803"/>
                  <a:pt x="11753" y="9033"/>
                  <a:pt x="11906" y="9277"/>
                </a:cubicBezTo>
                <a:cubicBezTo>
                  <a:pt x="11996" y="9435"/>
                  <a:pt x="12019" y="9477"/>
                  <a:pt x="12080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08080" y="3768840"/>
            <a:ext cx="766800" cy="847440"/>
          </a:xfrm>
          <a:custGeom>
            <a:avLst/>
            <a:gdLst/>
            <a:ahLst/>
            <a:rect l="l" t="t" r="r" b="b"/>
            <a:pathLst>
              <a:path w="2134" h="2357">
                <a:moveTo>
                  <a:pt x="3299" y="11137"/>
                </a:moveTo>
                <a:cubicBezTo>
                  <a:pt x="3259" y="11256"/>
                  <a:pt x="3252" y="11364"/>
                  <a:pt x="3225" y="11485"/>
                </a:cubicBezTo>
                <a:cubicBezTo>
                  <a:pt x="3198" y="11610"/>
                  <a:pt x="3185" y="11737"/>
                  <a:pt x="3150" y="11857"/>
                </a:cubicBezTo>
                <a:cubicBezTo>
                  <a:pt x="3130" y="11927"/>
                  <a:pt x="3102" y="11995"/>
                  <a:pt x="3076" y="12055"/>
                </a:cubicBezTo>
                <a:cubicBezTo>
                  <a:pt x="3083" y="11979"/>
                  <a:pt x="3103" y="11933"/>
                  <a:pt x="3125" y="11857"/>
                </a:cubicBezTo>
                <a:cubicBezTo>
                  <a:pt x="3186" y="11645"/>
                  <a:pt x="3222" y="11426"/>
                  <a:pt x="3274" y="11212"/>
                </a:cubicBezTo>
                <a:cubicBezTo>
                  <a:pt x="3309" y="11070"/>
                  <a:pt x="3379" y="10937"/>
                  <a:pt x="3398" y="10790"/>
                </a:cubicBezTo>
                <a:cubicBezTo>
                  <a:pt x="3409" y="10703"/>
                  <a:pt x="3412" y="10622"/>
                  <a:pt x="3448" y="10542"/>
                </a:cubicBezTo>
                <a:cubicBezTo>
                  <a:pt x="3458" y="10519"/>
                  <a:pt x="3463" y="10491"/>
                  <a:pt x="3473" y="10468"/>
                </a:cubicBezTo>
                <a:cubicBezTo>
                  <a:pt x="3542" y="10550"/>
                  <a:pt x="3586" y="10638"/>
                  <a:pt x="3621" y="10765"/>
                </a:cubicBezTo>
                <a:cubicBezTo>
                  <a:pt x="3659" y="10903"/>
                  <a:pt x="3663" y="11046"/>
                  <a:pt x="3696" y="11187"/>
                </a:cubicBezTo>
                <a:cubicBezTo>
                  <a:pt x="3729" y="11327"/>
                  <a:pt x="3756" y="11471"/>
                  <a:pt x="3795" y="11609"/>
                </a:cubicBezTo>
                <a:cubicBezTo>
                  <a:pt x="3822" y="11704"/>
                  <a:pt x="3850" y="11793"/>
                  <a:pt x="3894" y="11881"/>
                </a:cubicBezTo>
                <a:cubicBezTo>
                  <a:pt x="3911" y="11916"/>
                  <a:pt x="3929" y="11951"/>
                  <a:pt x="3944" y="11981"/>
                </a:cubicBezTo>
              </a:path>
              <a:path w="2134" h="2357">
                <a:moveTo>
                  <a:pt x="3324" y="11658"/>
                </a:moveTo>
                <a:cubicBezTo>
                  <a:pt x="3384" y="11684"/>
                  <a:pt x="3460" y="11700"/>
                  <a:pt x="3522" y="11708"/>
                </a:cubicBezTo>
                <a:cubicBezTo>
                  <a:pt x="3547" y="11708"/>
                  <a:pt x="3572" y="11708"/>
                  <a:pt x="3597" y="11708"/>
                </a:cubicBezTo>
              </a:path>
              <a:path w="2134" h="2357">
                <a:moveTo>
                  <a:pt x="4465" y="12030"/>
                </a:moveTo>
                <a:cubicBezTo>
                  <a:pt x="4465" y="11947"/>
                  <a:pt x="4466" y="11889"/>
                  <a:pt x="4390" y="11832"/>
                </a:cubicBezTo>
                <a:cubicBezTo>
                  <a:pt x="4355" y="11806"/>
                  <a:pt x="4284" y="11793"/>
                  <a:pt x="4242" y="11807"/>
                </a:cubicBezTo>
                <a:cubicBezTo>
                  <a:pt x="4166" y="11832"/>
                  <a:pt x="4151" y="11890"/>
                  <a:pt x="4118" y="11956"/>
                </a:cubicBezTo>
                <a:cubicBezTo>
                  <a:pt x="4080" y="12031"/>
                  <a:pt x="4113" y="12094"/>
                  <a:pt x="4167" y="12154"/>
                </a:cubicBezTo>
                <a:cubicBezTo>
                  <a:pt x="4217" y="12209"/>
                  <a:pt x="4243" y="12204"/>
                  <a:pt x="4316" y="12204"/>
                </a:cubicBezTo>
                <a:cubicBezTo>
                  <a:pt x="4344" y="12204"/>
                  <a:pt x="4398" y="12178"/>
                  <a:pt x="4415" y="12154"/>
                </a:cubicBezTo>
                <a:cubicBezTo>
                  <a:pt x="4435" y="12125"/>
                  <a:pt x="4461" y="12062"/>
                  <a:pt x="4465" y="12030"/>
                </a:cubicBezTo>
                <a:cubicBezTo>
                  <a:pt x="4465" y="12005"/>
                  <a:pt x="4465" y="11997"/>
                  <a:pt x="4465" y="11981"/>
                </a:cubicBezTo>
                <a:cubicBezTo>
                  <a:pt x="4465" y="12038"/>
                  <a:pt x="4449" y="12077"/>
                  <a:pt x="4440" y="12129"/>
                </a:cubicBezTo>
                <a:cubicBezTo>
                  <a:pt x="4416" y="12269"/>
                  <a:pt x="4454" y="12416"/>
                  <a:pt x="4465" y="12551"/>
                </a:cubicBezTo>
                <a:cubicBezTo>
                  <a:pt x="4473" y="12652"/>
                  <a:pt x="4465" y="12715"/>
                  <a:pt x="4490" y="12799"/>
                </a:cubicBezTo>
                <a:cubicBezTo>
                  <a:pt x="4500" y="12833"/>
                  <a:pt x="4493" y="12800"/>
                  <a:pt x="4514" y="12750"/>
                </a:cubicBezTo>
              </a:path>
              <a:path w="2134" h="2357">
                <a:moveTo>
                  <a:pt x="4787" y="11584"/>
                </a:moveTo>
                <a:cubicBezTo>
                  <a:pt x="4886" y="11566"/>
                  <a:pt x="4962" y="11559"/>
                  <a:pt x="5060" y="11559"/>
                </a:cubicBezTo>
                <a:cubicBezTo>
                  <a:pt x="5085" y="11559"/>
                  <a:pt x="5110" y="11559"/>
                  <a:pt x="5135" y="11559"/>
                </a:cubicBezTo>
              </a:path>
              <a:path w="2134" h="2357">
                <a:moveTo>
                  <a:pt x="4887" y="11757"/>
                </a:moveTo>
                <a:cubicBezTo>
                  <a:pt x="4952" y="11793"/>
                  <a:pt x="5010" y="11827"/>
                  <a:pt x="5085" y="11832"/>
                </a:cubicBezTo>
                <a:cubicBezTo>
                  <a:pt x="5137" y="11835"/>
                  <a:pt x="5141" y="11846"/>
                  <a:pt x="5184" y="11857"/>
                </a:cubicBezTo>
                <a:cubicBezTo>
                  <a:pt x="5184" y="11813"/>
                  <a:pt x="5183" y="11817"/>
                  <a:pt x="5209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3938760"/>
            <a:ext cx="509400" cy="473040"/>
          </a:xfrm>
          <a:custGeom>
            <a:avLst/>
            <a:gdLst/>
            <a:ahLst/>
            <a:rect l="l" t="t" r="r" b="b"/>
            <a:pathLst>
              <a:path w="1415" h="1316">
                <a:moveTo>
                  <a:pt x="5928" y="11038"/>
                </a:moveTo>
                <a:cubicBezTo>
                  <a:pt x="5960" y="11006"/>
                  <a:pt x="5999" y="10986"/>
                  <a:pt x="6028" y="10964"/>
                </a:cubicBezTo>
                <a:cubicBezTo>
                  <a:pt x="6078" y="10926"/>
                  <a:pt x="6136" y="10939"/>
                  <a:pt x="6201" y="10939"/>
                </a:cubicBezTo>
                <a:cubicBezTo>
                  <a:pt x="6286" y="10939"/>
                  <a:pt x="6317" y="10981"/>
                  <a:pt x="6375" y="11038"/>
                </a:cubicBezTo>
                <a:cubicBezTo>
                  <a:pt x="6403" y="11066"/>
                  <a:pt x="6422" y="11173"/>
                  <a:pt x="6400" y="11212"/>
                </a:cubicBezTo>
                <a:cubicBezTo>
                  <a:pt x="6358" y="11287"/>
                  <a:pt x="6271" y="11362"/>
                  <a:pt x="6201" y="11410"/>
                </a:cubicBezTo>
                <a:cubicBezTo>
                  <a:pt x="6166" y="11434"/>
                  <a:pt x="6115" y="11451"/>
                  <a:pt x="6077" y="11485"/>
                </a:cubicBezTo>
                <a:cubicBezTo>
                  <a:pt x="6052" y="11485"/>
                  <a:pt x="6044" y="11485"/>
                  <a:pt x="6052" y="11509"/>
                </a:cubicBezTo>
                <a:cubicBezTo>
                  <a:pt x="6109" y="11509"/>
                  <a:pt x="6130" y="11515"/>
                  <a:pt x="6176" y="11534"/>
                </a:cubicBezTo>
                <a:cubicBezTo>
                  <a:pt x="6238" y="11559"/>
                  <a:pt x="6281" y="11571"/>
                  <a:pt x="6325" y="11633"/>
                </a:cubicBezTo>
                <a:cubicBezTo>
                  <a:pt x="6373" y="11701"/>
                  <a:pt x="6403" y="11784"/>
                  <a:pt x="6424" y="11857"/>
                </a:cubicBezTo>
                <a:cubicBezTo>
                  <a:pt x="6445" y="11929"/>
                  <a:pt x="6465" y="12037"/>
                  <a:pt x="6424" y="12105"/>
                </a:cubicBezTo>
                <a:cubicBezTo>
                  <a:pt x="6369" y="12195"/>
                  <a:pt x="6330" y="12192"/>
                  <a:pt x="6251" y="12229"/>
                </a:cubicBezTo>
                <a:cubicBezTo>
                  <a:pt x="6189" y="12258"/>
                  <a:pt x="6132" y="12242"/>
                  <a:pt x="6077" y="12204"/>
                </a:cubicBezTo>
                <a:cubicBezTo>
                  <a:pt x="6029" y="12171"/>
                  <a:pt x="6027" y="12129"/>
                  <a:pt x="6003" y="12080"/>
                </a:cubicBezTo>
              </a:path>
              <a:path w="1415" h="1316">
                <a:moveTo>
                  <a:pt x="7045" y="11237"/>
                </a:moveTo>
                <a:cubicBezTo>
                  <a:pt x="7045" y="11319"/>
                  <a:pt x="7024" y="11379"/>
                  <a:pt x="7020" y="11460"/>
                </a:cubicBezTo>
                <a:cubicBezTo>
                  <a:pt x="7016" y="11541"/>
                  <a:pt x="7041" y="11656"/>
                  <a:pt x="7069" y="11733"/>
                </a:cubicBezTo>
                <a:cubicBezTo>
                  <a:pt x="7093" y="11799"/>
                  <a:pt x="7123" y="11863"/>
                  <a:pt x="7144" y="11931"/>
                </a:cubicBezTo>
                <a:cubicBezTo>
                  <a:pt x="7144" y="11959"/>
                  <a:pt x="7146" y="11970"/>
                  <a:pt x="7169" y="11981"/>
                </a:cubicBezTo>
              </a:path>
              <a:path w="1415" h="1316">
                <a:moveTo>
                  <a:pt x="6846" y="11534"/>
                </a:moveTo>
                <a:cubicBezTo>
                  <a:pt x="7006" y="11534"/>
                  <a:pt x="7166" y="11544"/>
                  <a:pt x="7317" y="11509"/>
                </a:cubicBezTo>
                <a:cubicBezTo>
                  <a:pt x="7325" y="11509"/>
                  <a:pt x="7334" y="11509"/>
                  <a:pt x="7342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03680" y="3848040"/>
            <a:ext cx="903240" cy="669960"/>
          </a:xfrm>
          <a:custGeom>
            <a:avLst/>
            <a:gdLst/>
            <a:ahLst/>
            <a:rect l="l" t="t" r="r" b="b"/>
            <a:pathLst>
              <a:path w="2506" h="1861">
                <a:moveTo>
                  <a:pt x="8111" y="10815"/>
                </a:moveTo>
                <a:cubicBezTo>
                  <a:pt x="8035" y="10912"/>
                  <a:pt x="7963" y="10999"/>
                  <a:pt x="7913" y="11112"/>
                </a:cubicBezTo>
                <a:cubicBezTo>
                  <a:pt x="7860" y="11232"/>
                  <a:pt x="7838" y="11309"/>
                  <a:pt x="7813" y="11435"/>
                </a:cubicBezTo>
                <a:cubicBezTo>
                  <a:pt x="7788" y="11563"/>
                  <a:pt x="7800" y="11655"/>
                  <a:pt x="7813" y="11782"/>
                </a:cubicBezTo>
                <a:cubicBezTo>
                  <a:pt x="7823" y="11882"/>
                  <a:pt x="7848" y="11961"/>
                  <a:pt x="7888" y="12055"/>
                </a:cubicBezTo>
                <a:cubicBezTo>
                  <a:pt x="7915" y="12117"/>
                  <a:pt x="7936" y="12199"/>
                  <a:pt x="7962" y="12254"/>
                </a:cubicBezTo>
                <a:cubicBezTo>
                  <a:pt x="7974" y="12280"/>
                  <a:pt x="7997" y="12332"/>
                  <a:pt x="8012" y="12353"/>
                </a:cubicBezTo>
                <a:cubicBezTo>
                  <a:pt x="8041" y="12395"/>
                  <a:pt x="8032" y="12338"/>
                  <a:pt x="8012" y="12378"/>
                </a:cubicBezTo>
              </a:path>
              <a:path w="2506" h="1861">
                <a:moveTo>
                  <a:pt x="8706" y="11410"/>
                </a:moveTo>
                <a:cubicBezTo>
                  <a:pt x="8729" y="11433"/>
                  <a:pt x="8737" y="11437"/>
                  <a:pt x="8731" y="11460"/>
                </a:cubicBezTo>
                <a:cubicBezTo>
                  <a:pt x="8760" y="11412"/>
                  <a:pt x="8756" y="11398"/>
                  <a:pt x="8756" y="11336"/>
                </a:cubicBezTo>
                <a:cubicBezTo>
                  <a:pt x="8756" y="11274"/>
                  <a:pt x="8736" y="11191"/>
                  <a:pt x="8706" y="11137"/>
                </a:cubicBezTo>
                <a:cubicBezTo>
                  <a:pt x="8666" y="11065"/>
                  <a:pt x="8637" y="11018"/>
                  <a:pt x="8558" y="11013"/>
                </a:cubicBezTo>
                <a:cubicBezTo>
                  <a:pt x="8483" y="11009"/>
                  <a:pt x="8429" y="11054"/>
                  <a:pt x="8384" y="11112"/>
                </a:cubicBezTo>
                <a:cubicBezTo>
                  <a:pt x="8320" y="11195"/>
                  <a:pt x="8293" y="11287"/>
                  <a:pt x="8260" y="11385"/>
                </a:cubicBezTo>
                <a:cubicBezTo>
                  <a:pt x="8238" y="11451"/>
                  <a:pt x="8231" y="11600"/>
                  <a:pt x="8285" y="11658"/>
                </a:cubicBezTo>
                <a:cubicBezTo>
                  <a:pt x="8314" y="11689"/>
                  <a:pt x="8391" y="11741"/>
                  <a:pt x="8434" y="11733"/>
                </a:cubicBezTo>
                <a:cubicBezTo>
                  <a:pt x="8482" y="11724"/>
                  <a:pt x="8529" y="11703"/>
                  <a:pt x="8558" y="11658"/>
                </a:cubicBezTo>
                <a:cubicBezTo>
                  <a:pt x="8584" y="11618"/>
                  <a:pt x="8646" y="11527"/>
                  <a:pt x="8657" y="11485"/>
                </a:cubicBezTo>
                <a:cubicBezTo>
                  <a:pt x="8670" y="11437"/>
                  <a:pt x="8676" y="11387"/>
                  <a:pt x="8682" y="11336"/>
                </a:cubicBezTo>
                <a:cubicBezTo>
                  <a:pt x="8671" y="11423"/>
                  <a:pt x="8635" y="11493"/>
                  <a:pt x="8632" y="11584"/>
                </a:cubicBezTo>
                <a:cubicBezTo>
                  <a:pt x="8626" y="11745"/>
                  <a:pt x="8638" y="11903"/>
                  <a:pt x="8657" y="12055"/>
                </a:cubicBezTo>
                <a:cubicBezTo>
                  <a:pt x="8661" y="12085"/>
                  <a:pt x="8650" y="12183"/>
                  <a:pt x="8682" y="12204"/>
                </a:cubicBezTo>
                <a:cubicBezTo>
                  <a:pt x="8706" y="12204"/>
                  <a:pt x="8714" y="12204"/>
                  <a:pt x="8706" y="12179"/>
                </a:cubicBezTo>
              </a:path>
              <a:path w="2506" h="1861">
                <a:moveTo>
                  <a:pt x="8979" y="11708"/>
                </a:moveTo>
                <a:cubicBezTo>
                  <a:pt x="9078" y="11687"/>
                  <a:pt x="9160" y="11674"/>
                  <a:pt x="9252" y="11633"/>
                </a:cubicBezTo>
              </a:path>
              <a:path w="2506" h="1861">
                <a:moveTo>
                  <a:pt x="9674" y="11088"/>
                </a:moveTo>
                <a:cubicBezTo>
                  <a:pt x="9674" y="11194"/>
                  <a:pt x="9659" y="11284"/>
                  <a:pt x="9649" y="11385"/>
                </a:cubicBezTo>
                <a:cubicBezTo>
                  <a:pt x="9638" y="11507"/>
                  <a:pt x="9670" y="11614"/>
                  <a:pt x="9674" y="11733"/>
                </a:cubicBezTo>
                <a:cubicBezTo>
                  <a:pt x="9677" y="11830"/>
                  <a:pt x="9706" y="11911"/>
                  <a:pt x="9723" y="12005"/>
                </a:cubicBezTo>
                <a:cubicBezTo>
                  <a:pt x="9752" y="12163"/>
                  <a:pt x="9769" y="11993"/>
                  <a:pt x="9773" y="11931"/>
                </a:cubicBezTo>
              </a:path>
              <a:path w="2506" h="1861">
                <a:moveTo>
                  <a:pt x="9748" y="10691"/>
                </a:moveTo>
                <a:cubicBezTo>
                  <a:pt x="9937" y="10825"/>
                  <a:pt x="10054" y="10946"/>
                  <a:pt x="10145" y="11162"/>
                </a:cubicBezTo>
                <a:cubicBezTo>
                  <a:pt x="10211" y="11319"/>
                  <a:pt x="10298" y="11533"/>
                  <a:pt x="10294" y="11708"/>
                </a:cubicBezTo>
                <a:cubicBezTo>
                  <a:pt x="10291" y="11843"/>
                  <a:pt x="10258" y="11997"/>
                  <a:pt x="10220" y="12129"/>
                </a:cubicBezTo>
                <a:cubicBezTo>
                  <a:pt x="10193" y="12223"/>
                  <a:pt x="10138" y="12313"/>
                  <a:pt x="10096" y="12402"/>
                </a:cubicBezTo>
                <a:cubicBezTo>
                  <a:pt x="10067" y="12463"/>
                  <a:pt x="10040" y="12502"/>
                  <a:pt x="9996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46680" y="4000680"/>
            <a:ext cx="411120" cy="366480"/>
          </a:xfrm>
          <a:custGeom>
            <a:avLst/>
            <a:gdLst/>
            <a:ahLst/>
            <a:rect l="l" t="t" r="r" b="b"/>
            <a:pathLst>
              <a:path w="1142" h="1018">
                <a:moveTo>
                  <a:pt x="10988" y="11112"/>
                </a:moveTo>
                <a:cubicBezTo>
                  <a:pt x="10975" y="11180"/>
                  <a:pt x="10964" y="11237"/>
                  <a:pt x="10964" y="11311"/>
                </a:cubicBezTo>
                <a:cubicBezTo>
                  <a:pt x="10964" y="11439"/>
                  <a:pt x="11002" y="11557"/>
                  <a:pt x="11013" y="11683"/>
                </a:cubicBezTo>
                <a:cubicBezTo>
                  <a:pt x="11022" y="11793"/>
                  <a:pt x="11038" y="11893"/>
                  <a:pt x="11038" y="12005"/>
                </a:cubicBezTo>
                <a:cubicBezTo>
                  <a:pt x="11038" y="12046"/>
                  <a:pt x="11038" y="12088"/>
                  <a:pt x="11038" y="12129"/>
                </a:cubicBezTo>
                <a:cubicBezTo>
                  <a:pt x="11075" y="12069"/>
                  <a:pt x="11090" y="11979"/>
                  <a:pt x="11112" y="11906"/>
                </a:cubicBezTo>
              </a:path>
              <a:path w="1142" h="1018">
                <a:moveTo>
                  <a:pt x="11336" y="11261"/>
                </a:moveTo>
                <a:cubicBezTo>
                  <a:pt x="11302" y="11445"/>
                  <a:pt x="11246" y="11606"/>
                  <a:pt x="11336" y="11782"/>
                </a:cubicBezTo>
                <a:cubicBezTo>
                  <a:pt x="11379" y="11865"/>
                  <a:pt x="11478" y="11961"/>
                  <a:pt x="11559" y="12005"/>
                </a:cubicBezTo>
                <a:cubicBezTo>
                  <a:pt x="11642" y="12050"/>
                  <a:pt x="11751" y="12039"/>
                  <a:pt x="11832" y="12005"/>
                </a:cubicBezTo>
                <a:cubicBezTo>
                  <a:pt x="11908" y="11973"/>
                  <a:pt x="11998" y="11883"/>
                  <a:pt x="12030" y="11807"/>
                </a:cubicBezTo>
                <a:cubicBezTo>
                  <a:pt x="12068" y="11715"/>
                  <a:pt x="12119" y="11559"/>
                  <a:pt x="12105" y="11460"/>
                </a:cubicBezTo>
                <a:cubicBezTo>
                  <a:pt x="12089" y="11348"/>
                  <a:pt x="12032" y="11263"/>
                  <a:pt x="11931" y="11212"/>
                </a:cubicBezTo>
                <a:cubicBezTo>
                  <a:pt x="11824" y="11158"/>
                  <a:pt x="11697" y="11205"/>
                  <a:pt x="11584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85960" y="4749840"/>
            <a:ext cx="1081080" cy="385560"/>
          </a:xfrm>
          <a:custGeom>
            <a:avLst/>
            <a:gdLst/>
            <a:ahLst/>
            <a:rect l="l" t="t" r="r" b="b"/>
            <a:pathLst>
              <a:path w="3002" h="1068">
                <a:moveTo>
                  <a:pt x="4961" y="13419"/>
                </a:moveTo>
                <a:cubicBezTo>
                  <a:pt x="5038" y="13391"/>
                  <a:pt x="5100" y="13395"/>
                  <a:pt x="5184" y="13395"/>
                </a:cubicBezTo>
                <a:cubicBezTo>
                  <a:pt x="5225" y="13395"/>
                  <a:pt x="5267" y="13395"/>
                  <a:pt x="5308" y="13395"/>
                </a:cubicBezTo>
              </a:path>
              <a:path w="3002" h="1068">
                <a:moveTo>
                  <a:pt x="5035" y="13791"/>
                </a:moveTo>
                <a:cubicBezTo>
                  <a:pt x="5060" y="13880"/>
                  <a:pt x="5088" y="13866"/>
                  <a:pt x="5184" y="13866"/>
                </a:cubicBezTo>
                <a:cubicBezTo>
                  <a:pt x="5251" y="13866"/>
                  <a:pt x="5298" y="13843"/>
                  <a:pt x="5358" y="13816"/>
                </a:cubicBezTo>
              </a:path>
              <a:path w="3002" h="1068">
                <a:moveTo>
                  <a:pt x="5606" y="13246"/>
                </a:moveTo>
                <a:cubicBezTo>
                  <a:pt x="5777" y="13217"/>
                  <a:pt x="5888" y="13194"/>
                  <a:pt x="6028" y="13320"/>
                </a:cubicBezTo>
                <a:cubicBezTo>
                  <a:pt x="6080" y="13367"/>
                  <a:pt x="6131" y="13455"/>
                  <a:pt x="6077" y="13519"/>
                </a:cubicBezTo>
                <a:cubicBezTo>
                  <a:pt x="6049" y="13552"/>
                  <a:pt x="5958" y="13600"/>
                  <a:pt x="5928" y="13618"/>
                </a:cubicBezTo>
                <a:cubicBezTo>
                  <a:pt x="5878" y="13648"/>
                  <a:pt x="5877" y="13637"/>
                  <a:pt x="5829" y="13643"/>
                </a:cubicBezTo>
                <a:cubicBezTo>
                  <a:pt x="5885" y="13687"/>
                  <a:pt x="5946" y="13725"/>
                  <a:pt x="6003" y="13767"/>
                </a:cubicBezTo>
                <a:cubicBezTo>
                  <a:pt x="6091" y="13832"/>
                  <a:pt x="6157" y="13911"/>
                  <a:pt x="6201" y="14015"/>
                </a:cubicBezTo>
                <a:cubicBezTo>
                  <a:pt x="6246" y="14123"/>
                  <a:pt x="6226" y="14178"/>
                  <a:pt x="6127" y="14238"/>
                </a:cubicBezTo>
                <a:cubicBezTo>
                  <a:pt x="6027" y="14299"/>
                  <a:pt x="5924" y="14258"/>
                  <a:pt x="5829" y="14213"/>
                </a:cubicBezTo>
                <a:cubicBezTo>
                  <a:pt x="5749" y="14175"/>
                  <a:pt x="5762" y="14142"/>
                  <a:pt x="5755" y="14064"/>
                </a:cubicBezTo>
              </a:path>
              <a:path w="3002" h="1068">
                <a:moveTo>
                  <a:pt x="6697" y="13370"/>
                </a:moveTo>
                <a:cubicBezTo>
                  <a:pt x="6697" y="13493"/>
                  <a:pt x="6711" y="13600"/>
                  <a:pt x="6722" y="13717"/>
                </a:cubicBezTo>
                <a:cubicBezTo>
                  <a:pt x="6731" y="13811"/>
                  <a:pt x="6743" y="13902"/>
                  <a:pt x="6772" y="13990"/>
                </a:cubicBezTo>
                <a:cubicBezTo>
                  <a:pt x="6792" y="14030"/>
                  <a:pt x="6800" y="14037"/>
                  <a:pt x="6796" y="14064"/>
                </a:cubicBezTo>
              </a:path>
              <a:path w="3002" h="1068">
                <a:moveTo>
                  <a:pt x="6573" y="13742"/>
                </a:moveTo>
                <a:cubicBezTo>
                  <a:pt x="6719" y="13742"/>
                  <a:pt x="6849" y="13735"/>
                  <a:pt x="6995" y="13717"/>
                </a:cubicBezTo>
              </a:path>
              <a:path w="3002" h="1068">
                <a:moveTo>
                  <a:pt x="7640" y="13345"/>
                </a:moveTo>
                <a:cubicBezTo>
                  <a:pt x="7462" y="13310"/>
                  <a:pt x="7436" y="13250"/>
                  <a:pt x="7342" y="13320"/>
                </a:cubicBezTo>
                <a:cubicBezTo>
                  <a:pt x="7282" y="13420"/>
                  <a:pt x="7337" y="13462"/>
                  <a:pt x="7392" y="13568"/>
                </a:cubicBezTo>
                <a:cubicBezTo>
                  <a:pt x="7452" y="13685"/>
                  <a:pt x="7535" y="13796"/>
                  <a:pt x="7590" y="13915"/>
                </a:cubicBezTo>
                <a:cubicBezTo>
                  <a:pt x="7611" y="13961"/>
                  <a:pt x="7641" y="14088"/>
                  <a:pt x="7615" y="14139"/>
                </a:cubicBezTo>
                <a:cubicBezTo>
                  <a:pt x="7607" y="14147"/>
                  <a:pt x="7598" y="14155"/>
                  <a:pt x="7590" y="14163"/>
                </a:cubicBezTo>
                <a:cubicBezTo>
                  <a:pt x="7538" y="14156"/>
                  <a:pt x="7476" y="14139"/>
                  <a:pt x="7441" y="14089"/>
                </a:cubicBezTo>
                <a:cubicBezTo>
                  <a:pt x="7390" y="14017"/>
                  <a:pt x="7392" y="13950"/>
                  <a:pt x="7392" y="13866"/>
                </a:cubicBezTo>
                <a:cubicBezTo>
                  <a:pt x="7392" y="13775"/>
                  <a:pt x="7439" y="13690"/>
                  <a:pt x="7491" y="13618"/>
                </a:cubicBezTo>
                <a:cubicBezTo>
                  <a:pt x="7537" y="13554"/>
                  <a:pt x="7584" y="13520"/>
                  <a:pt x="7640" y="13469"/>
                </a:cubicBezTo>
                <a:cubicBezTo>
                  <a:pt x="7663" y="13446"/>
                  <a:pt x="7671" y="13442"/>
                  <a:pt x="7665" y="13419"/>
                </a:cubicBezTo>
              </a:path>
              <a:path w="3002" h="1068">
                <a:moveTo>
                  <a:pt x="7938" y="13667"/>
                </a:moveTo>
                <a:cubicBezTo>
                  <a:pt x="7946" y="13659"/>
                  <a:pt x="7954" y="13651"/>
                  <a:pt x="7962" y="136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36960" y="4786200"/>
            <a:ext cx="392040" cy="312840"/>
          </a:xfrm>
          <a:custGeom>
            <a:avLst/>
            <a:gdLst/>
            <a:ahLst/>
            <a:rect l="l" t="t" r="r" b="b"/>
            <a:pathLst>
              <a:path w="1092" h="869">
                <a:moveTo>
                  <a:pt x="8434" y="13295"/>
                </a:moveTo>
                <a:cubicBezTo>
                  <a:pt x="8451" y="13471"/>
                  <a:pt x="8458" y="13639"/>
                  <a:pt x="8458" y="13816"/>
                </a:cubicBezTo>
                <a:cubicBezTo>
                  <a:pt x="8458" y="13818"/>
                  <a:pt x="8457" y="14064"/>
                  <a:pt x="8483" y="14089"/>
                </a:cubicBezTo>
                <a:cubicBezTo>
                  <a:pt x="8516" y="14089"/>
                  <a:pt x="8525" y="14081"/>
                  <a:pt x="8508" y="14039"/>
                </a:cubicBezTo>
              </a:path>
              <a:path w="1092" h="869">
                <a:moveTo>
                  <a:pt x="8855" y="13395"/>
                </a:moveTo>
                <a:cubicBezTo>
                  <a:pt x="8815" y="13558"/>
                  <a:pt x="8791" y="13634"/>
                  <a:pt x="8830" y="13791"/>
                </a:cubicBezTo>
                <a:cubicBezTo>
                  <a:pt x="8858" y="13905"/>
                  <a:pt x="8934" y="14013"/>
                  <a:pt x="9029" y="14089"/>
                </a:cubicBezTo>
                <a:cubicBezTo>
                  <a:pt x="9106" y="14151"/>
                  <a:pt x="9173" y="14182"/>
                  <a:pt x="9277" y="14163"/>
                </a:cubicBezTo>
                <a:cubicBezTo>
                  <a:pt x="9378" y="14145"/>
                  <a:pt x="9499" y="14012"/>
                  <a:pt x="9525" y="13915"/>
                </a:cubicBezTo>
                <a:cubicBezTo>
                  <a:pt x="9550" y="13824"/>
                  <a:pt x="9523" y="13621"/>
                  <a:pt x="9475" y="13543"/>
                </a:cubicBezTo>
                <a:cubicBezTo>
                  <a:pt x="9404" y="13426"/>
                  <a:pt x="9277" y="13356"/>
                  <a:pt x="9153" y="13320"/>
                </a:cubicBezTo>
                <a:cubicBezTo>
                  <a:pt x="9120" y="13312"/>
                  <a:pt x="9087" y="13303"/>
                  <a:pt x="9054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11240" y="5295960"/>
            <a:ext cx="642960" cy="428400"/>
          </a:xfrm>
          <a:custGeom>
            <a:avLst/>
            <a:gdLst/>
            <a:ahLst/>
            <a:rect l="l" t="t" r="r" b="b"/>
            <a:pathLst>
              <a:path w="1787" h="1192">
                <a:moveTo>
                  <a:pt x="5308" y="14957"/>
                </a:moveTo>
                <a:cubicBezTo>
                  <a:pt x="5424" y="14957"/>
                  <a:pt x="5524" y="14964"/>
                  <a:pt x="5631" y="14982"/>
                </a:cubicBezTo>
                <a:cubicBezTo>
                  <a:pt x="5647" y="14982"/>
                  <a:pt x="5664" y="14982"/>
                  <a:pt x="5680" y="14982"/>
                </a:cubicBezTo>
              </a:path>
              <a:path w="1787" h="1192">
                <a:moveTo>
                  <a:pt x="5333" y="15304"/>
                </a:moveTo>
                <a:cubicBezTo>
                  <a:pt x="5417" y="15399"/>
                  <a:pt x="5436" y="15389"/>
                  <a:pt x="5556" y="15379"/>
                </a:cubicBezTo>
                <a:cubicBezTo>
                  <a:pt x="5632" y="15379"/>
                  <a:pt x="5658" y="15379"/>
                  <a:pt x="5705" y="15354"/>
                </a:cubicBezTo>
              </a:path>
              <a:path w="1787" h="1192">
                <a:moveTo>
                  <a:pt x="6548" y="14833"/>
                </a:moveTo>
                <a:cubicBezTo>
                  <a:pt x="6502" y="14740"/>
                  <a:pt x="6478" y="14725"/>
                  <a:pt x="6375" y="14709"/>
                </a:cubicBezTo>
                <a:cubicBezTo>
                  <a:pt x="6297" y="14697"/>
                  <a:pt x="6234" y="14706"/>
                  <a:pt x="6176" y="14759"/>
                </a:cubicBezTo>
                <a:cubicBezTo>
                  <a:pt x="6107" y="14823"/>
                  <a:pt x="6119" y="14901"/>
                  <a:pt x="6152" y="14982"/>
                </a:cubicBezTo>
                <a:cubicBezTo>
                  <a:pt x="6210" y="15125"/>
                  <a:pt x="6299" y="15258"/>
                  <a:pt x="6350" y="15404"/>
                </a:cubicBezTo>
                <a:cubicBezTo>
                  <a:pt x="6394" y="15529"/>
                  <a:pt x="6444" y="15643"/>
                  <a:pt x="6449" y="15776"/>
                </a:cubicBezTo>
                <a:cubicBezTo>
                  <a:pt x="6452" y="15868"/>
                  <a:pt x="6431" y="15853"/>
                  <a:pt x="6400" y="15900"/>
                </a:cubicBezTo>
                <a:cubicBezTo>
                  <a:pt x="6344" y="15856"/>
                  <a:pt x="6263" y="15816"/>
                  <a:pt x="6226" y="15751"/>
                </a:cubicBezTo>
                <a:cubicBezTo>
                  <a:pt x="6194" y="15695"/>
                  <a:pt x="6157" y="15595"/>
                  <a:pt x="6176" y="15528"/>
                </a:cubicBezTo>
                <a:cubicBezTo>
                  <a:pt x="6216" y="15384"/>
                  <a:pt x="6385" y="15254"/>
                  <a:pt x="6474" y="15131"/>
                </a:cubicBezTo>
              </a:path>
              <a:path w="1787" h="1192">
                <a:moveTo>
                  <a:pt x="6697" y="14734"/>
                </a:moveTo>
                <a:cubicBezTo>
                  <a:pt x="6805" y="14704"/>
                  <a:pt x="6841" y="14714"/>
                  <a:pt x="6945" y="14759"/>
                </a:cubicBezTo>
                <a:cubicBezTo>
                  <a:pt x="7024" y="14793"/>
                  <a:pt x="7068" y="14822"/>
                  <a:pt x="7094" y="14908"/>
                </a:cubicBezTo>
                <a:cubicBezTo>
                  <a:pt x="7114" y="14972"/>
                  <a:pt x="7069" y="15021"/>
                  <a:pt x="7020" y="15056"/>
                </a:cubicBezTo>
                <a:cubicBezTo>
                  <a:pt x="6971" y="15090"/>
                  <a:pt x="6895" y="15116"/>
                  <a:pt x="6846" y="15131"/>
                </a:cubicBezTo>
                <a:cubicBezTo>
                  <a:pt x="6802" y="15144"/>
                  <a:pt x="6811" y="15111"/>
                  <a:pt x="6796" y="15156"/>
                </a:cubicBezTo>
                <a:cubicBezTo>
                  <a:pt x="6864" y="15183"/>
                  <a:pt x="6898" y="15227"/>
                  <a:pt x="6945" y="15280"/>
                </a:cubicBezTo>
                <a:cubicBezTo>
                  <a:pt x="6997" y="15339"/>
                  <a:pt x="7079" y="15393"/>
                  <a:pt x="7094" y="15478"/>
                </a:cubicBezTo>
                <a:cubicBezTo>
                  <a:pt x="7106" y="15547"/>
                  <a:pt x="7098" y="15622"/>
                  <a:pt x="7069" y="15677"/>
                </a:cubicBezTo>
                <a:cubicBezTo>
                  <a:pt x="7035" y="15741"/>
                  <a:pt x="6991" y="15772"/>
                  <a:pt x="6921" y="15776"/>
                </a:cubicBezTo>
                <a:cubicBezTo>
                  <a:pt x="6861" y="15780"/>
                  <a:pt x="6774" y="15775"/>
                  <a:pt x="6722" y="15751"/>
                </a:cubicBezTo>
                <a:cubicBezTo>
                  <a:pt x="6673" y="15728"/>
                  <a:pt x="6622" y="15680"/>
                  <a:pt x="6573" y="156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35000" y="4438800"/>
            <a:ext cx="563760" cy="1320480"/>
          </a:xfrm>
          <a:custGeom>
            <a:avLst/>
            <a:gdLst/>
            <a:ahLst/>
            <a:rect l="l" t="t" r="r" b="b"/>
            <a:pathLst>
              <a:path w="1564" h="3672">
                <a:moveTo>
                  <a:pt x="3249" y="14784"/>
                </a:moveTo>
                <a:cubicBezTo>
                  <a:pt x="3228" y="14896"/>
                  <a:pt x="3199" y="15000"/>
                  <a:pt x="3175" y="15106"/>
                </a:cubicBezTo>
                <a:cubicBezTo>
                  <a:pt x="3175" y="15114"/>
                  <a:pt x="3175" y="15123"/>
                  <a:pt x="3175" y="15131"/>
                </a:cubicBezTo>
                <a:cubicBezTo>
                  <a:pt x="3175" y="14987"/>
                  <a:pt x="3189" y="14851"/>
                  <a:pt x="3200" y="14709"/>
                </a:cubicBezTo>
                <a:cubicBezTo>
                  <a:pt x="3213" y="14550"/>
                  <a:pt x="3238" y="14395"/>
                  <a:pt x="3274" y="14238"/>
                </a:cubicBezTo>
                <a:cubicBezTo>
                  <a:pt x="3300" y="14122"/>
                  <a:pt x="3354" y="14003"/>
                  <a:pt x="3398" y="13891"/>
                </a:cubicBezTo>
                <a:cubicBezTo>
                  <a:pt x="3422" y="13829"/>
                  <a:pt x="3442" y="13823"/>
                  <a:pt x="3497" y="13791"/>
                </a:cubicBezTo>
                <a:cubicBezTo>
                  <a:pt x="3529" y="13845"/>
                  <a:pt x="3552" y="13923"/>
                  <a:pt x="3572" y="13990"/>
                </a:cubicBezTo>
                <a:cubicBezTo>
                  <a:pt x="3615" y="14136"/>
                  <a:pt x="3628" y="14292"/>
                  <a:pt x="3671" y="14436"/>
                </a:cubicBezTo>
                <a:cubicBezTo>
                  <a:pt x="3724" y="14611"/>
                  <a:pt x="3804" y="14787"/>
                  <a:pt x="3870" y="14957"/>
                </a:cubicBezTo>
                <a:cubicBezTo>
                  <a:pt x="3907" y="15051"/>
                  <a:pt x="3986" y="15140"/>
                  <a:pt x="4018" y="15230"/>
                </a:cubicBezTo>
                <a:cubicBezTo>
                  <a:pt x="4061" y="15350"/>
                  <a:pt x="4000" y="15196"/>
                  <a:pt x="3994" y="15180"/>
                </a:cubicBezTo>
              </a:path>
              <a:path w="1564" h="3672">
                <a:moveTo>
                  <a:pt x="3473" y="14660"/>
                </a:moveTo>
                <a:cubicBezTo>
                  <a:pt x="3564" y="14675"/>
                  <a:pt x="3654" y="14688"/>
                  <a:pt x="3746" y="14709"/>
                </a:cubicBezTo>
                <a:cubicBezTo>
                  <a:pt x="3845" y="14732"/>
                  <a:pt x="3944" y="14759"/>
                  <a:pt x="4043" y="14784"/>
                </a:cubicBezTo>
              </a:path>
              <a:path w="1564" h="3672">
                <a:moveTo>
                  <a:pt x="4316" y="14908"/>
                </a:moveTo>
                <a:cubicBezTo>
                  <a:pt x="4266" y="15006"/>
                  <a:pt x="4211" y="15028"/>
                  <a:pt x="4142" y="15106"/>
                </a:cubicBezTo>
                <a:cubicBezTo>
                  <a:pt x="4090" y="15165"/>
                  <a:pt x="4051" y="15267"/>
                  <a:pt x="4093" y="15329"/>
                </a:cubicBezTo>
                <a:cubicBezTo>
                  <a:pt x="4130" y="15384"/>
                  <a:pt x="4167" y="15394"/>
                  <a:pt x="4217" y="15354"/>
                </a:cubicBezTo>
                <a:cubicBezTo>
                  <a:pt x="4267" y="15314"/>
                  <a:pt x="4283" y="15297"/>
                  <a:pt x="4316" y="15230"/>
                </a:cubicBezTo>
                <a:cubicBezTo>
                  <a:pt x="4338" y="15187"/>
                  <a:pt x="4358" y="15142"/>
                  <a:pt x="4390" y="15131"/>
                </a:cubicBezTo>
                <a:cubicBezTo>
                  <a:pt x="4378" y="15230"/>
                  <a:pt x="4366" y="15324"/>
                  <a:pt x="4366" y="15429"/>
                </a:cubicBezTo>
                <a:cubicBezTo>
                  <a:pt x="4366" y="15596"/>
                  <a:pt x="4395" y="15737"/>
                  <a:pt x="4415" y="15900"/>
                </a:cubicBezTo>
                <a:cubicBezTo>
                  <a:pt x="4424" y="15971"/>
                  <a:pt x="4391" y="15983"/>
                  <a:pt x="4440" y="15999"/>
                </a:cubicBezTo>
              </a:path>
              <a:path w="1564" h="3672">
                <a:moveTo>
                  <a:pt x="2877" y="13271"/>
                </a:moveTo>
                <a:cubicBezTo>
                  <a:pt x="2877" y="13304"/>
                  <a:pt x="2877" y="13337"/>
                  <a:pt x="2877" y="13370"/>
                </a:cubicBezTo>
                <a:cubicBezTo>
                  <a:pt x="2877" y="13295"/>
                  <a:pt x="2877" y="13271"/>
                  <a:pt x="2877" y="13196"/>
                </a:cubicBezTo>
                <a:cubicBezTo>
                  <a:pt x="2877" y="13008"/>
                  <a:pt x="2896" y="12810"/>
                  <a:pt x="2927" y="12626"/>
                </a:cubicBezTo>
                <a:cubicBezTo>
                  <a:pt x="2944" y="12524"/>
                  <a:pt x="2997" y="12448"/>
                  <a:pt x="3026" y="12353"/>
                </a:cubicBezTo>
                <a:cubicBezTo>
                  <a:pt x="3026" y="12345"/>
                  <a:pt x="3026" y="12336"/>
                  <a:pt x="3026" y="12328"/>
                </a:cubicBezTo>
                <a:cubicBezTo>
                  <a:pt x="3093" y="12356"/>
                  <a:pt x="3056" y="12316"/>
                  <a:pt x="3101" y="12402"/>
                </a:cubicBezTo>
                <a:cubicBezTo>
                  <a:pt x="3168" y="12531"/>
                  <a:pt x="3213" y="12715"/>
                  <a:pt x="3249" y="12849"/>
                </a:cubicBezTo>
                <a:cubicBezTo>
                  <a:pt x="3288" y="12996"/>
                  <a:pt x="3331" y="13158"/>
                  <a:pt x="3398" y="13295"/>
                </a:cubicBezTo>
                <a:cubicBezTo>
                  <a:pt x="3416" y="13333"/>
                  <a:pt x="3503" y="13451"/>
                  <a:pt x="3497" y="13494"/>
                </a:cubicBezTo>
                <a:cubicBezTo>
                  <a:pt x="3489" y="13494"/>
                  <a:pt x="3481" y="13494"/>
                  <a:pt x="3473" y="13494"/>
                </a:cubicBezTo>
              </a:path>
              <a:path w="1564" h="3672">
                <a:moveTo>
                  <a:pt x="2977" y="13146"/>
                </a:moveTo>
                <a:cubicBezTo>
                  <a:pt x="2943" y="13098"/>
                  <a:pt x="3013" y="13098"/>
                  <a:pt x="3076" y="13097"/>
                </a:cubicBezTo>
                <a:cubicBezTo>
                  <a:pt x="3134" y="13097"/>
                  <a:pt x="3191" y="13097"/>
                  <a:pt x="3249" y="13097"/>
                </a:cubicBezTo>
              </a:path>
              <a:path w="1564" h="3672">
                <a:moveTo>
                  <a:pt x="3820" y="13146"/>
                </a:moveTo>
                <a:cubicBezTo>
                  <a:pt x="3803" y="13215"/>
                  <a:pt x="3762" y="13274"/>
                  <a:pt x="3696" y="13320"/>
                </a:cubicBezTo>
                <a:cubicBezTo>
                  <a:pt x="3639" y="13360"/>
                  <a:pt x="3621" y="13373"/>
                  <a:pt x="3621" y="13444"/>
                </a:cubicBezTo>
                <a:cubicBezTo>
                  <a:pt x="3671" y="13414"/>
                  <a:pt x="3718" y="13409"/>
                  <a:pt x="3770" y="13370"/>
                </a:cubicBezTo>
                <a:cubicBezTo>
                  <a:pt x="3815" y="13336"/>
                  <a:pt x="3868" y="13281"/>
                  <a:pt x="3919" y="13271"/>
                </a:cubicBezTo>
                <a:cubicBezTo>
                  <a:pt x="3927" y="13271"/>
                  <a:pt x="3936" y="13271"/>
                  <a:pt x="3944" y="13271"/>
                </a:cubicBezTo>
                <a:cubicBezTo>
                  <a:pt x="4009" y="13377"/>
                  <a:pt x="3996" y="13567"/>
                  <a:pt x="4018" y="13692"/>
                </a:cubicBezTo>
                <a:cubicBezTo>
                  <a:pt x="4036" y="13795"/>
                  <a:pt x="4043" y="13886"/>
                  <a:pt x="4043" y="139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9:00Z</dcterms:created>
  <dc:creator>jnewman</dc:creator>
  <dc:description/>
  <dc:language>en-US</dc:language>
  <cp:lastModifiedBy>abeason</cp:lastModifiedBy>
  <dcterms:modified xsi:type="dcterms:W3CDTF">2009-03-16T17:29:51Z</dcterms:modified>
  <cp:revision>10</cp:revision>
  <dc:subject/>
  <dc:title>Lesson 9.2</dc:title>
</cp:coreProperties>
</file>